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0288588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EBAA-070B-4579-B93D-14CF34C4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25B4-EB7F-448D-A88F-381CC002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CAA0-75B6-440F-A73B-083F7BB0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DAC6-F2E4-475A-8E3C-12BFBFC69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7681-6B5A-4E34-BF89-FDD26E20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1065-3626-41A5-93AE-A6939354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09DC-954F-48FA-8D97-121A635F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FBBA-28B3-42F6-91D4-8A84604D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5911-9E8E-416B-9F5B-CCE0168E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7EA7-F0C5-4914-B81C-6084CFAE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D632-B3F1-4A89-9FA3-CE9355FB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87EB-E9BE-429F-849A-B5D76EE4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202A-83A9-4E07-99FC-C45D652AA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8743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INTRODUZIONE A</a:t>
            </a:r>
            <a:br>
              <a:rPr sz="3600"/>
            </a:b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30120" y="228600"/>
            <a:ext cx="586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OLITECNICO DI MIL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acoltà di Ingegn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ipartimento di Elettronica e Inform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18640" y="6035760"/>
            <a:ext cx="3303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rso di Automa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rof. Sergi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ITT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oli" descr=""/>
          <p:cNvPicPr/>
          <p:nvPr/>
        </p:nvPicPr>
        <p:blipFill>
          <a:blip r:embed="rId1"/>
          <a:stretch/>
        </p:blipFill>
        <p:spPr>
          <a:xfrm>
            <a:off x="1219320" y="0"/>
            <a:ext cx="1504800" cy="148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00280" y="0"/>
            <a:ext cx="874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UNZIONI ELEMENTARI PER SCAL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00280" y="1001880"/>
            <a:ext cx="874368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ltre costanti predefini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igre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f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fin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NaN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Not a Number (generata da 0/0, o Inf/In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00280" y="0"/>
            <a:ext cx="874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UNZIONI ELEMENTARI PER MATR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0280" y="1001880"/>
            <a:ext cx="874368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Gli operatori elementari sono: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+ , - , * , / , \ , .*, ./, .^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'operazione di somma o di sottrazione è definita tra matrici aventi le stesse dimensioni. Se uno dei due operandi è uno scalare, esso viene sommato o sottratto a tutti gli elementi della matri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X = B/A è la soluzione dell'equazione X*A =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X = A\ B è la soluzione dell'equazione A*X =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*, ./ e .^ effettuano le corrispondenti operazioni sui singoli elementi delle matrici coinvol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e funzioni matematiche elementari e trigonometriche, quando applicate alle matrici, si riferiscono ai singoli elementi della mat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incipali operazioni matricial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atrice trasposta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atrice inversa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v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00280" y="0"/>
            <a:ext cx="874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UNZIONI ELEMENTARI PER MATR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0280" y="1001880"/>
            <a:ext cx="874368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eterminante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et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utovalor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ig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olinomio caratteristic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oly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ang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ank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imension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ize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00280" y="0"/>
            <a:ext cx="874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OLINO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3040" y="1001880"/>
            <a:ext cx="874404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n polinomio è rappresentato da un vettore riga che ne contiene i coefficienti in ordine decrescente delle potenze del polinomio medesimo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l polinomio 3s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+ 2s + 8 si rappresenta co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r ottenere gli zeri di un polinom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r valutare un polinomio in un pun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72080" y="5029200"/>
            <a:ext cx="27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polyval(pol,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ans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72080" y="32767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roots(po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ans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0.6136 + 1.3403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0.6136 - 1.3403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-1.22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72080" y="2004840"/>
            <a:ext cx="27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pol = [3 0 2 8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ol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3     0     2    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00280" y="0"/>
            <a:ext cx="874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VISUALIZZAZIONE GRAF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3040" y="1001880"/>
            <a:ext cx="874404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funzione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plot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oduce grafici bidimensionali e può essere chiamata con diverse modalit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' possibile rappresentare sullo stesso grafico più curve, impostare una griglia, impostare delle etichette per gli assi, ecc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semp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ltre funzioni che consentono la visualizzazione di grafici 2-D, so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oglog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grafico logaritmico in x e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emilogx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grafico logaritmico in x e lineare in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emilogy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grafico logaritmico in y e lineare in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2819520"/>
            <a:ext cx="8001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Tempo = [-30:0.1:3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Tau = -5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y = exp(Tempo/Tau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z =300*sin(Tempo*pi/4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plot(Tempo,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plot(Tempo,y,'r',Tempo,z,'y'),grid,title('ESERCIZIO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plot(Tempo,y,'r',Tempo,z,'y:'),grid,title('ESERCIZIO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00280" y="0"/>
            <a:ext cx="874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VISUALIZZAZIONE GRAF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3040" y="1001880"/>
            <a:ext cx="874404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bar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grafico a bar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tairs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grafico a sca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esh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grafico 3D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ltre funzioni di utilità so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itle, xlabel, ylabel, 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xis, hold, clf, shg, subp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00280" y="0"/>
            <a:ext cx="874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LCUNE ISTRUZIONI DI USO COM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3040" y="1001880"/>
            <a:ext cx="874404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help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ichiama l’help in li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help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comando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visualizza l’help relativo al comando indic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who/who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lencano le variabili in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ir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lenca i files contenuti nel direttorio corr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lear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limina tutte le variabili della sessione corr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lear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var1 var2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limina le variabili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var1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va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14440" y="0"/>
            <a:ext cx="931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LCUNE ISTRUZIONI PER APPLICAZIONI DI CONT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3040" y="838080"/>
            <a:ext cx="8744040" cy="51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mpulse (num, den, t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alcola la risposta all’impulso del sistema la cui funzione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i trasferimento è descritta dai polinom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de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è il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vettore che definisce il t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tep (num, den, t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alcola la risposta allo scalino del sistema la cui funzione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i trasferimento è descritta dai polinom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de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è il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vettore che definisce il t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sim (num, den, u, t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alcola la risposta del sistema la cui funzione di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rasferimento è descritta dai polinom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den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ll’ingress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è il vettore che definisce il t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bode (num, den, w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alcola modulo e fase della funzione di trasferimento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escritta dai polinom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de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in corrispondenza delle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ulsazioni specificate dal vettore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bode (num, den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visualizza automaticamente il diagramma di modulo e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ase della funzione di trasferimento descritta dai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olinom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14440" y="0"/>
            <a:ext cx="931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LCUNE ISTRUZIONI PER APPLICAZIONI DI CONT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3040" y="838080"/>
            <a:ext cx="8744040" cy="51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yquist (num, den, w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raccia il diagramma di Nyquist della funzione di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rasferimento descritta dai polinom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de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rrispondenza delle pulsazioni specificate dal vettore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locus (num, den, k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raccia il luogo delle radici della funzione di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rasferimento descritta dai polinom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de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appresenta il vettore dei guadag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locus (num, den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raccia il luogo delle radici della funzione di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rasferimento descritta dai polinom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de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tilizzando un vettore dei guadagni determinato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utomatic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3520" y="0"/>
            <a:ext cx="9315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LCUNE NOTE SUL TRACCIAMENTO DEI DIAGRAMMI DI BODE E NYQU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3040" y="990720"/>
            <a:ext cx="874404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l vettore delle pulsazion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può essere definito mediante il comand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og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ogspace (wmin, wmax, N)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efinisce un vettore di pulsazioni tra wmin e wmax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stituito da N pu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[m, f] = bode (num, den, w) restituisce i vettori del modulo e della fase della funzione di trasferimento in scala lineare. Prima di tracciare il diagramma di Bode il vettore m deve essere quindi convertito in d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r il tracciamento dei diagrammi di Bode di modulo e fase in scala semilogaritmica si utilizza la funzion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emilog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74800" y="4267080"/>
            <a:ext cx="6743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num = [1 2]; den = [1 2 5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w = logspace(-1,2,1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[m,f] = bode(num,den,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m = 20*log10(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semilogx(w,m),grid, title(‘Diagramma del modulo’), xlabel(‘w’),ylabel(‘mod’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semilogx(w,f),grid, title(‘Diagramma della fasa’), xlabel(‘w’),ylabel(‘fase’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71120" y="0"/>
            <a:ext cx="874404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ORGANIZZAZIONE DELLA PRESEN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00280" y="1318680"/>
            <a:ext cx="87436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TRODUZIONE A MAT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EFINIZIONE DI VARIABILI, MATRICI E VETTOR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UNZIONI ELEMENTARI PER SCALARI E MATR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OLINO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VISUALIZZAZIONE DI GRAF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OTE GENERALI SU MATLAB (help, istruzione di ambiente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LCUNE ISTRUZIONI PER APPLICAZIONI DI CONT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N ESEMPIO CONCLU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800280" y="0"/>
            <a:ext cx="874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3040" y="1001880"/>
            <a:ext cx="874404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 consideri il sistema descritto in figura, in cui la mass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è collegata alla parete da una molla di costante elastic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K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da uno smorzatore con coefficiente di attrito viscos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K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’equazione che lega la forz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(t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applicata alla mass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la posizion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y(t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ella mass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massa" descr=""/>
          <p:cNvPicPr/>
          <p:nvPr/>
        </p:nvPicPr>
        <p:blipFill>
          <a:blip r:embed="rId1"/>
          <a:stretch/>
        </p:blipFill>
        <p:spPr>
          <a:xfrm>
            <a:off x="2743200" y="2209680"/>
            <a:ext cx="4876920" cy="238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5157000" y="2955960"/>
            <a:ext cx="631800" cy="70344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39440" y="2895480"/>
            <a:ext cx="349920" cy="45972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4120" y="2362320"/>
            <a:ext cx="519120" cy="45972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54120" y="3124080"/>
            <a:ext cx="519120" cy="45972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K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97520" y="4038480"/>
            <a:ext cx="316440" cy="45972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eq" descr=""/>
          <p:cNvPicPr/>
          <p:nvPr/>
        </p:nvPicPr>
        <p:blipFill>
          <a:blip r:embed="rId2"/>
          <a:stretch/>
        </p:blipFill>
        <p:spPr>
          <a:xfrm>
            <a:off x="3657600" y="5410080"/>
            <a:ext cx="3038400" cy="43812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00280" y="0"/>
            <a:ext cx="874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3040" y="1001880"/>
            <a:ext cx="874404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funzione di trasferimento che lega la forz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allo sposta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ella mass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è quin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an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= 10 Kg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K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= 0,1 N/m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K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= 0.05 Ns/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Vediamo ora come si possa utilizzare Matlab per ricavare i diagrammi di Bode e Nyquist della funzione di trasferimento, e la risposta all’impulso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eq1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2981160" cy="76212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00280" y="0"/>
            <a:ext cx="874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SEMPIO - Implementazione MA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74800" y="1143000"/>
            <a:ext cx="67431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% Definizione della funzione di trasferi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num = 1; den = [10 0.05 0.1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% Tracciamento del diagramma di Bode di modulo e f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w = logspace(-2,0,10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[m,f] = bode(num,den,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m = 20*log10(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semilogx(w,m),grid, title(‘Diagramma del modulo’), xlabel(‘w’),ylabel(‘mod’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semilogx(w,f),grid, title(‘Diagramma della fase’), xlabel(‘w’),ylabel(‘fase’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% Tracciamento del diagramma di Nyqu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nyquist(num,den,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% Tracciamento della risposta all’impulso del 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t = 0:0.1:100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y = impulse(num,den,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plot(t,y),grid, title(‘Risposta impulsiva del sistema’), xlabel(‘t’),ylabel(‘y’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00280" y="0"/>
            <a:ext cx="874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SEMPIO - Diagramma di B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Image1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7634160" cy="573228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00280" y="0"/>
            <a:ext cx="874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SEMPIO - Diagramma di Nyqu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Image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34520" cy="573228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00280" y="0"/>
            <a:ext cx="874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SEMPIO - Risposta all’im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Image3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7634160" cy="573228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71480" y="0"/>
            <a:ext cx="8744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TRODUZIONE A MA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0280" y="1319040"/>
            <a:ext cx="874368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ATLAB (MATrix LABoratory) è un linguaggio di programmazione per applicazioni scientifiche (elaborazione numerica dei segnali, progetto di simulatori, sintesi di sistemi di controllo, ec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ATLAB è un interprete di comandi. I comandi possono essere forniti interattivamente o contenuti in files su disco (M-fi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mprende un vasto set di funzioni predefinite e numerose librerie (toolbox) per svariate applic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e potenzialità di MATLAB possono essere facilmente estese (è semplice creare nuovi toolbox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' possibile convertire un programma MATLAB in codice C e C++ in modo automa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00280" y="0"/>
            <a:ext cx="874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VARIABILI E ESPRESS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0280" y="1001880"/>
            <a:ext cx="874368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ll'avvio di MATLAB appare il prompt "»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Vi sono due tipi di istruzion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ssegnamenti  “»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variabile = espression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valutazione di espressioni  “»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espression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valutazione di un'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espressione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genera una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tric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che viene assegnata all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variabil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indicata. Quando nell'istruzione non si specifica l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variabil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a cui assegnare il risultato, la valutazione dell'espressione viene assegnata alla variabile di sistema “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an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e un’espressione non termina con “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;”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il risultato della sua valutazione viene mostrato anche sullo scherm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00280" y="0"/>
            <a:ext cx="874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VARIABILI E ESPRESS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0280" y="1001880"/>
            <a:ext cx="874368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semp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 MATLAB le variabili non devono essere dichiarate. La dichiarazione coincide con il primo assegna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ATLAB è case-sens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29080" y="129528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8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ans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a = 5*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a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1295280"/>
            <a:ext cx="1714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b = 6+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b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00280" y="0"/>
            <a:ext cx="874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EFINIZIONE DI MATR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0280" y="914400"/>
            <a:ext cx="874368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na matrice può essere definita con la sintassi seguent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no spazio o una virgola delimitano gli elementi di un stessa ri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n punto e virgola o un cambio di riga indicano la fine di una ri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ono presenti funzioni predefinite per la generazione di particolari matri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zeros(n,m)”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atrice di z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ones(n,m)”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atrice di u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ye(n,m)”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atrice ident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and(n,m)”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atrice di numeri casu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iag([a11, a22, a33, ..., aNN])”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atrice diag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1295280"/>
            <a:ext cx="2971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A = [7 8; 8.9 7; 9 8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A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7.0000    8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8.9000    7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9.0000    8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72200" y="1295280"/>
            <a:ext cx="3086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B = [1 2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4 5 6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B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1     2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4     5    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00280" y="914400"/>
            <a:ext cx="874368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r accedere agli elementi di una matri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(n,m)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strae l’elemento (n,m) della matric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(n,:)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strae l’n-esima riga della matric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(:,m)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strae l’m-esima colonna della matric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0280" y="0"/>
            <a:ext cx="874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EFINIZIONE DI MATR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1600200"/>
            <a:ext cx="2971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A = [7 8; 8.9 7; 9 8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A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7.0000    8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8.9000    7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9.0000    8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A(1,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ans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40120" y="1600200"/>
            <a:ext cx="17049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A(2,: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ans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8.9000    7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A(: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ans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7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8.9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9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00280" y="0"/>
            <a:ext cx="874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EFINIZIONE DI VET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00280" y="838080"/>
            <a:ext cx="8743680" cy="51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n vettore può essere creato con la stessa sintassi utilizzata per le matrici oppure con le istruzion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 : [step :] b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rea un vettore riga di estremi a e b. Il parametro opzional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tep indica l’intervallo tra ciascun elemento del vet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inspace(a,b,N)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rea un vettore riga di estremi a e b, costituito da N punti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quispazi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1600200"/>
            <a:ext cx="41907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x = 1: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x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1     2     3     4     5    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x = 0.5:0.1: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x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0.5000    0.6000    0.7000    0.8000    0.9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x = linspace(-1,1,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x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-1.0000   -0.3333    0.3333    1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00280" y="0"/>
            <a:ext cx="874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UNZIONI ELEMENTARI PER SCAL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00280" y="1001880"/>
            <a:ext cx="874368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Gli operatori aritmetici presenti in MATLAB sono: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+ (somma) , - (differenza), * (prodotto), / (quoziente), ^ (elevamento a potenz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unzioni matematiche elementar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bs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valore assoluto di un numero compl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ngl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fase di un numero compl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nj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mplesso coniuga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xp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sponenziale in base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eal, imag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arte reale e parte immaginaria di un numero compl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og, log10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ogaritmo naturale ed in base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qrt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adice quadr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unzioni trigonometr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in, cos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eno, cos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an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ang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sin, acos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rco seno, arco cos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tan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rco tang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e variabili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sono predefinite uguali alla radice quadrata di 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5T10:15:51Z</dcterms:created>
  <dc:creator>Enrico Valtolina</dc:creator>
  <dc:description/>
  <cp:keywords>MATLAB - SIMULINK</cp:keywords>
  <dc:language>en-US</dc:language>
  <cp:lastModifiedBy>canevese</cp:lastModifiedBy>
  <cp:lastPrinted>1999-05-12T07:47:48Z</cp:lastPrinted>
  <dcterms:modified xsi:type="dcterms:W3CDTF">2003-11-27T09:09:43Z</dcterms:modified>
  <cp:revision>112</cp:revision>
  <dc:subject>Seminario EMIT</dc:subject>
  <dc:title>NOTE INTRODUTTIVE A MATLAB E SIMULIN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WINDOWS\DESKTOP\bittanti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