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BF9-9457-4600-9305-7D807C13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A13-75FB-4BD9-9BF5-6730879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32A-833C-4C52-BDCA-4B0F2A07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B3E-1FE2-44AE-9698-461C3DCB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50F-6897-4A53-BA57-2A70954D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924-6FA9-4885-86B9-C3A2CF82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F1B-3F86-468B-B9A3-1A6C4ED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29F-C0E8-4CCC-8FEE-33F56F3D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8BF-C8C8-4456-BEA0-4F9B55EE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8DE-CE4A-45BB-AB79-8348924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543-DA56-4BCF-A725-4B38138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7EA-2F30-4F8F-A96B-67E7C8C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74BA-554E-4CE3-A874-CFA795336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8743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TRODUZIONE A</a:t>
            </a:r>
            <a:br>
              <a:rPr sz="36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30120" y="228600"/>
            <a:ext cx="586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LITECNICO DI MIL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acoltà di Ingegn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partimento di Elettronica e 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18640" y="6035760"/>
            <a:ext cx="3303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rso di Auto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f. Sergi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ITT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oli" descr=""/>
          <p:cNvPicPr/>
          <p:nvPr/>
        </p:nvPicPr>
        <p:blipFill>
          <a:blip r:embed="rId1"/>
          <a:stretch/>
        </p:blipFill>
        <p:spPr>
          <a:xfrm>
            <a:off x="1219320" y="0"/>
            <a:ext cx="1504800" cy="14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SCA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e costanti predefin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gre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in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a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t a Number (generata da 0/0, o Inf/In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operatori elementari sono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, - , * , / , \ , .*, ./, .^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'operazione di somma o di sottrazione è definita tra matrici aventi le stesse dimensioni. Se uno dei due operandi è uno scalare, esso viene sommato o sottratto a tutti gli elementi della matr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X = B/A è la soluzione dell'equazione X*A =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X = A\ B è la soluzione dell'equazione A*X =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*, ./ e .^ effettuano le corrispondenti operazioni sui singoli elementi delle matrici coinvol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funzioni matematiche elementari e trigonometriche, quando applicate alle matrici, si riferiscono ai singoli elementi della mat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ncipali operazioni matricia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traspos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invers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v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terminante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t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utovalor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ig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linomio caratterist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ly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g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k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mension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ze(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OLIN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polinomio è rappresentato da un vettore riga che ne contiene i coefficienti in ordine decrescente delle potenze del polinomio medesimo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olinomio 3s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2s + 8 si rappresenta co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gli zeri di un polinom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valutare un polinomio in un pu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72080" y="50292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olyval(pol,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2080" y="32767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roots(p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6136 + 1.340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6136 - 1.340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1.22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72080" y="200484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ol = [3 0 2 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ol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3     0     2    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SUALIZZAZIONE GRA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unzione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lot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duce grafici bidimensionali e può essere chiamata con diverse modal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' possibile rappresentare sullo stesso grafico più curve, impostare una griglia, impostare delle etichette per gli assi, ec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e funzioni che consentono la visualizzazione di grafici 2-D,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lo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logaritmico in x 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milogx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logaritmico in x e lineare in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milogy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logaritmico in y e lineare in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81952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Tempo = [-30:0.1:3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Tau = -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y = exp(Tempo/Ta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z =300*sin(Tempo*pi/4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empo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empo,y,'r',Tempo,z,'y'),grid,title('ESERCIZIO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empo,y,'r',Tempo,z,'y:'),grid,title('ESERCIZIO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SUALIZZAZIONE GRAF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ar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a bar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air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a 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es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rafico 3D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e funzioni di utilità s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itle, xlabel, ylabel, 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xis, hold, clf, shg, subp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ISTRUZIONI DI USO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hiama l’help in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elp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mando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isualizza l’help relativo al comando indi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who/who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encano le variabili i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enca i files contenuti nel direttorio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imina tutte le variabili della sessione cor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1 var2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limina le variabili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14440" y="0"/>
            <a:ext cx="931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ISTRUZIONI PER APPLICAZIONI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3040" y="838080"/>
            <a:ext cx="874404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ulse (num, den, 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risposta all’impulso del sistema la cui funz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trasferimento è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ttore che definisc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ep (num, den, 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risposta allo scalino del sistema la cui funz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trasferimento è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ttore che definisc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sim (num, den, u, 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la risposta del sistema la cui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è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’ingress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il vettore che definisce il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ode (num, den, w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lcola modulo e fase della funzione di trasferimento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corrispondenza dell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lsazioni specificate dal vettore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ode (num, den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sualizza automaticamente il diagramma di modulo 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se della funzione di trasferimento descritta da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4440" y="0"/>
            <a:ext cx="931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ISTRUZIONI PER APPLICAZIONI DI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838080"/>
            <a:ext cx="874404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yquist (num, den, w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ccia il diagramma di Nyquist della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rispondenza delle pulsazioni specificate dal vettore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locus (num, den, k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ccia il luogo delle radici della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ppresenta il vettore dei guadag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locus (num, den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ccia il luogo delle radici della funzione d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rasferimento descritta dai polinom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de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ando un vettore dei guadagni determinat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tomat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0"/>
            <a:ext cx="9315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CUNE NOTE SUL TRACCIAMENTO DEI DIAGRAMMI DI BODE E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3040" y="99072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vettore delle pulsazion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uò essere definito mediante il comand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log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space (wmin, wmax, N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finisce un vettore di pulsazioni tra wmin e wmax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stituito da N p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m, f] = bode (num, den, w) restituisce i vettori del modulo e della fase della funzione di trasferimento in scala lineare. Prima di tracciare il diagramma di Bode il vettore m deve essere quindi convertito in 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il tracciamento dei diagrammi di Bode di modulo e fase in scala semilogaritmica si utilizza la funzion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emilog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4800" y="4267080"/>
            <a:ext cx="6743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num = [1 2]; den = [1 2 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w = logspace(-1,2,1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[m,f] = bode(num,den,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m = 20*log10(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m),grid, title(‘Diagramma del modulo’), xlabel(‘w’),ylabel(‘mod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f),grid, title(‘Diagramma della fasa’), xlabel(‘w’),ylabel(‘fase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1120" y="0"/>
            <a:ext cx="8744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GANIZZAZIONE DELLA PRES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1318680"/>
            <a:ext cx="8743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RODUZIONE A 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FINIZIONE DI VARIABILI, MATRICI E VETT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ELEMENTARI PER SCALARI E MATR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INO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SUALIZZAZIONE DI GRAF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TE GENERALI SU MATLAB (help, istruzione di ambient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CUNE ISTRUZIONI PER APPLICAZIONI DI CONT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ESEMPIO CONCLU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consideri il sistema descritto in figura, in cui 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collegata alla parete da una molla di costante elast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a uno smorzatore con coefficiente di attrito viscos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quazione che lega la forz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(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pplicata al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la posizion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(t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assa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4876920" cy="23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157000" y="2955960"/>
            <a:ext cx="631800" cy="70344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39440" y="2895480"/>
            <a:ext cx="34992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4120" y="2362320"/>
            <a:ext cx="51912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4120" y="3124080"/>
            <a:ext cx="51912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97520" y="4038480"/>
            <a:ext cx="316440" cy="45972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eq" descr=""/>
          <p:cNvPicPr/>
          <p:nvPr/>
        </p:nvPicPr>
        <p:blipFill>
          <a:blip r:embed="rId2"/>
          <a:stretch/>
        </p:blipFill>
        <p:spPr>
          <a:xfrm>
            <a:off x="3657600" y="5410080"/>
            <a:ext cx="3038400" cy="43812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040" y="1001880"/>
            <a:ext cx="874404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unzione di trasferimento che lega la forz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llo sposta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lla mass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qui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a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10 Kg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0,1 N/m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0.05 Ns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ediamo ora come si possa utilizzare Matlab per ricavare i diagrammi di Bode e Nyquist della funzione di trasferimento, e la risposta all’impuls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eq1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981160" cy="76212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Implementazion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74800" y="1143000"/>
            <a:ext cx="6743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Definizione della funzione di tras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num = 1; den = [10 0.05 0.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Tracciamento del diagramma di Bode di modulo e 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w = logspace(-2,0,10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[m,f] = bode(num,den,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m = 20*log10(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m),grid, title(‘Diagramma del modulo’), xlabel(‘w’),ylabel(‘mod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semilogx(w,f),grid, title(‘Diagramma della fase’), xlabel(‘w’),ylabel(‘fase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Tracciamento del diagramma di Nyqu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nyquist(num,den,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% Tracciamento della risposta all’impulso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t = 0:0.1:10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y = impulse(num,den,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plot(t,y),grid, title(‘Risposta impulsiva del sistema’), xlabel(‘t’),ylabel(‘y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Diagramma di B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Image1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34160" cy="57322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Diagramma di Nyqu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Image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34520" cy="573228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- Risposta all’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age3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634160" cy="573228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71480" y="0"/>
            <a:ext cx="874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RODUZIONE A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1319040"/>
            <a:ext cx="874368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LAB (MATrix LABoratory) è un linguaggio di programmazione per applicazioni scientifiche (elaborazione numerica dei segnali, progetto di simulatori, sintesi di sistemi di controllo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LAB è un interprete di comandi. I comandi possono essere forniti interattivamente o contenuti in files su disco (M-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rende un vasto set di funzioni predefinite e numerose librerie (toolbox) per svariate applic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potenzialità di MATLAB possono essere facilmente estese (è semplice creare nuovi toolbo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' possibile convertire un programma MATLAB in codice C e C++ in modo auto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BILI E ESPRE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l'avvio di MATLAB appare il prompt "»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i sono due tipi di istru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segnamenti  “»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variabile = espressi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utazione di espressioni  “»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espression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valutazione di un'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spression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nera un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che viene assegnata a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aria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ndicata. Quando nell'istruzione non si specifica 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ariabi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a cui assegnare il risultato, la valutazione dell'espressione viene assegnata alla variabile di sistema “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an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un’espressione non termina con “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;”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il risultato della sua valutazione viene mostrato anche sullo scher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BILI E ESPRE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MATLAB le variabili non devono essere dichiarate. La dichiarazione coincide con il primo assegn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LAB è case-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9080" y="12952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8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 = 5*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95280"/>
            <a:ext cx="171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b = 6+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ZIONE DI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0280" y="91440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matrice può essere definita con la sintassi seguent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o spazio o una virgola delimitano gli elementi di un stessa ri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punto e virgola o un cambio di riga indicano la fine di una ri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no presenti funzioni predefinite per la generazione di particolari matric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zeros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 z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nes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 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ye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ident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nd(n,m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 numeri cas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ag([a11, a22, a33, ..., aNN])”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trice diag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2952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 = [7 8; 8.9 7; 9 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7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    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1295280"/>
            <a:ext cx="3086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B = [1 2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4 5 6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     2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4     5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00280" y="91440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accedere agli elementi di una matr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(n,m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trae l’elemento (n,m) della matr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(n,: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trae l’n-esima riga della matr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(:,m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trae l’m-esima colonna della matric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ZIONE DI MATR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297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 = [7 8; 8.9 7; 9 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7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    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.0000    8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(1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40120" y="1600200"/>
            <a:ext cx="1704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(2,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    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A(: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ns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7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8.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9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FINIZIONE DI VE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0280" y="838080"/>
            <a:ext cx="8743680" cy="51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vettore può essere creato con la stessa sintassi utilizzata per le matrici oppure con le istru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: [step :] b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rea un vettore riga di estremi a e b. Il parametro opzional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ep indica l’intervallo tra ciascun elemento del v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inspace(a,b,N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rea un vettore riga di estremi a e b, costituito da N punt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uispazi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1600200"/>
            <a:ext cx="4190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x = 1: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     2     3     4     5   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x = 0.5:0.1: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0.5000    0.6000    0.7000    0.8000    0.9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» x = linspace(-1,1,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x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1.0000   -0.3333    0.3333    1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0"/>
            <a:ext cx="874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UNZIONI ELEMENTARI PER SCA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01880"/>
            <a:ext cx="874368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operatori aritmetici presenti in MATLAB sono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+ (somma) , - (differenza), * (prodotto), / (quoziente), ^ (elevamento a poten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matematiche elementa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ore assoluto di un numero com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g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ase di un numero com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j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mplesso coniug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xp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ponenziale in base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al, imag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te reale e parte immaginaria di un numero compl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, log10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garitmo naturale ed in base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qr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dice quad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i trigon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n, co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no, cos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an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sin, aco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rco seno, arco cos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ta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rco tan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variabil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ono predefinite uguali alla radice quadrata di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9906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rso di Automatica - Introduzione a MATLAB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10:15:51Z</dcterms:created>
  <dc:creator>Enrico Valtolina</dc:creator>
  <dc:description/>
  <cp:keywords>MATLAB - SIMULINK</cp:keywords>
  <dc:language>en-US</dc:language>
  <cp:lastModifiedBy>canevese</cp:lastModifiedBy>
  <cp:lastPrinted>1999-05-12T07:47:48Z</cp:lastPrinted>
  <dcterms:modified xsi:type="dcterms:W3CDTF">2003-11-27T09:09:43Z</dcterms:modified>
  <cp:revision>112</cp:revision>
  <dc:subject>Seminario EMIT</dc:subject>
  <dc:title>NOTE INTRODUTTIVE A MATLAB E SIMULIN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bittanti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