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6.wmf" ContentType="image/x-wmf"/>
  <Override PartName="/ppt/media/image11.wmf" ContentType="image/x-wmf"/>
  <Override PartName="/ppt/media/image26.png" ContentType="image/png"/>
  <Override PartName="/ppt/media/image7.wmf" ContentType="image/x-wmf"/>
  <Override PartName="/ppt/media/image12.wmf" ContentType="image/x-wmf"/>
  <Override PartName="/ppt/media/image27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9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5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7.png" ContentType="image/png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D532-D0F6-4D56-88F0-43F35ED535E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770F-6109-40F9-AF03-C0A29AA67AE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6120-FAFE-414D-9FD3-D19249CD2E6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CBE3-EB00-41A7-91DE-D29FB7D23D4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B137-77B0-400A-B94E-199FBC6B6B2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B3A9-C40D-435B-8EF8-8D92D52E422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1A18-3B59-405C-A65E-B567147F875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85AD-211A-4598-A719-9B9B2FDAB09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916A-ECAB-49AF-9C7A-B2F0CF28288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9263-4D9F-4D31-8907-128D60B64F3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CB0B-967B-4442-B231-494B626CF1D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3CE0-E768-4D8B-908F-746C4ED8778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771F-CCFB-408A-BFF7-07265A218D4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1C7B-52B3-440B-AAF5-71A007CB2B4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EC9E-FAA5-412B-ACAA-4D0A5B0E124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B42B-6DA2-4207-8AE4-651A1A72338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37DB-8784-4CF6-88E2-2282B1B4276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42A0-36D5-4D2C-A0E6-ADF714FA13A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35DB-4D60-402D-B443-D295FF73473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F15B-E57D-46F9-A849-1D697686683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1AB3-94A2-4FF2-9677-FA0AE69BF92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F664-2575-4EE0-9B98-209E6D7220D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772B-F8F1-4677-BD7D-B4327B2E3C9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4E32-5A71-4FF5-B458-E4ED346A280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5B34-C9C0-48F9-A54F-914370D6371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1CF1-EEE8-4A71-8570-54B30D4F8D8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FEBF-D6CA-471C-B0E7-4A7EEF736FF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4466-FE45-4F33-AF2B-CD04FC60BAE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ADFD-33D1-4629-931F-86AE88CCB2E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C477-52DF-4A55-9630-604576A0DB7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9513-6B81-47A7-B979-A36D1EF2F93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DF2F-94C6-4667-BD14-B35A2E6BDD4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6504-E0F4-4456-BF65-A64E8C2BB1D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CC7D-05FF-42CA-B053-9C7C4555373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B936-CD2F-43F8-A240-E606FF17BF1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572D-EEB0-499C-9811-DB829940C44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8AC7-49F3-49F9-8395-96FE5BA2961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426D-C7E5-440A-B52A-D6F1D8EF748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0132-05C6-487B-8E13-B87E232F9E0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E449-BB83-4E73-90B8-35FE9DE79B9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C1DE-11CF-4340-BE2A-567C80E112F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2C5A-AE39-4D12-815E-69E2C58E016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F8DC-B3C5-4E51-AAB7-108BCF67B09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3D41-520C-4122-9A8E-2F475BCE3ED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3AEB-8169-4307-9AFA-C98F45B5B7B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F623-71B6-49CC-A85A-F6E9AC0EBED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35A4-5EF9-451E-AFD1-59C061C30C9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4998-46DC-4E38-81C8-13D035CAB83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A55F-B83A-4B35-AA0D-1413F23315B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FFA5-0063-4F9C-8890-1B8E8269451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6DAC-BB08-4391-AEA3-B223AD8C1DB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B6A3-469D-48E9-AB12-7EEAB5921B8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DDB0-9ED3-45EC-9C6E-4A4AF561687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D59F-4059-4080-8DBE-6DF3AF7779A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8253-C908-4233-817A-B28BAA71F49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C200-CF80-402B-8583-0FB949194C7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B87A-6616-42DF-9620-2E376AFB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F8F1-C847-4F18-8777-AB8ED077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611C-535B-488F-A9B8-BD47A60A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A117-CA60-49A1-8AD0-6E2E4E38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BEC4-0729-49A6-9F22-7D918F00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6E0D-AC08-4C3C-9C9E-D067B700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079A-0079-4CAD-AD69-27CB7DC2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BB63-04B0-4F85-84EC-5CD8C0A8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3C99-2FB8-4D90-886D-24FCCD0D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A43B-A827-40BB-B9E7-112EBCE9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2229-2783-479F-8B13-DDF0F4DA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E47D-569B-468B-8B47-5D1EF3EF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9C51-DB98-4FC6-A8AB-A58BC2CAC96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9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913040" y="1341360"/>
            <a:ext cx="537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Trasformata di Lap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900000" y="1895400"/>
            <a:ext cx="734400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5"/>
          <p:cNvSpPr/>
          <p:nvPr/>
        </p:nvSpPr>
        <p:spPr>
          <a:xfrm>
            <a:off x="5940360" y="4653000"/>
            <a:ext cx="151128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266760" y="755640"/>
                <a:ext cx="5514840" cy="224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t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s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5"/>
              <p:cNvSpPr txBox="1"/>
              <p:nvPr/>
            </p:nvSpPr>
            <p:spPr>
              <a:xfrm>
                <a:off x="468360" y="3284640"/>
                <a:ext cx="69120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σ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</m:e>
                        </m:d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σT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ω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σT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6"/>
              <p:cNvSpPr txBox="1"/>
              <p:nvPr/>
            </p:nvSpPr>
            <p:spPr>
              <a:xfrm>
                <a:off x="7020000" y="2133720"/>
                <a:ext cx="1036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Line 7"/>
          <p:cNvSpPr/>
          <p:nvPr/>
        </p:nvSpPr>
        <p:spPr>
          <a:xfrm>
            <a:off x="4572000" y="558792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8"/>
          <p:cNvSpPr/>
          <p:nvPr/>
        </p:nvSpPr>
        <p:spPr>
          <a:xfrm flipV="1">
            <a:off x="5940360" y="450864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7578720" y="54640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Re[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5220720" y="42210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Im[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6"/>
          <p:cNvSpPr/>
          <p:nvPr/>
        </p:nvSpPr>
        <p:spPr>
          <a:xfrm>
            <a:off x="395280" y="3141720"/>
            <a:ext cx="7056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33"/>
              <p:cNvSpPr txBox="1"/>
              <p:nvPr/>
            </p:nvSpPr>
            <p:spPr>
              <a:xfrm>
                <a:off x="2050920" y="4941720"/>
                <a:ext cx="108108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79" name="Picture 34" descr=""/>
          <p:cNvPicPr/>
          <p:nvPr/>
        </p:nvPicPr>
        <p:blipFill>
          <a:blip r:embed="rId1"/>
          <a:stretch/>
        </p:blipFill>
        <p:spPr>
          <a:xfrm>
            <a:off x="6300720" y="260280"/>
            <a:ext cx="2057400" cy="15429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35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ad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Object 6"/>
              <p:cNvSpPr txBox="1"/>
              <p:nvPr/>
            </p:nvSpPr>
            <p:spPr>
              <a:xfrm>
                <a:off x="611280" y="1052640"/>
                <a:ext cx="19447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8"/>
              <p:cNvSpPr txBox="1"/>
              <p:nvPr/>
            </p:nvSpPr>
            <p:spPr>
              <a:xfrm>
                <a:off x="539640" y="1700280"/>
                <a:ext cx="20224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9"/>
              <p:cNvSpPr txBox="1"/>
              <p:nvPr/>
            </p:nvSpPr>
            <p:spPr>
              <a:xfrm>
                <a:off x="1476360" y="2924280"/>
                <a:ext cx="52563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Rectangle 10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prietà di linear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6588000" y="404640"/>
            <a:ext cx="2105280" cy="14194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mpa uni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6"/>
              <p:cNvSpPr txBox="1"/>
              <p:nvPr/>
            </p:nvSpPr>
            <p:spPr>
              <a:xfrm>
                <a:off x="539640" y="981000"/>
                <a:ext cx="4537080" cy="408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[</m:t>
                        </m:r>
                        <m:r>
                          <m:t xml:space="preserve">t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t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  <m:sSubSup>
                              <m:e>
                                <m:r>
                                  <m:t xml:space="preserve">|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t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s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t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s</m:t>
                                    </m:r>
                                  </m:den>
                                </m:f>
                                <m:sSubSup>
                                  <m:e>
                                    <m:r>
                                      <m:t xml:space="preserve">|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t</m:t>
                                    </m:r>
                                  </m:sup>
                                </m:sSup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T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7"/>
              <p:cNvSpPr txBox="1"/>
              <p:nvPr/>
            </p:nvSpPr>
            <p:spPr>
              <a:xfrm>
                <a:off x="5796000" y="4365720"/>
                <a:ext cx="1036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8"/>
              <p:cNvSpPr txBox="1"/>
              <p:nvPr/>
            </p:nvSpPr>
            <p:spPr>
              <a:xfrm>
                <a:off x="5076720" y="2205000"/>
                <a:ext cx="2303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g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g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gdt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Rectangle 9"/>
          <p:cNvSpPr/>
          <p:nvPr/>
        </p:nvSpPr>
        <p:spPr>
          <a:xfrm>
            <a:off x="3203640" y="1197000"/>
            <a:ext cx="288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5435640" y="2276640"/>
            <a:ext cx="288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6516720" y="333360"/>
            <a:ext cx="2295360" cy="172404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5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ponenz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6"/>
              <p:cNvSpPr txBox="1"/>
              <p:nvPr/>
            </p:nvSpPr>
            <p:spPr>
              <a:xfrm>
                <a:off x="671400" y="1725480"/>
                <a:ext cx="4273560" cy="25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at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7"/>
              <p:cNvSpPr txBox="1"/>
              <p:nvPr/>
            </p:nvSpPr>
            <p:spPr>
              <a:xfrm>
                <a:off x="6012000" y="3860640"/>
                <a:ext cx="1511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6443640" y="333360"/>
            <a:ext cx="2333520" cy="14954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5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sinus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6"/>
              <p:cNvSpPr txBox="1"/>
              <p:nvPr/>
            </p:nvSpPr>
            <p:spPr>
              <a:xfrm>
                <a:off x="671400" y="1725480"/>
                <a:ext cx="4273560" cy="25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t</m:t>
                                </m:r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r>
                          <m:t xml:space="preserve">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jωt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t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L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jωt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L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t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ω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7"/>
              <p:cNvSpPr txBox="1"/>
              <p:nvPr/>
            </p:nvSpPr>
            <p:spPr>
              <a:xfrm>
                <a:off x="5940360" y="3645000"/>
                <a:ext cx="103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nus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6372360" y="404640"/>
            <a:ext cx="2323800" cy="1400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2" name="Object 6"/>
              <p:cNvSpPr txBox="1"/>
              <p:nvPr/>
            </p:nvSpPr>
            <p:spPr>
              <a:xfrm>
                <a:off x="600120" y="1676520"/>
                <a:ext cx="4441680" cy="26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t</m:t>
                                </m:r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r>
                          <m:t xml:space="preserve">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jωt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t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j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</m:den>
                        </m:f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L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jωt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t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ω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7"/>
              <p:cNvSpPr txBox="1"/>
              <p:nvPr/>
            </p:nvSpPr>
            <p:spPr>
              <a:xfrm>
                <a:off x="5940360" y="3645000"/>
                <a:ext cx="103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as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5"/>
              <p:cNvSpPr txBox="1"/>
              <p:nvPr/>
            </p:nvSpPr>
            <p:spPr>
              <a:xfrm>
                <a:off x="538200" y="1173240"/>
                <a:ext cx="2401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6"/>
              <p:cNvSpPr txBox="1"/>
              <p:nvPr/>
            </p:nvSpPr>
            <p:spPr>
              <a:xfrm>
                <a:off x="2268360" y="1916280"/>
                <a:ext cx="468504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</m:nary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7"/>
              <p:cNvSpPr txBox="1"/>
              <p:nvPr/>
            </p:nvSpPr>
            <p:spPr>
              <a:xfrm>
                <a:off x="442800" y="3718080"/>
                <a:ext cx="2546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8"/>
              <p:cNvSpPr txBox="1"/>
              <p:nvPr/>
            </p:nvSpPr>
            <p:spPr>
              <a:xfrm>
                <a:off x="1619280" y="4365720"/>
                <a:ext cx="598176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k</m:t>
                                </m:r>
                              </m:sup>
                            </m:sSup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u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9"/>
              <p:cNvSpPr txBox="1"/>
              <p:nvPr/>
            </p:nvSpPr>
            <p:spPr>
              <a:xfrm>
                <a:off x="3921120" y="3740040"/>
                <a:ext cx="2354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Rectangle 10"/>
          <p:cNvSpPr/>
          <p:nvPr/>
        </p:nvSpPr>
        <p:spPr>
          <a:xfrm>
            <a:off x="395280" y="907920"/>
            <a:ext cx="2664000" cy="936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395280" y="3500280"/>
            <a:ext cx="2664000" cy="936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5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ul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18"/>
              <p:cNvSpPr txBox="1"/>
              <p:nvPr/>
            </p:nvSpPr>
            <p:spPr>
              <a:xfrm>
                <a:off x="406440" y="765000"/>
                <a:ext cx="266544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14" name="Group 21"/>
          <p:cNvGrpSpPr/>
          <p:nvPr/>
        </p:nvGrpSpPr>
        <p:grpSpPr>
          <a:xfrm>
            <a:off x="5710320" y="46080"/>
            <a:ext cx="2822400" cy="2087640"/>
            <a:chOff x="5710320" y="46080"/>
            <a:chExt cx="2822400" cy="2087640"/>
          </a:xfrm>
        </p:grpSpPr>
        <p:sp>
          <p:nvSpPr>
            <p:cNvPr id="215" name="Line 8"/>
            <p:cNvSpPr/>
            <p:nvPr/>
          </p:nvSpPr>
          <p:spPr>
            <a:xfrm flipV="1">
              <a:off x="6105600" y="155520"/>
              <a:ext cx="0" cy="174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9"/>
            <p:cNvSpPr/>
            <p:nvPr/>
          </p:nvSpPr>
          <p:spPr>
            <a:xfrm>
              <a:off x="6010200" y="1787400"/>
              <a:ext cx="252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0"/>
            <p:cNvSpPr/>
            <p:nvPr/>
          </p:nvSpPr>
          <p:spPr>
            <a:xfrm>
              <a:off x="6066000" y="676440"/>
              <a:ext cx="95220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1"/>
            <p:cNvSpPr/>
            <p:nvPr/>
          </p:nvSpPr>
          <p:spPr>
            <a:xfrm>
              <a:off x="7018200" y="676440"/>
              <a:ext cx="0" cy="11430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9" name="Object 12"/>
                <p:cNvSpPr txBox="1"/>
                <p:nvPr/>
              </p:nvSpPr>
              <p:spPr>
                <a:xfrm>
                  <a:off x="5710320" y="46080"/>
                  <a:ext cx="36036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0" name="Object 13"/>
                <p:cNvSpPr txBox="1"/>
                <p:nvPr/>
              </p:nvSpPr>
              <p:spPr>
                <a:xfrm>
                  <a:off x="6926400" y="1825560"/>
                  <a:ext cx="166680" cy="30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1" name="Object 14"/>
                <p:cNvSpPr txBox="1"/>
                <p:nvPr/>
              </p:nvSpPr>
              <p:spPr>
                <a:xfrm>
                  <a:off x="5867280" y="1844640"/>
                  <a:ext cx="14940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2" name="Line 15"/>
            <p:cNvSpPr/>
            <p:nvPr/>
          </p:nvSpPr>
          <p:spPr>
            <a:xfrm>
              <a:off x="6083280" y="654120"/>
              <a:ext cx="0" cy="11430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Object 19"/>
                <p:cNvSpPr txBox="1"/>
                <p:nvPr/>
              </p:nvSpPr>
              <p:spPr>
                <a:xfrm>
                  <a:off x="5838840" y="378000"/>
                  <a:ext cx="208080" cy="58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4" name="Object 23"/>
              <p:cNvSpPr txBox="1"/>
              <p:nvPr/>
            </p:nvSpPr>
            <p:spPr>
              <a:xfrm>
                <a:off x="2700360" y="2708280"/>
                <a:ext cx="29052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24"/>
              <p:cNvSpPr txBox="1"/>
              <p:nvPr/>
            </p:nvSpPr>
            <p:spPr>
              <a:xfrm>
                <a:off x="2749680" y="3429000"/>
                <a:ext cx="2808000" cy="16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</m:sSup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6" name="Text Box 25"/>
          <p:cNvSpPr/>
          <p:nvPr/>
        </p:nvSpPr>
        <p:spPr>
          <a:xfrm>
            <a:off x="6006240" y="2276640"/>
            <a:ext cx="185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’area sottesa vale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unzione impuls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6"/>
              <p:cNvSpPr txBox="1"/>
              <p:nvPr/>
            </p:nvSpPr>
            <p:spPr>
              <a:xfrm>
                <a:off x="312840" y="765000"/>
                <a:ext cx="285588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7"/>
              <p:cNvSpPr txBox="1"/>
              <p:nvPr/>
            </p:nvSpPr>
            <p:spPr>
              <a:xfrm>
                <a:off x="1647720" y="3067200"/>
                <a:ext cx="5013360" cy="24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A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t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sup>
                                </m:sSup>
                              </m:e>
                            </m:d>
                          </m:num>
                          <m:den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s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s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umeri comples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539640" y="1125360"/>
            <a:ext cx="76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Un numero complesso </a:t>
            </a: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, costituito da una parte reale ed una immaginaria, è scritto co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2"/>
          <p:cNvGrpSpPr/>
          <p:nvPr/>
        </p:nvGrpSpPr>
        <p:grpSpPr>
          <a:xfrm>
            <a:off x="2771640" y="1844640"/>
            <a:ext cx="3384720" cy="1309680"/>
            <a:chOff x="2771640" y="1844640"/>
            <a:chExt cx="3384720" cy="1309680"/>
          </a:xfrm>
        </p:grpSpPr>
        <mc:AlternateContent>
          <mc:Choice xmlns:a14="http://schemas.microsoft.com/office/drawing/2010/main" Requires="a14">
            <p:sp>
              <p:nvSpPr>
                <p:cNvPr id="52" name="Object 6"/>
                <p:cNvSpPr txBox="1"/>
                <p:nvPr/>
              </p:nvSpPr>
              <p:spPr>
                <a:xfrm>
                  <a:off x="3132000" y="1844640"/>
                  <a:ext cx="3024360" cy="47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jy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  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∈</m:t>
                      </m:r>
                      <m:r>
                        <m:t xml:space="preserve">ℜ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" name="Object 7"/>
                <p:cNvSpPr txBox="1"/>
                <p:nvPr/>
              </p:nvSpPr>
              <p:spPr>
                <a:xfrm>
                  <a:off x="2771640" y="2781360"/>
                  <a:ext cx="72072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r>
                        <m:t xml:space="preserve">[</m:t>
                      </m:r>
                      <m:r>
                        <m:t xml:space="preserve">z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4" name="Line 8"/>
            <p:cNvSpPr/>
            <p:nvPr/>
          </p:nvSpPr>
          <p:spPr>
            <a:xfrm flipV="1">
              <a:off x="3132000" y="2205000"/>
              <a:ext cx="576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Object 9"/>
                <p:cNvSpPr txBox="1"/>
                <p:nvPr/>
              </p:nvSpPr>
              <p:spPr>
                <a:xfrm>
                  <a:off x="4438800" y="2781360"/>
                  <a:ext cx="69840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m</m:t>
                      </m:r>
                      <m:r>
                        <m:t xml:space="preserve">[</m:t>
                      </m:r>
                      <m:r>
                        <m:t xml:space="preserve">z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" name="Line 10"/>
            <p:cNvSpPr/>
            <p:nvPr/>
          </p:nvSpPr>
          <p:spPr>
            <a:xfrm flipH="1" flipV="1">
              <a:off x="4427640" y="2276640"/>
              <a:ext cx="21744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" name="Object 11"/>
              <p:cNvSpPr txBox="1"/>
              <p:nvPr/>
            </p:nvSpPr>
            <p:spPr>
              <a:xfrm>
                <a:off x="611280" y="3213000"/>
                <a:ext cx="16570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" name="Group 21"/>
          <p:cNvGrpSpPr/>
          <p:nvPr/>
        </p:nvGrpSpPr>
        <p:grpSpPr>
          <a:xfrm>
            <a:off x="2627280" y="3789360"/>
            <a:ext cx="2909880" cy="2395080"/>
            <a:chOff x="2627280" y="3789360"/>
            <a:chExt cx="2909880" cy="2395080"/>
          </a:xfrm>
        </p:grpSpPr>
        <p:sp>
          <p:nvSpPr>
            <p:cNvPr id="59" name="Line 12"/>
            <p:cNvSpPr/>
            <p:nvPr/>
          </p:nvSpPr>
          <p:spPr>
            <a:xfrm flipV="1">
              <a:off x="2627280" y="5170680"/>
              <a:ext cx="2448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3"/>
            <p:cNvSpPr/>
            <p:nvPr/>
          </p:nvSpPr>
          <p:spPr>
            <a:xfrm flipV="1">
              <a:off x="3419640" y="4106880"/>
              <a:ext cx="0" cy="198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Text Box 14" descr=""/>
            <p:cNvPicPr/>
            <p:nvPr/>
          </p:nvPicPr>
          <p:blipFill>
            <a:blip r:embed="rId1"/>
            <a:stretch/>
          </p:blipFill>
          <p:spPr>
            <a:xfrm>
              <a:off x="4986360" y="5015880"/>
              <a:ext cx="48096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Text Box 15" descr=""/>
            <p:cNvPicPr/>
            <p:nvPr/>
          </p:nvPicPr>
          <p:blipFill>
            <a:blip r:embed="rId2"/>
            <a:stretch/>
          </p:blipFill>
          <p:spPr>
            <a:xfrm>
              <a:off x="3060720" y="3789360"/>
              <a:ext cx="378000" cy="4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Line 16"/>
            <p:cNvSpPr/>
            <p:nvPr/>
          </p:nvSpPr>
          <p:spPr>
            <a:xfrm flipV="1">
              <a:off x="3419640" y="4391280"/>
              <a:ext cx="936720" cy="780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4" name="Object 17"/>
            <p:cNvGraphicFramePr/>
            <p:nvPr/>
          </p:nvGraphicFramePr>
          <p:xfrm>
            <a:off x="4427640" y="4532400"/>
            <a:ext cx="1028880" cy="30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5" name="Object 1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27640" y="4532400"/>
                      <a:ext cx="1028880" cy="30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6" name="Object 18"/>
                <p:cNvSpPr txBox="1"/>
                <p:nvPr/>
              </p:nvSpPr>
              <p:spPr>
                <a:xfrm>
                  <a:off x="3851280" y="4817160"/>
                  <a:ext cx="252720" cy="2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ϕ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7" name="Line 19"/>
            <p:cNvSpPr/>
            <p:nvPr/>
          </p:nvSpPr>
          <p:spPr>
            <a:xfrm>
              <a:off x="3419640" y="5172480"/>
              <a:ext cx="936720" cy="7084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" name="Object 20"/>
                <p:cNvSpPr txBox="1"/>
                <p:nvPr/>
              </p:nvSpPr>
              <p:spPr>
                <a:xfrm>
                  <a:off x="4427640" y="5455440"/>
                  <a:ext cx="1109520" cy="36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z</m:t>
                          </m:r>
                        </m:e>
                        <m:sup/>
                      </m:sSup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jy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69" name="Object 26"/>
            <p:cNvGraphicFramePr/>
            <p:nvPr/>
          </p:nvGraphicFramePr>
          <p:xfrm>
            <a:off x="4283280" y="5880960"/>
            <a:ext cx="309600" cy="303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0" name="Object 2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283280" y="5880960"/>
                      <a:ext cx="309600" cy="30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" name="Rectangle 23"/>
          <p:cNvSpPr/>
          <p:nvPr/>
        </p:nvSpPr>
        <p:spPr>
          <a:xfrm>
            <a:off x="395280" y="3141720"/>
            <a:ext cx="2016000" cy="718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6"/>
          <p:cNvSpPr/>
          <p:nvPr/>
        </p:nvSpPr>
        <p:spPr>
          <a:xfrm>
            <a:off x="6659640" y="1773360"/>
            <a:ext cx="2087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rtes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22"/>
          <p:cNvGraphicFramePr/>
          <p:nvPr/>
        </p:nvGraphicFramePr>
        <p:xfrm>
          <a:off x="3132000" y="5157720"/>
          <a:ext cx="276480" cy="322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2000" y="5157720"/>
                    <a:ext cx="27648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27"/>
          <p:cNvGraphicFramePr/>
          <p:nvPr/>
        </p:nvGraphicFramePr>
        <p:xfrm>
          <a:off x="4284720" y="4076640"/>
          <a:ext cx="247680" cy="266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6" name="Object 2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84720" y="4076640"/>
                    <a:ext cx="24768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28"/>
          <p:cNvGraphicFramePr/>
          <p:nvPr/>
        </p:nvGraphicFramePr>
        <p:xfrm>
          <a:off x="4356000" y="5157720"/>
          <a:ext cx="206640" cy="227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8" name="Object 2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56000" y="5157720"/>
                    <a:ext cx="206640" cy="2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29"/>
          <p:cNvGraphicFramePr/>
          <p:nvPr/>
        </p:nvGraphicFramePr>
        <p:xfrm>
          <a:off x="2987640" y="4292640"/>
          <a:ext cx="371520" cy="287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0" name="Object 2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87640" y="4292640"/>
                    <a:ext cx="37152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30"/>
          <p:cNvGraphicFramePr/>
          <p:nvPr/>
        </p:nvGraphicFramePr>
        <p:xfrm>
          <a:off x="2987640" y="5732640"/>
          <a:ext cx="370080" cy="266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2" name="Object 3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87640" y="5732640"/>
                    <a:ext cx="37008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Connettore 1 35"/>
          <p:cNvSpPr/>
          <p:nvPr/>
        </p:nvSpPr>
        <p:spPr>
          <a:xfrm>
            <a:off x="3419640" y="4365720"/>
            <a:ext cx="93636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onnettore 1 39"/>
          <p:cNvSpPr/>
          <p:nvPr/>
        </p:nvSpPr>
        <p:spPr>
          <a:xfrm>
            <a:off x="3419640" y="5877000"/>
            <a:ext cx="93636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onnettore 1 41"/>
          <p:cNvSpPr/>
          <p:nvPr/>
        </p:nvSpPr>
        <p:spPr>
          <a:xfrm>
            <a:off x="4356000" y="4365720"/>
            <a:ext cx="0" cy="15112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onnettore 49"/>
          <p:cNvSpPr/>
          <p:nvPr/>
        </p:nvSpPr>
        <p:spPr>
          <a:xfrm>
            <a:off x="4284720" y="4365720"/>
            <a:ext cx="71280" cy="7128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onnettore 50"/>
          <p:cNvSpPr/>
          <p:nvPr/>
        </p:nvSpPr>
        <p:spPr>
          <a:xfrm>
            <a:off x="4284720" y="5805360"/>
            <a:ext cx="71280" cy="7164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5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ulso di Dir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1"/>
          <a:stretch/>
        </p:blipFill>
        <p:spPr>
          <a:xfrm>
            <a:off x="6659640" y="333360"/>
            <a:ext cx="2171520" cy="1400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Object 7"/>
              <p:cNvSpPr txBox="1"/>
              <p:nvPr/>
            </p:nvSpPr>
            <p:spPr>
              <a:xfrm>
                <a:off x="312840" y="765000"/>
                <a:ext cx="285588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8"/>
              <p:cNvSpPr txBox="1"/>
              <p:nvPr/>
            </p:nvSpPr>
            <p:spPr>
              <a:xfrm>
                <a:off x="3662280" y="4076640"/>
                <a:ext cx="9828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Rectangle 9"/>
          <p:cNvSpPr/>
          <p:nvPr/>
        </p:nvSpPr>
        <p:spPr>
          <a:xfrm>
            <a:off x="3276720" y="3716280"/>
            <a:ext cx="1726920" cy="10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ulso di Dir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28"/>
          <p:cNvGrpSpPr/>
          <p:nvPr/>
        </p:nvGrpSpPr>
        <p:grpSpPr>
          <a:xfrm>
            <a:off x="611280" y="981000"/>
            <a:ext cx="3310920" cy="719280"/>
            <a:chOff x="611280" y="981000"/>
            <a:chExt cx="3310920" cy="719280"/>
          </a:xfrm>
        </p:grpSpPr>
        <p:sp>
          <p:nvSpPr>
            <p:cNvPr id="237" name="Rectangle 6"/>
            <p:cNvSpPr/>
            <p:nvPr/>
          </p:nvSpPr>
          <p:spPr>
            <a:xfrm>
              <a:off x="1665000" y="1028880"/>
              <a:ext cx="1358640" cy="671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8" name="Object 7"/>
                <p:cNvSpPr txBox="1"/>
                <p:nvPr/>
              </p:nvSpPr>
              <p:spPr>
                <a:xfrm>
                  <a:off x="2079360" y="1125720"/>
                  <a:ext cx="54396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9" name="Line 8"/>
            <p:cNvSpPr/>
            <p:nvPr/>
          </p:nvSpPr>
          <p:spPr>
            <a:xfrm>
              <a:off x="956880" y="1363680"/>
              <a:ext cx="70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9"/>
            <p:cNvSpPr/>
            <p:nvPr/>
          </p:nvSpPr>
          <p:spPr>
            <a:xfrm>
              <a:off x="3024000" y="1363680"/>
              <a:ext cx="70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1" name="Object 10"/>
                <p:cNvSpPr txBox="1"/>
                <p:nvPr/>
              </p:nvSpPr>
              <p:spPr>
                <a:xfrm>
                  <a:off x="611280" y="981000"/>
                  <a:ext cx="53136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2" name="Object 11"/>
                <p:cNvSpPr txBox="1"/>
                <p:nvPr/>
              </p:nvSpPr>
              <p:spPr>
                <a:xfrm>
                  <a:off x="3366720" y="981000"/>
                  <a:ext cx="55548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3" name="Object 15"/>
              <p:cNvSpPr txBox="1"/>
              <p:nvPr/>
            </p:nvSpPr>
            <p:spPr>
              <a:xfrm>
                <a:off x="755640" y="2421000"/>
                <a:ext cx="43196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4" name="Rectangle 16"/>
          <p:cNvSpPr/>
          <p:nvPr/>
        </p:nvSpPr>
        <p:spPr>
          <a:xfrm>
            <a:off x="5364000" y="2276640"/>
            <a:ext cx="352908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Ogni segnale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x(t)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può ess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spresso come convoluzione c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’impulso di Dir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17"/>
              <p:cNvSpPr txBox="1"/>
              <p:nvPr/>
            </p:nvSpPr>
            <p:spPr>
              <a:xfrm>
                <a:off x="971640" y="3789360"/>
                <a:ext cx="453528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Δ</m:t>
                        </m:r>
                      </m:sup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Δ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Δ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6" name="Text Box 18"/>
          <p:cNvSpPr/>
          <p:nvPr/>
        </p:nvSpPr>
        <p:spPr>
          <a:xfrm>
            <a:off x="593640" y="328284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i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9"/>
          <p:cNvSpPr/>
          <p:nvPr/>
        </p:nvSpPr>
        <p:spPr>
          <a:xfrm>
            <a:off x="604080" y="4924440"/>
            <a:ext cx="26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er il teorema del valor medi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20"/>
              <p:cNvSpPr txBox="1"/>
              <p:nvPr/>
            </p:nvSpPr>
            <p:spPr>
              <a:xfrm>
                <a:off x="3459240" y="4581360"/>
                <a:ext cx="431316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ξ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</m:e>
                    </m:d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Δ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</m:e>
                    </m:d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21"/>
              <p:cNvSpPr txBox="1"/>
              <p:nvPr/>
            </p:nvSpPr>
            <p:spPr>
              <a:xfrm>
                <a:off x="1547640" y="5589720"/>
                <a:ext cx="41896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</m:e>
                    </m:d>
                    <m:r>
                      <m:t xml:space="preserve">Δ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0" name="Group 27"/>
          <p:cNvGrpSpPr/>
          <p:nvPr/>
        </p:nvGrpSpPr>
        <p:grpSpPr>
          <a:xfrm>
            <a:off x="6300720" y="5877000"/>
            <a:ext cx="2028960" cy="576360"/>
            <a:chOff x="6300720" y="5877000"/>
            <a:chExt cx="2028960" cy="576360"/>
          </a:xfrm>
        </p:grpSpPr>
        <p:sp>
          <p:nvSpPr>
            <p:cNvPr id="251" name="Line 22"/>
            <p:cNvSpPr/>
            <p:nvPr/>
          </p:nvSpPr>
          <p:spPr>
            <a:xfrm>
              <a:off x="6443640" y="595008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2" name="Object 23"/>
                <p:cNvSpPr txBox="1"/>
                <p:nvPr/>
              </p:nvSpPr>
              <p:spPr>
                <a:xfrm>
                  <a:off x="6300720" y="6021360"/>
                  <a:ext cx="2574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3" name="Object 24"/>
                <p:cNvSpPr txBox="1"/>
                <p:nvPr/>
              </p:nvSpPr>
              <p:spPr>
                <a:xfrm>
                  <a:off x="8047080" y="6033960"/>
                  <a:ext cx="282600" cy="33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4" name="Object 25"/>
                <p:cNvSpPr txBox="1"/>
                <p:nvPr/>
              </p:nvSpPr>
              <p:spPr>
                <a:xfrm>
                  <a:off x="7470720" y="6040440"/>
                  <a:ext cx="25740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ξ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5" name="Line 26"/>
            <p:cNvSpPr/>
            <p:nvPr/>
          </p:nvSpPr>
          <p:spPr>
            <a:xfrm>
              <a:off x="7596360" y="58770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0"/>
          <p:cNvGrpSpPr/>
          <p:nvPr/>
        </p:nvGrpSpPr>
        <p:grpSpPr>
          <a:xfrm>
            <a:off x="5508720" y="549360"/>
            <a:ext cx="2950920" cy="1224000"/>
            <a:chOff x="5508720" y="549360"/>
            <a:chExt cx="2950920" cy="1224000"/>
          </a:xfrm>
        </p:grpSpPr>
        <mc:AlternateContent>
          <mc:Choice xmlns:a14="http://schemas.microsoft.com/office/drawing/2010/main" Requires="a14">
            <p:sp>
              <p:nvSpPr>
                <p:cNvPr id="257" name="Object 12"/>
                <p:cNvSpPr txBox="1"/>
                <p:nvPr/>
              </p:nvSpPr>
              <p:spPr>
                <a:xfrm>
                  <a:off x="5651640" y="1052640"/>
                  <a:ext cx="266544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Γ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δ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</m:e>
                      </m:d>
                      <m:r>
                        <m:t xml:space="preserve">=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8" name="Text Box 13"/>
            <p:cNvSpPr/>
            <p:nvPr/>
          </p:nvSpPr>
          <p:spPr>
            <a:xfrm>
              <a:off x="5580000" y="692280"/>
              <a:ext cx="266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Risposta all’impul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9"/>
            <p:cNvSpPr/>
            <p:nvPr/>
          </p:nvSpPr>
          <p:spPr>
            <a:xfrm>
              <a:off x="5508720" y="549360"/>
              <a:ext cx="2950920" cy="12240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ulso di Dir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5"/>
          <p:cNvGrpSpPr/>
          <p:nvPr/>
        </p:nvGrpSpPr>
        <p:grpSpPr>
          <a:xfrm>
            <a:off x="611280" y="981000"/>
            <a:ext cx="3310920" cy="719280"/>
            <a:chOff x="611280" y="981000"/>
            <a:chExt cx="3310920" cy="719280"/>
          </a:xfrm>
        </p:grpSpPr>
        <p:sp>
          <p:nvSpPr>
            <p:cNvPr id="262" name="Rectangle 6"/>
            <p:cNvSpPr/>
            <p:nvPr/>
          </p:nvSpPr>
          <p:spPr>
            <a:xfrm>
              <a:off x="1665000" y="1028880"/>
              <a:ext cx="1358640" cy="671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3" name="Object 7"/>
                <p:cNvSpPr txBox="1"/>
                <p:nvPr/>
              </p:nvSpPr>
              <p:spPr>
                <a:xfrm>
                  <a:off x="2079360" y="1125720"/>
                  <a:ext cx="54396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4" name="Line 8"/>
            <p:cNvSpPr/>
            <p:nvPr/>
          </p:nvSpPr>
          <p:spPr>
            <a:xfrm>
              <a:off x="956880" y="1363680"/>
              <a:ext cx="70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9"/>
            <p:cNvSpPr/>
            <p:nvPr/>
          </p:nvSpPr>
          <p:spPr>
            <a:xfrm>
              <a:off x="3024000" y="1363680"/>
              <a:ext cx="70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6" name="Object 10"/>
                <p:cNvSpPr txBox="1"/>
                <p:nvPr/>
              </p:nvSpPr>
              <p:spPr>
                <a:xfrm>
                  <a:off x="611280" y="981000"/>
                  <a:ext cx="53136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7" name="Object 11"/>
                <p:cNvSpPr txBox="1"/>
                <p:nvPr/>
              </p:nvSpPr>
              <p:spPr>
                <a:xfrm>
                  <a:off x="3366720" y="981000"/>
                  <a:ext cx="55548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8" name="Text Box 12"/>
          <p:cNvSpPr/>
          <p:nvPr/>
        </p:nvSpPr>
        <p:spPr>
          <a:xfrm>
            <a:off x="647640" y="1987560"/>
            <a:ext cx="40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’uscita del sistema all’ingresso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x(t)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arà del tip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13"/>
              <p:cNvSpPr txBox="1"/>
              <p:nvPr/>
            </p:nvSpPr>
            <p:spPr>
              <a:xfrm>
                <a:off x="1763640" y="2565360"/>
                <a:ext cx="442296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Γ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Γ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14"/>
              <p:cNvSpPr txBox="1"/>
              <p:nvPr/>
            </p:nvSpPr>
            <p:spPr>
              <a:xfrm>
                <a:off x="1835280" y="3789360"/>
                <a:ext cx="4240080" cy="19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Γ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δ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  <m:r>
                              <m:t xml:space="preserve">=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1" name="Rectangle 15"/>
          <p:cNvSpPr/>
          <p:nvPr/>
        </p:nvSpPr>
        <p:spPr>
          <a:xfrm>
            <a:off x="1763640" y="3933720"/>
            <a:ext cx="647640" cy="64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6"/>
          <p:cNvSpPr/>
          <p:nvPr/>
        </p:nvSpPr>
        <p:spPr>
          <a:xfrm>
            <a:off x="4788000" y="4941720"/>
            <a:ext cx="1296720" cy="648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7"/>
          <p:cNvSpPr/>
          <p:nvPr/>
        </p:nvSpPr>
        <p:spPr>
          <a:xfrm>
            <a:off x="5364000" y="189000"/>
            <a:ext cx="3672000" cy="2303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l segnale in uscita può ess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alcolato attraverso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onvoluzione del segnale di ingres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on la risposta impulsiv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ulso di Dir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468360" y="1341360"/>
            <a:ext cx="4535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oble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1547640" y="2133720"/>
            <a:ext cx="684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risposta impulsiva di un sistema può essere ricavata applicando in ingresso un segnale che approssimi l’impulso di Dirac e misurando l’uscita corrispond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1547640" y="2911320"/>
            <a:ext cx="684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’impulso di Dirac è un’astrazione matematica che può solo essere approssim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1547640" y="3573360"/>
            <a:ext cx="684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 molti casi non è possibile né conveniente applicare al sistema una sollecitazione impulsiva per non danneggiare il sistema a causa dell’elevata ampiezza dell’impuls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erciz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661680" y="9079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apendo 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8"/>
              <p:cNvSpPr txBox="1"/>
              <p:nvPr/>
            </p:nvSpPr>
            <p:spPr>
              <a:xfrm>
                <a:off x="3059280" y="836640"/>
                <a:ext cx="13683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2" name="Rectangle 9"/>
          <p:cNvSpPr/>
          <p:nvPr/>
        </p:nvSpPr>
        <p:spPr>
          <a:xfrm>
            <a:off x="2916360" y="692280"/>
            <a:ext cx="1726920" cy="10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683640" y="226044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alcol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11"/>
              <p:cNvSpPr txBox="1"/>
              <p:nvPr/>
            </p:nvSpPr>
            <p:spPr>
              <a:xfrm>
                <a:off x="2219400" y="2144880"/>
                <a:ext cx="888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erciz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0"/>
          <p:cNvSpPr/>
          <p:nvPr/>
        </p:nvSpPr>
        <p:spPr>
          <a:xfrm>
            <a:off x="663480" y="90792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alcol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11"/>
              <p:cNvSpPr txBox="1"/>
              <p:nvPr/>
            </p:nvSpPr>
            <p:spPr>
              <a:xfrm>
                <a:off x="2940120" y="992160"/>
                <a:ext cx="1608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erciz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663480" y="90792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alcol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6"/>
              <p:cNvSpPr txBox="1"/>
              <p:nvPr/>
            </p:nvSpPr>
            <p:spPr>
              <a:xfrm>
                <a:off x="2484360" y="1197000"/>
                <a:ext cx="3000600" cy="15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2</m:t>
                                      </m:r>
                                      <m:r>
                                        <m:t xml:space="preserve">π</m:t>
                                      </m:r>
                                    </m:num>
                                    <m:den>
                                      <m:r>
                                        <m:t xml:space="preserve">3</m:t>
                                      </m:r>
                                    </m:den>
                                  </m:f>
                                </m:e>
                              </m:d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t</m:t>
                              </m:r>
                              <m:r>
                                <m:t xml:space="preserve">&gt;</m:t>
                              </m:r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erciz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663480" y="90792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alcol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7"/>
              <p:cNvSpPr txBox="1"/>
              <p:nvPr/>
            </p:nvSpPr>
            <p:spPr>
              <a:xfrm>
                <a:off x="3083040" y="1003320"/>
                <a:ext cx="13208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orema della deriv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5"/>
              <p:cNvSpPr txBox="1"/>
              <p:nvPr/>
            </p:nvSpPr>
            <p:spPr>
              <a:xfrm>
                <a:off x="395280" y="1173240"/>
                <a:ext cx="2689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Rectangle 6"/>
          <p:cNvSpPr/>
          <p:nvPr/>
        </p:nvSpPr>
        <p:spPr>
          <a:xfrm>
            <a:off x="395280" y="907920"/>
            <a:ext cx="2664000" cy="936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7"/>
              <p:cNvSpPr txBox="1"/>
              <p:nvPr/>
            </p:nvSpPr>
            <p:spPr>
              <a:xfrm>
                <a:off x="1187280" y="1914480"/>
                <a:ext cx="5735880" cy="374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|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t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t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8"/>
              <p:cNvSpPr txBox="1"/>
              <p:nvPr/>
            </p:nvSpPr>
            <p:spPr>
              <a:xfrm>
                <a:off x="5940360" y="836640"/>
                <a:ext cx="23036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g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g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gdt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9" name="Rectangle 9"/>
          <p:cNvSpPr/>
          <p:nvPr/>
        </p:nvSpPr>
        <p:spPr>
          <a:xfrm>
            <a:off x="2556000" y="2201760"/>
            <a:ext cx="288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6227640" y="907920"/>
            <a:ext cx="28908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564480" y="5948280"/>
            <a:ext cx="63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è sfruttato il fatto che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f(t)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è di ordine esponenziale per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he tende all’infin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orema della deriv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5"/>
              <p:cNvSpPr txBox="1"/>
              <p:nvPr/>
            </p:nvSpPr>
            <p:spPr>
              <a:xfrm>
                <a:off x="539640" y="1197000"/>
                <a:ext cx="37702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'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Rectangle 6"/>
          <p:cNvSpPr/>
          <p:nvPr/>
        </p:nvSpPr>
        <p:spPr>
          <a:xfrm>
            <a:off x="395280" y="907920"/>
            <a:ext cx="4032360" cy="936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7"/>
              <p:cNvSpPr txBox="1"/>
              <p:nvPr/>
            </p:nvSpPr>
            <p:spPr>
              <a:xfrm>
                <a:off x="2195640" y="2421000"/>
                <a:ext cx="391464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'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F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8"/>
              <p:cNvSpPr txBox="1"/>
              <p:nvPr/>
            </p:nvSpPr>
            <p:spPr>
              <a:xfrm>
                <a:off x="1116000" y="5229360"/>
                <a:ext cx="4923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''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umeri comples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5"/>
              <p:cNvSpPr txBox="1"/>
              <p:nvPr/>
            </p:nvSpPr>
            <p:spPr>
              <a:xfrm>
                <a:off x="611280" y="1197000"/>
                <a:ext cx="482436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z</m:t>
                                </m:r>
                              </m:e>
                              <m:sup/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y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y</m:t>
                                </m:r>
                              </m:e>
                            </m:d>
                          </m:e>
                        </m:rad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xy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xy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" name="Rectangle 6"/>
          <p:cNvSpPr/>
          <p:nvPr/>
        </p:nvSpPr>
        <p:spPr>
          <a:xfrm>
            <a:off x="6156360" y="1268280"/>
            <a:ext cx="208764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od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7"/>
              <p:cNvSpPr txBox="1"/>
              <p:nvPr/>
            </p:nvSpPr>
            <p:spPr>
              <a:xfrm>
                <a:off x="1258920" y="2824200"/>
                <a:ext cx="352728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kπ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k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inter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Rectangle 8"/>
          <p:cNvSpPr/>
          <p:nvPr/>
        </p:nvSpPr>
        <p:spPr>
          <a:xfrm>
            <a:off x="6156360" y="3357720"/>
            <a:ext cx="2087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orema dell’integr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5"/>
              <p:cNvSpPr txBox="1"/>
              <p:nvPr/>
            </p:nvSpPr>
            <p:spPr>
              <a:xfrm>
                <a:off x="826920" y="907920"/>
                <a:ext cx="187344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6"/>
              <p:cNvSpPr txBox="1"/>
              <p:nvPr/>
            </p:nvSpPr>
            <p:spPr>
              <a:xfrm>
                <a:off x="3995640" y="1052640"/>
                <a:ext cx="2833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AutoShape 7"/>
          <p:cNvSpPr/>
          <p:nvPr/>
        </p:nvSpPr>
        <p:spPr>
          <a:xfrm>
            <a:off x="3059280" y="1197000"/>
            <a:ext cx="649080" cy="287280"/>
          </a:xfrm>
          <a:prstGeom prst="rightArrow">
            <a:avLst>
              <a:gd name="adj1" fmla="val 50000"/>
              <a:gd name="adj2" fmla="val 564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8"/>
              <p:cNvSpPr txBox="1"/>
              <p:nvPr/>
            </p:nvSpPr>
            <p:spPr>
              <a:xfrm>
                <a:off x="1835280" y="2565360"/>
                <a:ext cx="18255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2" name="AutoShape 9"/>
          <p:cNvSpPr/>
          <p:nvPr/>
        </p:nvSpPr>
        <p:spPr>
          <a:xfrm>
            <a:off x="4140360" y="3573360"/>
            <a:ext cx="649080" cy="287280"/>
          </a:xfrm>
          <a:prstGeom prst="rightArrow">
            <a:avLst>
              <a:gd name="adj1" fmla="val 50000"/>
              <a:gd name="adj2" fmla="val 564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10"/>
              <p:cNvSpPr txBox="1"/>
              <p:nvPr/>
            </p:nvSpPr>
            <p:spPr>
              <a:xfrm>
                <a:off x="5580000" y="3213000"/>
                <a:ext cx="242424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t xml:space="preserve">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orema del valore fi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5"/>
              <p:cNvSpPr txBox="1"/>
              <p:nvPr/>
            </p:nvSpPr>
            <p:spPr>
              <a:xfrm>
                <a:off x="587520" y="1100160"/>
                <a:ext cx="23526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Rectangle 6"/>
          <p:cNvSpPr/>
          <p:nvPr/>
        </p:nvSpPr>
        <p:spPr>
          <a:xfrm>
            <a:off x="395280" y="907920"/>
            <a:ext cx="2592360" cy="936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51280" y="981000"/>
            <a:ext cx="36734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ell’ipotesi che tale limite es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460080" y="2203560"/>
            <a:ext cx="274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al teorema della derivata si h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9"/>
              <p:cNvSpPr txBox="1"/>
              <p:nvPr/>
            </p:nvSpPr>
            <p:spPr>
              <a:xfrm>
                <a:off x="3492360" y="1989000"/>
                <a:ext cx="319248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Text Box 10"/>
          <p:cNvSpPr/>
          <p:nvPr/>
        </p:nvSpPr>
        <p:spPr>
          <a:xfrm>
            <a:off x="468000" y="3124080"/>
            <a:ext cx="6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a cu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11"/>
              <p:cNvSpPr txBox="1"/>
              <p:nvPr/>
            </p:nvSpPr>
            <p:spPr>
              <a:xfrm>
                <a:off x="3073320" y="3068640"/>
                <a:ext cx="403236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Text Box 12"/>
          <p:cNvSpPr/>
          <p:nvPr/>
        </p:nvSpPr>
        <p:spPr>
          <a:xfrm>
            <a:off x="441360" y="4132440"/>
            <a:ext cx="71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seguendo il limite sotto il segno di integrale il che è lecito per l’analiticità della funzio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13"/>
              <p:cNvSpPr txBox="1"/>
              <p:nvPr/>
            </p:nvSpPr>
            <p:spPr>
              <a:xfrm>
                <a:off x="2700360" y="4581360"/>
                <a:ext cx="321624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4" name="Text Box 14"/>
          <p:cNvSpPr/>
          <p:nvPr/>
        </p:nvSpPr>
        <p:spPr>
          <a:xfrm>
            <a:off x="468000" y="564516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 quin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15"/>
              <p:cNvSpPr txBox="1"/>
              <p:nvPr/>
            </p:nvSpPr>
            <p:spPr>
              <a:xfrm>
                <a:off x="2556000" y="5950080"/>
                <a:ext cx="39607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orema del valore iniz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5"/>
              <p:cNvSpPr txBox="1"/>
              <p:nvPr/>
            </p:nvSpPr>
            <p:spPr>
              <a:xfrm>
                <a:off x="587520" y="1100160"/>
                <a:ext cx="23526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Rectangle 6"/>
          <p:cNvSpPr/>
          <p:nvPr/>
        </p:nvSpPr>
        <p:spPr>
          <a:xfrm>
            <a:off x="395280" y="907920"/>
            <a:ext cx="2592360" cy="936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7"/>
              <p:cNvSpPr txBox="1"/>
              <p:nvPr/>
            </p:nvSpPr>
            <p:spPr>
              <a:xfrm>
                <a:off x="2771640" y="2708280"/>
                <a:ext cx="4032360" cy="24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s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s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/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s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tegrale di convol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5"/>
              <p:cNvSpPr txBox="1"/>
              <p:nvPr/>
            </p:nvSpPr>
            <p:spPr>
              <a:xfrm>
                <a:off x="2050920" y="1413000"/>
                <a:ext cx="396108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</m:e>
                            </m:d>
                            <m:r>
                              <m:t xml:space="preserve">dτ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2" name="Object 5"/>
              <p:cNvSpPr txBox="1"/>
              <p:nvPr/>
            </p:nvSpPr>
            <p:spPr>
              <a:xfrm>
                <a:off x="2556000" y="814320"/>
                <a:ext cx="441792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t xml:space="preserve">3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6"/>
              <p:cNvSpPr txBox="1"/>
              <p:nvPr/>
            </p:nvSpPr>
            <p:spPr>
              <a:xfrm>
                <a:off x="539640" y="1604880"/>
                <a:ext cx="360216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7"/>
              <p:cNvSpPr txBox="1"/>
              <p:nvPr/>
            </p:nvSpPr>
            <p:spPr>
              <a:xfrm>
                <a:off x="2095560" y="3476520"/>
                <a:ext cx="48528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s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8"/>
              <p:cNvSpPr txBox="1"/>
              <p:nvPr/>
            </p:nvSpPr>
            <p:spPr>
              <a:xfrm>
                <a:off x="2627280" y="4365720"/>
                <a:ext cx="3460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s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9"/>
              <p:cNvSpPr txBox="1"/>
              <p:nvPr/>
            </p:nvSpPr>
            <p:spPr>
              <a:xfrm>
                <a:off x="2243160" y="5157720"/>
                <a:ext cx="42289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7" name="Rectangle 10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til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8" name="Object 4"/>
              <p:cNvSpPr txBox="1"/>
              <p:nvPr/>
            </p:nvSpPr>
            <p:spPr>
              <a:xfrm>
                <a:off x="2268360" y="1125360"/>
                <a:ext cx="42292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9" name="Rectangle 5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til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6"/>
              <p:cNvSpPr txBox="1"/>
              <p:nvPr/>
            </p:nvSpPr>
            <p:spPr>
              <a:xfrm>
                <a:off x="1835280" y="2481120"/>
                <a:ext cx="49496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7"/>
              <p:cNvSpPr txBox="1"/>
              <p:nvPr/>
            </p:nvSpPr>
            <p:spPr>
              <a:xfrm>
                <a:off x="1811160" y="3984480"/>
                <a:ext cx="49975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8"/>
              <p:cNvSpPr txBox="1"/>
              <p:nvPr/>
            </p:nvSpPr>
            <p:spPr>
              <a:xfrm>
                <a:off x="2585880" y="5398920"/>
                <a:ext cx="3436920" cy="4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4"/>
          <p:cNvSpPr/>
          <p:nvPr/>
        </p:nvSpPr>
        <p:spPr>
          <a:xfrm>
            <a:off x="1547640" y="1197000"/>
            <a:ext cx="201636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fferenzia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5435640" y="1197000"/>
            <a:ext cx="20160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l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 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fferenzia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1547640" y="3862440"/>
            <a:ext cx="201636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geb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5435640" y="3860640"/>
            <a:ext cx="201600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l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 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geb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8"/>
          <p:cNvSpPr/>
          <p:nvPr/>
        </p:nvSpPr>
        <p:spPr>
          <a:xfrm>
            <a:off x="3997440" y="155736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9"/>
          <p:cNvSpPr/>
          <p:nvPr/>
        </p:nvSpPr>
        <p:spPr>
          <a:xfrm flipH="1" flipV="1" rot="16200000">
            <a:off x="2016000" y="2889360"/>
            <a:ext cx="935280" cy="576000"/>
          </a:xfrm>
          <a:prstGeom prst="rightArrow">
            <a:avLst>
              <a:gd name="adj1" fmla="val 50000"/>
              <a:gd name="adj2" fmla="val 405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0"/>
          <p:cNvSpPr/>
          <p:nvPr/>
        </p:nvSpPr>
        <p:spPr>
          <a:xfrm>
            <a:off x="3995640" y="4149720"/>
            <a:ext cx="935280" cy="576360"/>
          </a:xfrm>
          <a:prstGeom prst="rightArrow">
            <a:avLst>
              <a:gd name="adj1" fmla="val 50000"/>
              <a:gd name="adj2" fmla="val 4056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1"/>
          <p:cNvSpPr/>
          <p:nvPr/>
        </p:nvSpPr>
        <p:spPr>
          <a:xfrm flipH="1" rot="5400000">
            <a:off x="5976360" y="288720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12"/>
              <p:cNvSpPr txBox="1"/>
              <p:nvPr/>
            </p:nvSpPr>
            <p:spPr>
              <a:xfrm>
                <a:off x="2916360" y="2852640"/>
                <a:ext cx="365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13"/>
              <p:cNvSpPr txBox="1"/>
              <p:nvPr/>
            </p:nvSpPr>
            <p:spPr>
              <a:xfrm>
                <a:off x="6845400" y="2819520"/>
                <a:ext cx="56340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5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cniche di antitras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324000" y="981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razione razionale prop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8"/>
              <p:cNvSpPr txBox="1"/>
              <p:nvPr/>
            </p:nvSpPr>
            <p:spPr>
              <a:xfrm>
                <a:off x="3708360" y="1413000"/>
                <a:ext cx="153684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6" name="Rectangle 10"/>
          <p:cNvSpPr/>
          <p:nvPr/>
        </p:nvSpPr>
        <p:spPr>
          <a:xfrm>
            <a:off x="468360" y="2997360"/>
            <a:ext cx="2879640" cy="502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enominatore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(s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1"/>
          <p:cNvSpPr/>
          <p:nvPr/>
        </p:nvSpPr>
        <p:spPr>
          <a:xfrm>
            <a:off x="684360" y="3646440"/>
            <a:ext cx="395892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radici disti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2"/>
          <p:cNvSpPr/>
          <p:nvPr/>
        </p:nvSpPr>
        <p:spPr>
          <a:xfrm>
            <a:off x="684360" y="4294080"/>
            <a:ext cx="395892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dici con molteplicità maggiore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684360" y="4941720"/>
            <a:ext cx="395892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dici complesse coniu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cniche di antitras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5508720" y="119160"/>
            <a:ext cx="287964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enominatore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(s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4427640" y="622440"/>
            <a:ext cx="3959280" cy="502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radici disti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7"/>
              <p:cNvSpPr txBox="1"/>
              <p:nvPr/>
            </p:nvSpPr>
            <p:spPr>
              <a:xfrm>
                <a:off x="2124000" y="2565360"/>
                <a:ext cx="37940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8"/>
              <p:cNvSpPr txBox="1"/>
              <p:nvPr/>
            </p:nvSpPr>
            <p:spPr>
              <a:xfrm>
                <a:off x="2050920" y="3697200"/>
                <a:ext cx="45878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65" name="Group 14"/>
          <p:cNvGrpSpPr/>
          <p:nvPr/>
        </p:nvGrpSpPr>
        <p:grpSpPr>
          <a:xfrm>
            <a:off x="4282920" y="3070080"/>
            <a:ext cx="4321080" cy="863640"/>
            <a:chOff x="4282920" y="3070080"/>
            <a:chExt cx="4321080" cy="863640"/>
          </a:xfrm>
        </p:grpSpPr>
        <p:sp>
          <p:nvSpPr>
            <p:cNvPr id="366" name="Oval 9"/>
            <p:cNvSpPr/>
            <p:nvPr/>
          </p:nvSpPr>
          <p:spPr>
            <a:xfrm>
              <a:off x="4282920" y="3070080"/>
              <a:ext cx="36036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12"/>
            <p:cNvGrpSpPr/>
            <p:nvPr/>
          </p:nvGrpSpPr>
          <p:grpSpPr>
            <a:xfrm>
              <a:off x="4498920" y="3430440"/>
              <a:ext cx="2665080" cy="216000"/>
              <a:chOff x="4498920" y="3430440"/>
              <a:chExt cx="2665080" cy="216000"/>
            </a:xfrm>
          </p:grpSpPr>
          <p:sp>
            <p:nvSpPr>
              <p:cNvPr id="368" name="Line 10"/>
              <p:cNvSpPr/>
              <p:nvPr/>
            </p:nvSpPr>
            <p:spPr>
              <a:xfrm>
                <a:off x="4498920" y="3430440"/>
                <a:ext cx="0" cy="216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11"/>
              <p:cNvSpPr/>
              <p:nvPr/>
            </p:nvSpPr>
            <p:spPr>
              <a:xfrm>
                <a:off x="4498920" y="3646440"/>
                <a:ext cx="26650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Rectangle 13"/>
            <p:cNvSpPr/>
            <p:nvPr/>
          </p:nvSpPr>
          <p:spPr>
            <a:xfrm>
              <a:off x="7164000" y="3430440"/>
              <a:ext cx="1440000" cy="503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PO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15"/>
          <p:cNvGrpSpPr/>
          <p:nvPr/>
        </p:nvGrpSpPr>
        <p:grpSpPr>
          <a:xfrm>
            <a:off x="4282920" y="3718080"/>
            <a:ext cx="4321080" cy="862920"/>
            <a:chOff x="4282920" y="3718080"/>
            <a:chExt cx="4321080" cy="862920"/>
          </a:xfrm>
        </p:grpSpPr>
        <p:sp>
          <p:nvSpPr>
            <p:cNvPr id="372" name="Oval 16"/>
            <p:cNvSpPr/>
            <p:nvPr/>
          </p:nvSpPr>
          <p:spPr>
            <a:xfrm>
              <a:off x="4282920" y="3718080"/>
              <a:ext cx="360360" cy="360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Group 17"/>
            <p:cNvGrpSpPr/>
            <p:nvPr/>
          </p:nvGrpSpPr>
          <p:grpSpPr>
            <a:xfrm>
              <a:off x="4498920" y="4078080"/>
              <a:ext cx="2665080" cy="215640"/>
              <a:chOff x="4498920" y="4078080"/>
              <a:chExt cx="2665080" cy="215640"/>
            </a:xfrm>
          </p:grpSpPr>
          <p:sp>
            <p:nvSpPr>
              <p:cNvPr id="374" name="Line 18"/>
              <p:cNvSpPr/>
              <p:nvPr/>
            </p:nvSpPr>
            <p:spPr>
              <a:xfrm>
                <a:off x="4498920" y="4078080"/>
                <a:ext cx="0" cy="215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9"/>
              <p:cNvSpPr/>
              <p:nvPr/>
            </p:nvSpPr>
            <p:spPr>
              <a:xfrm>
                <a:off x="4498920" y="4293720"/>
                <a:ext cx="26650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Rectangle 20"/>
            <p:cNvSpPr/>
            <p:nvPr/>
          </p:nvSpPr>
          <p:spPr>
            <a:xfrm>
              <a:off x="7164000" y="4078080"/>
              <a:ext cx="1440000" cy="502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SIDU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6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cniche di antitras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5508720" y="119160"/>
            <a:ext cx="287964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enominatore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(s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4427640" y="622440"/>
            <a:ext cx="3959280" cy="502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radici disti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9"/>
              <p:cNvSpPr txBox="1"/>
              <p:nvPr/>
            </p:nvSpPr>
            <p:spPr>
              <a:xfrm>
                <a:off x="552600" y="1484280"/>
                <a:ext cx="69404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1" name="Rectangle 11"/>
          <p:cNvSpPr/>
          <p:nvPr/>
        </p:nvSpPr>
        <p:spPr>
          <a:xfrm>
            <a:off x="611280" y="2565360"/>
            <a:ext cx="287964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lcoliamo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12"/>
              <p:cNvSpPr txBox="1"/>
              <p:nvPr/>
            </p:nvSpPr>
            <p:spPr>
              <a:xfrm>
                <a:off x="168120" y="3645000"/>
                <a:ext cx="77328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3" name="Line 13"/>
          <p:cNvSpPr/>
          <p:nvPr/>
        </p:nvSpPr>
        <p:spPr>
          <a:xfrm flipV="1">
            <a:off x="1042920" y="3645000"/>
            <a:ext cx="792360" cy="4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4"/>
          <p:cNvSpPr/>
          <p:nvPr/>
        </p:nvSpPr>
        <p:spPr>
          <a:xfrm flipV="1">
            <a:off x="395280" y="4003560"/>
            <a:ext cx="792000" cy="4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5"/>
          <p:cNvSpPr/>
          <p:nvPr/>
        </p:nvSpPr>
        <p:spPr>
          <a:xfrm flipV="1">
            <a:off x="3635280" y="3573360"/>
            <a:ext cx="792360" cy="4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6"/>
          <p:cNvSpPr/>
          <p:nvPr/>
        </p:nvSpPr>
        <p:spPr>
          <a:xfrm flipV="1">
            <a:off x="3780000" y="4003560"/>
            <a:ext cx="792000" cy="4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17"/>
              <p:cNvSpPr txBox="1"/>
              <p:nvPr/>
            </p:nvSpPr>
            <p:spPr>
              <a:xfrm>
                <a:off x="1027080" y="4921200"/>
                <a:ext cx="60530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18"/>
              <p:cNvSpPr txBox="1"/>
              <p:nvPr/>
            </p:nvSpPr>
            <p:spPr>
              <a:xfrm>
                <a:off x="2460600" y="5856120"/>
                <a:ext cx="31464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umeri comples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5"/>
          <p:cNvGrpSpPr/>
          <p:nvPr/>
        </p:nvGrpSpPr>
        <p:grpSpPr>
          <a:xfrm>
            <a:off x="179280" y="620640"/>
            <a:ext cx="3446280" cy="2303640"/>
            <a:chOff x="179280" y="620640"/>
            <a:chExt cx="3446280" cy="2303640"/>
          </a:xfrm>
        </p:grpSpPr>
        <p:sp>
          <p:nvSpPr>
            <p:cNvPr id="95" name="Line 6"/>
            <p:cNvSpPr/>
            <p:nvPr/>
          </p:nvSpPr>
          <p:spPr>
            <a:xfrm>
              <a:off x="179280" y="1987560"/>
              <a:ext cx="30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7"/>
            <p:cNvSpPr/>
            <p:nvPr/>
          </p:nvSpPr>
          <p:spPr>
            <a:xfrm flipV="1">
              <a:off x="1547640" y="90828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3185640" y="186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9"/>
            <p:cNvSpPr/>
            <p:nvPr/>
          </p:nvSpPr>
          <p:spPr>
            <a:xfrm>
              <a:off x="1117440" y="620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0"/>
            <p:cNvSpPr/>
            <p:nvPr/>
          </p:nvSpPr>
          <p:spPr>
            <a:xfrm flipV="1">
              <a:off x="1547640" y="1196640"/>
              <a:ext cx="936720" cy="79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Object 11"/>
                <p:cNvSpPr txBox="1"/>
                <p:nvPr/>
              </p:nvSpPr>
              <p:spPr>
                <a:xfrm>
                  <a:off x="2555640" y="981000"/>
                  <a:ext cx="1028880" cy="30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jy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01" name="Object 12"/>
            <p:cNvGraphicFramePr/>
            <p:nvPr/>
          </p:nvGraphicFramePr>
          <p:xfrm>
            <a:off x="1979280" y="1629000"/>
            <a:ext cx="252720" cy="298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2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79280" y="1629000"/>
                      <a:ext cx="252720" cy="29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3" name="Line 13"/>
            <p:cNvSpPr/>
            <p:nvPr/>
          </p:nvSpPr>
          <p:spPr>
            <a:xfrm>
              <a:off x="1547640" y="1989360"/>
              <a:ext cx="936720" cy="7189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Object 14"/>
                <p:cNvSpPr txBox="1"/>
                <p:nvPr/>
              </p:nvSpPr>
              <p:spPr>
                <a:xfrm>
                  <a:off x="2516040" y="2514600"/>
                  <a:ext cx="1109520" cy="37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z</m:t>
                          </m:r>
                        </m:e>
                        <m:sup/>
                      </m:sSup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jy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05" name="Object 9"/>
            <p:cNvGraphicFramePr/>
            <p:nvPr/>
          </p:nvGraphicFramePr>
          <p:xfrm>
            <a:off x="2555640" y="981000"/>
            <a:ext cx="1028880" cy="308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6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55640" y="981000"/>
                      <a:ext cx="1028880" cy="30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07" name="Object 15"/>
          <p:cNvGraphicFramePr/>
          <p:nvPr/>
        </p:nvGraphicFramePr>
        <p:xfrm>
          <a:off x="4284720" y="1268280"/>
          <a:ext cx="2367000" cy="1366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4720" y="1268280"/>
                    <a:ext cx="2367000" cy="13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16"/>
          <p:cNvSpPr/>
          <p:nvPr/>
        </p:nvSpPr>
        <p:spPr>
          <a:xfrm>
            <a:off x="6804000" y="1557360"/>
            <a:ext cx="2087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igonome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801360" y="3355920"/>
            <a:ext cx="273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icordando le formule di Euler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8"/>
              <p:cNvSpPr txBox="1"/>
              <p:nvPr/>
            </p:nvSpPr>
            <p:spPr>
              <a:xfrm>
                <a:off x="3851280" y="3068640"/>
                <a:ext cx="22986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ϕ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ϕ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19"/>
              <p:cNvSpPr txBox="1"/>
              <p:nvPr/>
            </p:nvSpPr>
            <p:spPr>
              <a:xfrm>
                <a:off x="1403280" y="4724280"/>
                <a:ext cx="223056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ϕ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ϕ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ϕ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ϕ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20"/>
              <p:cNvSpPr txBox="1"/>
              <p:nvPr/>
            </p:nvSpPr>
            <p:spPr>
              <a:xfrm>
                <a:off x="5148360" y="4437000"/>
                <a:ext cx="2003400" cy="15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ϕ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ϕ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ϕ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ϕ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" name="Line 10"/>
          <p:cNvSpPr/>
          <p:nvPr/>
        </p:nvSpPr>
        <p:spPr>
          <a:xfrm>
            <a:off x="1547640" y="198900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0"/>
          <p:cNvSpPr/>
          <p:nvPr/>
        </p:nvSpPr>
        <p:spPr>
          <a:xfrm flipV="1">
            <a:off x="154764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21"/>
          <p:cNvGraphicFramePr/>
          <p:nvPr/>
        </p:nvGraphicFramePr>
        <p:xfrm>
          <a:off x="2411280" y="1989000"/>
          <a:ext cx="204840" cy="227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11280" y="1989000"/>
                    <a:ext cx="204840" cy="2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22"/>
          <p:cNvGraphicFramePr/>
          <p:nvPr/>
        </p:nvGraphicFramePr>
        <p:xfrm>
          <a:off x="1187280" y="1125360"/>
          <a:ext cx="308160" cy="30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9" name="Object 2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87280" y="1125360"/>
                    <a:ext cx="30816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23"/>
          <p:cNvGraphicFramePr/>
          <p:nvPr/>
        </p:nvGraphicFramePr>
        <p:xfrm>
          <a:off x="1835280" y="1052640"/>
          <a:ext cx="296640" cy="45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1" name="Object 2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35280" y="1052640"/>
                    <a:ext cx="29664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cniche di antitras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5508720" y="119160"/>
            <a:ext cx="287964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enominatore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(s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4427640" y="622440"/>
            <a:ext cx="3959280" cy="502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radici disti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7"/>
              <p:cNvSpPr txBox="1"/>
              <p:nvPr/>
            </p:nvSpPr>
            <p:spPr>
              <a:xfrm>
                <a:off x="2124000" y="1484280"/>
                <a:ext cx="37940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8"/>
              <p:cNvSpPr txBox="1"/>
              <p:nvPr/>
            </p:nvSpPr>
            <p:spPr>
              <a:xfrm>
                <a:off x="1943280" y="2421000"/>
                <a:ext cx="45878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9"/>
              <p:cNvSpPr txBox="1"/>
              <p:nvPr/>
            </p:nvSpPr>
            <p:spPr>
              <a:xfrm>
                <a:off x="2268360" y="4221000"/>
                <a:ext cx="434844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Rectangle 10"/>
          <p:cNvSpPr/>
          <p:nvPr/>
        </p:nvSpPr>
        <p:spPr>
          <a:xfrm>
            <a:off x="2050920" y="3933720"/>
            <a:ext cx="4826160" cy="1079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cniche di antitras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5508720" y="119160"/>
            <a:ext cx="287964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enominatore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(s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4427640" y="622440"/>
            <a:ext cx="3959280" cy="502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radici disti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7"/>
              <p:cNvSpPr txBox="1"/>
              <p:nvPr/>
            </p:nvSpPr>
            <p:spPr>
              <a:xfrm>
                <a:off x="755640" y="1930320"/>
                <a:ext cx="7662960" cy="17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d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erciz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5"/>
              <p:cNvSpPr txBox="1"/>
              <p:nvPr/>
            </p:nvSpPr>
            <p:spPr>
              <a:xfrm>
                <a:off x="3228840" y="1495440"/>
                <a:ext cx="158436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cniche di antitras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5508720" y="119160"/>
            <a:ext cx="287964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enominatore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(s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4427640" y="622440"/>
            <a:ext cx="3959280" cy="502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dici con molteplicità maggiore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7"/>
              <p:cNvSpPr txBox="1"/>
              <p:nvPr/>
            </p:nvSpPr>
            <p:spPr>
              <a:xfrm>
                <a:off x="2747880" y="2554200"/>
                <a:ext cx="25448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…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μ</m:t>
                            </m:r>
                          </m:sup>
                        </m:sSup>
                        <m:r>
                          <m:t xml:space="preserve">…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8"/>
              <p:cNvSpPr txBox="1"/>
              <p:nvPr/>
            </p:nvSpPr>
            <p:spPr>
              <a:xfrm>
                <a:off x="1787400" y="3660840"/>
                <a:ext cx="511668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μ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μ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kμ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7" name="Object 4"/>
              <p:cNvSpPr txBox="1"/>
              <p:nvPr/>
            </p:nvSpPr>
            <p:spPr>
              <a:xfrm>
                <a:off x="793800" y="1449360"/>
                <a:ext cx="645948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μ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μ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μ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kμ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8" name="Rectangle 5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cniche di antitras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5508720" y="119160"/>
            <a:ext cx="287964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enominatore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(s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4427640" y="622440"/>
            <a:ext cx="3959280" cy="502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dici con molteplicità maggiore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611280" y="2565360"/>
            <a:ext cx="287964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lcoliamo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Object 9"/>
              <p:cNvSpPr txBox="1"/>
              <p:nvPr/>
            </p:nvSpPr>
            <p:spPr>
              <a:xfrm>
                <a:off x="801720" y="3673440"/>
                <a:ext cx="73706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μ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μ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μ</m:t>
                            </m:r>
                          </m:sup>
                        </m:s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μ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μ</m:t>
                            </m:r>
                          </m:sup>
                        </m:s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μ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μ</m:t>
                            </m:r>
                          </m:sup>
                        </m:s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kμ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3" name="Line 10"/>
          <p:cNvSpPr/>
          <p:nvPr/>
        </p:nvSpPr>
        <p:spPr>
          <a:xfrm flipV="1">
            <a:off x="826920" y="3789360"/>
            <a:ext cx="792360" cy="4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"/>
          <p:cNvSpPr/>
          <p:nvPr/>
        </p:nvSpPr>
        <p:spPr>
          <a:xfrm flipV="1">
            <a:off x="1258920" y="4147920"/>
            <a:ext cx="792000" cy="43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2"/>
          <p:cNvSpPr/>
          <p:nvPr/>
        </p:nvSpPr>
        <p:spPr>
          <a:xfrm flipV="1">
            <a:off x="2843280" y="3717720"/>
            <a:ext cx="792000" cy="43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3"/>
          <p:cNvSpPr/>
          <p:nvPr/>
        </p:nvSpPr>
        <p:spPr>
          <a:xfrm flipV="1">
            <a:off x="2916360" y="4147920"/>
            <a:ext cx="792000" cy="43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14"/>
              <p:cNvSpPr txBox="1"/>
              <p:nvPr/>
            </p:nvSpPr>
            <p:spPr>
              <a:xfrm>
                <a:off x="3060720" y="5086440"/>
                <a:ext cx="27622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μ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cniche di antitras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5508720" y="119160"/>
            <a:ext cx="287964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enominatore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(s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4427640" y="622440"/>
            <a:ext cx="3959280" cy="502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dici con molteplicità maggiore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611280" y="1484280"/>
            <a:ext cx="287964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lcoliamo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k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8"/>
              <p:cNvSpPr txBox="1"/>
              <p:nvPr/>
            </p:nvSpPr>
            <p:spPr>
              <a:xfrm>
                <a:off x="297000" y="2779560"/>
                <a:ext cx="837864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μ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μ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9"/>
              <p:cNvSpPr txBox="1"/>
              <p:nvPr/>
            </p:nvSpPr>
            <p:spPr>
              <a:xfrm>
                <a:off x="600120" y="3600360"/>
                <a:ext cx="77788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μ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μ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10"/>
              <p:cNvSpPr txBox="1"/>
              <p:nvPr/>
            </p:nvSpPr>
            <p:spPr>
              <a:xfrm>
                <a:off x="2857680" y="4978440"/>
                <a:ext cx="317016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lim>
                    </m:limLow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μ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cniche di antitras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5"/>
          <p:cNvSpPr/>
          <p:nvPr/>
        </p:nvSpPr>
        <p:spPr>
          <a:xfrm>
            <a:off x="5508720" y="119160"/>
            <a:ext cx="287964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enominatore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(s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6"/>
          <p:cNvSpPr/>
          <p:nvPr/>
        </p:nvSpPr>
        <p:spPr>
          <a:xfrm>
            <a:off x="4427640" y="622440"/>
            <a:ext cx="3959280" cy="502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dici con molteplicità maggiore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611280" y="1484280"/>
            <a:ext cx="287964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lcoliamo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k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8"/>
              <p:cNvSpPr txBox="1"/>
              <p:nvPr/>
            </p:nvSpPr>
            <p:spPr>
              <a:xfrm>
                <a:off x="600120" y="2689200"/>
                <a:ext cx="77788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μ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μ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9"/>
              <p:cNvSpPr txBox="1"/>
              <p:nvPr/>
            </p:nvSpPr>
            <p:spPr>
              <a:xfrm>
                <a:off x="946080" y="3529080"/>
                <a:ext cx="71056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μ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μ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10"/>
              <p:cNvSpPr txBox="1"/>
              <p:nvPr/>
            </p:nvSpPr>
            <p:spPr>
              <a:xfrm>
                <a:off x="2689200" y="4978440"/>
                <a:ext cx="350676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lim>
                    </m:limLow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μ</m:t>
                                </m:r>
                              </m:sup>
                            </m:sSup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cniche di antitras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5"/>
          <p:cNvSpPr/>
          <p:nvPr/>
        </p:nvSpPr>
        <p:spPr>
          <a:xfrm>
            <a:off x="5508720" y="119160"/>
            <a:ext cx="287964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enominatore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(s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4427640" y="622440"/>
            <a:ext cx="3959280" cy="502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dici con molteplicità maggiore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611280" y="1484280"/>
            <a:ext cx="287964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lcoliamo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k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Object 8"/>
              <p:cNvSpPr txBox="1"/>
              <p:nvPr/>
            </p:nvSpPr>
            <p:spPr>
              <a:xfrm>
                <a:off x="1392120" y="2541600"/>
                <a:ext cx="610092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lim>
                    </m:limLow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μ</m:t>
                                </m:r>
                              </m:sup>
                            </m:sSup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7" name="Text Box 9"/>
          <p:cNvSpPr/>
          <p:nvPr/>
        </p:nvSpPr>
        <p:spPr>
          <a:xfrm>
            <a:off x="590040" y="414828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icordando 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Object 10"/>
              <p:cNvSpPr txBox="1"/>
              <p:nvPr/>
            </p:nvSpPr>
            <p:spPr>
              <a:xfrm>
                <a:off x="2268360" y="3860640"/>
                <a:ext cx="223380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9" name="AutoShape 11"/>
          <p:cNvSpPr/>
          <p:nvPr/>
        </p:nvSpPr>
        <p:spPr>
          <a:xfrm>
            <a:off x="2340000" y="5086440"/>
            <a:ext cx="649440" cy="287280"/>
          </a:xfrm>
          <a:prstGeom prst="rightArrow">
            <a:avLst>
              <a:gd name="adj1" fmla="val 50000"/>
              <a:gd name="adj2" fmla="val 565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12"/>
              <p:cNvSpPr txBox="1"/>
              <p:nvPr/>
            </p:nvSpPr>
            <p:spPr>
              <a:xfrm>
                <a:off x="3203640" y="4724280"/>
                <a:ext cx="33861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erciz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5"/>
              <p:cNvSpPr txBox="1"/>
              <p:nvPr/>
            </p:nvSpPr>
            <p:spPr>
              <a:xfrm>
                <a:off x="2809800" y="1460520"/>
                <a:ext cx="24242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s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cniche di antitras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5508720" y="119160"/>
            <a:ext cx="287964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enominatore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(s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4427640" y="622440"/>
            <a:ext cx="3959280" cy="502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dici complesse coniu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7"/>
              <p:cNvSpPr txBox="1"/>
              <p:nvPr/>
            </p:nvSpPr>
            <p:spPr>
              <a:xfrm>
                <a:off x="2556000" y="1413000"/>
                <a:ext cx="254448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8"/>
              <p:cNvSpPr txBox="1"/>
              <p:nvPr/>
            </p:nvSpPr>
            <p:spPr>
              <a:xfrm>
                <a:off x="6108840" y="1542960"/>
                <a:ext cx="13683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10"/>
              <p:cNvSpPr txBox="1"/>
              <p:nvPr/>
            </p:nvSpPr>
            <p:spPr>
              <a:xfrm>
                <a:off x="1932120" y="2840040"/>
                <a:ext cx="44161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/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11"/>
              <p:cNvSpPr txBox="1"/>
              <p:nvPr/>
            </p:nvSpPr>
            <p:spPr>
              <a:xfrm>
                <a:off x="777960" y="4184640"/>
                <a:ext cx="53067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p</m:t>
                        </m:r>
                      </m:lim>
                    </m:limLow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12"/>
              <p:cNvSpPr txBox="1"/>
              <p:nvPr/>
            </p:nvSpPr>
            <p:spPr>
              <a:xfrm>
                <a:off x="766800" y="5062680"/>
                <a:ext cx="59054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</m:lim>
                    </m:limLow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/>
                        </m:sSup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j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umeri comples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5"/>
          <p:cNvGrpSpPr/>
          <p:nvPr/>
        </p:nvGrpSpPr>
        <p:grpSpPr>
          <a:xfrm>
            <a:off x="179280" y="620640"/>
            <a:ext cx="3446280" cy="2303640"/>
            <a:chOff x="179280" y="620640"/>
            <a:chExt cx="3446280" cy="2303640"/>
          </a:xfrm>
        </p:grpSpPr>
        <p:sp>
          <p:nvSpPr>
            <p:cNvPr id="124" name="Line 6"/>
            <p:cNvSpPr/>
            <p:nvPr/>
          </p:nvSpPr>
          <p:spPr>
            <a:xfrm>
              <a:off x="179280" y="1987560"/>
              <a:ext cx="30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7"/>
            <p:cNvSpPr/>
            <p:nvPr/>
          </p:nvSpPr>
          <p:spPr>
            <a:xfrm flipV="1">
              <a:off x="1547640" y="90828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8"/>
            <p:cNvSpPr/>
            <p:nvPr/>
          </p:nvSpPr>
          <p:spPr>
            <a:xfrm>
              <a:off x="3185640" y="186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9"/>
            <p:cNvSpPr/>
            <p:nvPr/>
          </p:nvSpPr>
          <p:spPr>
            <a:xfrm>
              <a:off x="1117440" y="620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 flipV="1">
              <a:off x="1547640" y="1196640"/>
              <a:ext cx="936720" cy="79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Object 11"/>
                <p:cNvSpPr txBox="1"/>
                <p:nvPr/>
              </p:nvSpPr>
              <p:spPr>
                <a:xfrm>
                  <a:off x="2555640" y="981000"/>
                  <a:ext cx="1028880" cy="30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j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0" name="Object 12"/>
                <p:cNvSpPr txBox="1"/>
                <p:nvPr/>
              </p:nvSpPr>
              <p:spPr>
                <a:xfrm>
                  <a:off x="1979280" y="1629000"/>
                  <a:ext cx="25272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ϕ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1" name="Line 13"/>
            <p:cNvSpPr/>
            <p:nvPr/>
          </p:nvSpPr>
          <p:spPr>
            <a:xfrm>
              <a:off x="1547640" y="1989360"/>
              <a:ext cx="936720" cy="7189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" name="Object 14"/>
                <p:cNvSpPr txBox="1"/>
                <p:nvPr/>
              </p:nvSpPr>
              <p:spPr>
                <a:xfrm>
                  <a:off x="2516040" y="2514600"/>
                  <a:ext cx="1109520" cy="37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z</m:t>
                          </m:r>
                        </m:e>
                        <m:sup/>
                      </m:sSup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jy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3" name="Object 15"/>
              <p:cNvSpPr txBox="1"/>
              <p:nvPr/>
            </p:nvSpPr>
            <p:spPr>
              <a:xfrm>
                <a:off x="5003640" y="1700280"/>
                <a:ext cx="102420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ϕ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4" name="Rectangle 16"/>
          <p:cNvSpPr/>
          <p:nvPr/>
        </p:nvSpPr>
        <p:spPr>
          <a:xfrm>
            <a:off x="6804000" y="1557360"/>
            <a:ext cx="2087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ponenz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7"/>
              <p:cNvSpPr txBox="1"/>
              <p:nvPr/>
            </p:nvSpPr>
            <p:spPr>
              <a:xfrm>
                <a:off x="2484360" y="3284640"/>
                <a:ext cx="345924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y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ϕ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36" name="Object 16"/>
          <p:cNvGraphicFramePr/>
          <p:nvPr/>
        </p:nvGraphicFramePr>
        <p:xfrm>
          <a:off x="4959360" y="5084640"/>
          <a:ext cx="1114560" cy="4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9360" y="5084640"/>
                    <a:ext cx="111456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Rectangle 16"/>
          <p:cNvSpPr/>
          <p:nvPr/>
        </p:nvSpPr>
        <p:spPr>
          <a:xfrm>
            <a:off x="6804000" y="4941720"/>
            <a:ext cx="208764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15"/>
          <p:cNvGraphicFramePr/>
          <p:nvPr/>
        </p:nvGraphicFramePr>
        <p:xfrm>
          <a:off x="1835280" y="1052640"/>
          <a:ext cx="295200" cy="45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1052640"/>
                    <a:ext cx="29520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cniche di antitras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5508720" y="119160"/>
            <a:ext cx="287964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enominatore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(s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4427640" y="622440"/>
            <a:ext cx="3959280" cy="502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dici complesse coniu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7"/>
              <p:cNvSpPr txBox="1"/>
              <p:nvPr/>
            </p:nvSpPr>
            <p:spPr>
              <a:xfrm>
                <a:off x="2195640" y="1341360"/>
                <a:ext cx="39844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v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σ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v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σ</m:t>
                            </m:r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8"/>
              <p:cNvSpPr txBox="1"/>
              <p:nvPr/>
            </p:nvSpPr>
            <p:spPr>
              <a:xfrm>
                <a:off x="1116000" y="2349360"/>
                <a:ext cx="691344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ctg</m:t>
                            </m:r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u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σ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ω</m:t>
                                </m:r>
                              </m:e>
                            </m:d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ctg</m:t>
                            </m:r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u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σ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</m:e>
                            </m:d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σt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rctg</m:t>
                                    </m:r>
                                    <m:f>
                                      <m:num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u</m:t>
                                        </m:r>
                                      </m:den>
                                    </m:f>
                                  </m:e>
                                </m:d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rctg</m:t>
                                    </m:r>
                                    <m:f>
                                      <m:num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u</m:t>
                                        </m:r>
                                      </m:den>
                                    </m:f>
                                  </m:e>
                                </m:d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9"/>
              <p:cNvSpPr txBox="1"/>
              <p:nvPr/>
            </p:nvSpPr>
            <p:spPr>
              <a:xfrm>
                <a:off x="1066680" y="3933720"/>
                <a:ext cx="588168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σt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rctg</m:t>
                                    </m:r>
                                    <m:f>
                                      <m:num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u</m:t>
                                        </m:r>
                                      </m:den>
                                    </m:f>
                                  </m:e>
                                </m:d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rctg</m:t>
                                    </m:r>
                                    <m:f>
                                      <m:num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u</m:t>
                                        </m:r>
                                      </m:den>
                                    </m:f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10"/>
              <p:cNvSpPr txBox="1"/>
              <p:nvPr/>
            </p:nvSpPr>
            <p:spPr>
              <a:xfrm>
                <a:off x="1908000" y="5589720"/>
                <a:ext cx="48974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σ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u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2181240" cy="14097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"/>
          <p:cNvPicPr/>
          <p:nvPr/>
        </p:nvPicPr>
        <p:blipFill>
          <a:blip r:embed="rId2"/>
          <a:stretch/>
        </p:blipFill>
        <p:spPr>
          <a:xfrm>
            <a:off x="1835280" y="2781360"/>
            <a:ext cx="5438520" cy="5522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6" descr=""/>
          <p:cNvPicPr/>
          <p:nvPr/>
        </p:nvPicPr>
        <p:blipFill>
          <a:blip r:embed="rId3"/>
          <a:stretch/>
        </p:blipFill>
        <p:spPr>
          <a:xfrm>
            <a:off x="1619280" y="3716280"/>
            <a:ext cx="5143320" cy="96192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7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erciz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5" descr=""/>
          <p:cNvPicPr/>
          <p:nvPr/>
        </p:nvPicPr>
        <p:blipFill>
          <a:blip r:embed="rId1"/>
          <a:stretch/>
        </p:blipFill>
        <p:spPr>
          <a:xfrm>
            <a:off x="1486080" y="1628640"/>
            <a:ext cx="6172200" cy="77184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6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unzione di trasfer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7" descr=""/>
          <p:cNvPicPr/>
          <p:nvPr/>
        </p:nvPicPr>
        <p:blipFill>
          <a:blip r:embed="rId2"/>
          <a:stretch/>
        </p:blipFill>
        <p:spPr>
          <a:xfrm>
            <a:off x="2195640" y="4437000"/>
            <a:ext cx="4895640" cy="9334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8" descr=""/>
          <p:cNvPicPr/>
          <p:nvPr/>
        </p:nvPicPr>
        <p:blipFill>
          <a:blip r:embed="rId3"/>
          <a:stretch/>
        </p:blipFill>
        <p:spPr>
          <a:xfrm>
            <a:off x="2843280" y="2708280"/>
            <a:ext cx="322884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4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819680" cy="221940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5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unzione di trasfer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6" descr=""/>
          <p:cNvPicPr/>
          <p:nvPr/>
        </p:nvPicPr>
        <p:blipFill>
          <a:blip r:embed="rId2"/>
          <a:stretch/>
        </p:blipFill>
        <p:spPr>
          <a:xfrm>
            <a:off x="1979640" y="4221000"/>
            <a:ext cx="56102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4" descr=""/>
          <p:cNvPicPr/>
          <p:nvPr/>
        </p:nvPicPr>
        <p:blipFill>
          <a:blip r:embed="rId1"/>
          <a:stretch/>
        </p:blipFill>
        <p:spPr>
          <a:xfrm>
            <a:off x="1700280" y="1833480"/>
            <a:ext cx="5743440" cy="319104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5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unzione di trasfer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4" descr=""/>
          <p:cNvPicPr/>
          <p:nvPr/>
        </p:nvPicPr>
        <p:blipFill>
          <a:blip r:embed="rId1"/>
          <a:stretch/>
        </p:blipFill>
        <p:spPr>
          <a:xfrm>
            <a:off x="2428920" y="695160"/>
            <a:ext cx="428616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umeri comples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5"/>
              <p:cNvSpPr txBox="1"/>
              <p:nvPr/>
            </p:nvSpPr>
            <p:spPr>
              <a:xfrm>
                <a:off x="1116000" y="1197000"/>
                <a:ext cx="4573440" cy="15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y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y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y</m:t>
                                </m:r>
                              </m:e>
                            </m:d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y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y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1619280" y="3573360"/>
                <a:ext cx="5824440" cy="245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y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p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p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8"/>
          <p:cNvGrpSpPr/>
          <p:nvPr/>
        </p:nvGrpSpPr>
        <p:grpSpPr>
          <a:xfrm>
            <a:off x="1619280" y="2781360"/>
            <a:ext cx="1800000" cy="1150920"/>
            <a:chOff x="1619280" y="2781360"/>
            <a:chExt cx="1800000" cy="1150920"/>
          </a:xfrm>
        </p:grpSpPr>
        <p:sp>
          <p:nvSpPr>
            <p:cNvPr id="145" name="Rectangle 4"/>
            <p:cNvSpPr/>
            <p:nvPr/>
          </p:nvSpPr>
          <p:spPr>
            <a:xfrm>
              <a:off x="1619280" y="2781360"/>
              <a:ext cx="1800000" cy="1150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6" name="Object 5"/>
                <p:cNvSpPr txBox="1"/>
                <p:nvPr/>
              </p:nvSpPr>
              <p:spPr>
                <a:xfrm>
                  <a:off x="1834920" y="3213360"/>
                  <a:ext cx="1295640" cy="36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 </m:t>
                      </m:r>
                      <m:r>
                        <m:t xml:space="preserve">t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7" name="Group 9"/>
          <p:cNvGrpSpPr/>
          <p:nvPr/>
        </p:nvGrpSpPr>
        <p:grpSpPr>
          <a:xfrm>
            <a:off x="5651640" y="2781360"/>
            <a:ext cx="1800000" cy="1150920"/>
            <a:chOff x="5651640" y="2781360"/>
            <a:chExt cx="1800000" cy="1150920"/>
          </a:xfrm>
        </p:grpSpPr>
        <p:sp>
          <p:nvSpPr>
            <p:cNvPr id="148" name="Rectangle 7"/>
            <p:cNvSpPr/>
            <p:nvPr/>
          </p:nvSpPr>
          <p:spPr>
            <a:xfrm>
              <a:off x="5651640" y="2781360"/>
              <a:ext cx="1800000" cy="1150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Object 6"/>
                <p:cNvSpPr txBox="1"/>
                <p:nvPr/>
              </p:nvSpPr>
              <p:spPr>
                <a:xfrm>
                  <a:off x="5796000" y="2924280"/>
                  <a:ext cx="129528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σ</m:t>
                          </m:r>
                          <m:r>
                            <m:t xml:space="preserve">+</m:t>
                          </m:r>
                          <m:r>
                            <m:t xml:space="preserve">jω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0" name="AutoShape 10"/>
          <p:cNvSpPr/>
          <p:nvPr/>
        </p:nvSpPr>
        <p:spPr>
          <a:xfrm>
            <a:off x="4068720" y="306864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179280" y="333360"/>
            <a:ext cx="4465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trasformata di Laplace è un operatore che associa ad una funzione del tempo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f(t)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definita per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una funzione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F(s)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a valori complessi definita per valori della variabile complessa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1692360" y="4581360"/>
            <a:ext cx="5113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’utilizzo delle trasformate di Laplace consente di semplificare notevolmente i calcoli nella risoluzione di equazioni differenziali: operazioni di derivazione ed integrazione nel dominio del tempo corrispondono ad operazioni di tipo algebrico nel dominio delle trasform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1547640" y="1197000"/>
            <a:ext cx="201636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fferenzia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435640" y="1197000"/>
            <a:ext cx="20160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l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 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fferenzia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1547640" y="3862440"/>
            <a:ext cx="201636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geb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435640" y="3860640"/>
            <a:ext cx="201600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l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 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geb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3997440" y="155736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9"/>
          <p:cNvSpPr/>
          <p:nvPr/>
        </p:nvSpPr>
        <p:spPr>
          <a:xfrm flipH="1" flipV="1" rot="16200000">
            <a:off x="2016000" y="2889360"/>
            <a:ext cx="935280" cy="576000"/>
          </a:xfrm>
          <a:prstGeom prst="rightArrow">
            <a:avLst>
              <a:gd name="adj1" fmla="val 50000"/>
              <a:gd name="adj2" fmla="val 405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3995640" y="4149720"/>
            <a:ext cx="935280" cy="576360"/>
          </a:xfrm>
          <a:prstGeom prst="rightArrow">
            <a:avLst>
              <a:gd name="adj1" fmla="val 50000"/>
              <a:gd name="adj2" fmla="val 4056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1"/>
          <p:cNvSpPr/>
          <p:nvPr/>
        </p:nvSpPr>
        <p:spPr>
          <a:xfrm flipH="1" rot="5400000">
            <a:off x="5976360" y="288720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2"/>
              <p:cNvSpPr txBox="1"/>
              <p:nvPr/>
            </p:nvSpPr>
            <p:spPr>
              <a:xfrm>
                <a:off x="2916360" y="2852640"/>
                <a:ext cx="365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3"/>
              <p:cNvSpPr txBox="1"/>
              <p:nvPr/>
            </p:nvSpPr>
            <p:spPr>
              <a:xfrm>
                <a:off x="6845400" y="2819520"/>
                <a:ext cx="56340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8"/>
          <p:cNvSpPr/>
          <p:nvPr/>
        </p:nvSpPr>
        <p:spPr>
          <a:xfrm>
            <a:off x="2627280" y="333360"/>
            <a:ext cx="3673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3078000" y="369720"/>
                <a:ext cx="277200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5" name="Text Box 5"/>
          <p:cNvSpPr/>
          <p:nvPr/>
        </p:nvSpPr>
        <p:spPr>
          <a:xfrm>
            <a:off x="2627280" y="1844640"/>
            <a:ext cx="417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Qualsiasi funzione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f(t)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, per cui esiste un valore della variabile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ale che l’integrale è finito, si dice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rasformabil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econdo Lapl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50920" y="3716280"/>
            <a:ext cx="475272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’insieme di tutti i valori complessi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per cui esiste, finito, l’integrale e quindi la funzione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F(s)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, viene detto </a:t>
            </a:r>
            <a:r>
              <a:rPr b="0" i="1" lang="it-IT" sz="1400" spc="-1" strike="noStrike">
                <a:solidFill>
                  <a:srgbClr val="ff0000"/>
                </a:solidFill>
                <a:latin typeface="Arial"/>
              </a:rPr>
              <a:t>dominio di convergenz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, ed è rappresentato da un semipiano del piano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, posto a destra di una retta parallela all’asse immaginario, di equazione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Re[s]=</a:t>
            </a:r>
            <a:r>
              <a:rPr b="0" i="1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i="1" lang="it-IT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. Tale retta viene denominata </a:t>
            </a: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asse di convergenz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ed il valore </a:t>
            </a:r>
            <a:r>
              <a:rPr b="0" i="1" lang="el-GR" sz="1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i="1" lang="it-IT" sz="1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i="1" lang="it-IT" sz="1400" spc="-1" strike="noStrike">
                <a:solidFill>
                  <a:srgbClr val="ff0000"/>
                </a:solidFill>
                <a:latin typeface="Arial"/>
              </a:rPr>
              <a:t>ascissa di convergenz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tretch/>
        </p:blipFill>
        <p:spPr>
          <a:xfrm>
            <a:off x="5292720" y="3500280"/>
            <a:ext cx="29624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6T21:57:57Z</dcterms:created>
  <dc:creator>Giuseppe Fedele</dc:creator>
  <dc:description/>
  <dc:language>en-US</dc:language>
  <cp:lastModifiedBy>jk</cp:lastModifiedBy>
  <dcterms:modified xsi:type="dcterms:W3CDTF">2011-02-18T23:50:17Z</dcterms:modified>
  <cp:revision>213</cp:revision>
  <dc:subject/>
  <dc:title>Diapositiva 1</dc:title>
</cp:coreProperties>
</file>