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2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DDA6-B2F6-48A0-B371-71ABF1C750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49C0-0A9F-4EFB-A0E5-2444DAFBA5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1FFA-82A3-4EDA-A869-B794E6F7A8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19C6-B1F9-4086-9772-6F7209B7BA9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006F-184A-4F1F-B1CD-13B460707CC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B616-95CB-4EAA-8F16-1482C71FB9C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C5B1-3042-4F9A-9CFF-F498134A2D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486D-1A92-405E-901D-0C661976B2A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59FA-4D66-4A73-BAD7-37E2C1529B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6DD6-D077-4237-9C5E-D2D9C424445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7958-BA0E-4323-A3C3-EFF7DE48C53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0EBD-9C2E-4831-9F41-E26F239487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0746-E7BA-4BC4-96DF-D60AC980F9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19A4-3913-4467-8354-21BF0D4E5F4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0FDA-2A20-4681-B179-0E06EAD642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DA4A-A52C-4227-A662-372FD1B8A3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F24-309D-4AF7-8672-D470A080084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8FD-4F2D-410E-8270-F98FAB11D9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DFF4-8007-415E-B7A4-0C0CFD1BC9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DFC5-5D0E-444C-9724-DEE16B6DBC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3A15-B8AF-420A-9027-5DB5EACB0DE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D163-68FC-463F-A191-566F564452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FDD8-69D2-4AA1-A16E-6390E8DFC3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255F-C45D-4755-8A14-1088C5082B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45A3-8472-43AB-826C-30895311BAC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C5FA-BC8A-4809-A600-4F5AAF23C9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C3DF-F546-4249-B423-F1373B81039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ACDB-2317-4A0F-A1C3-D73EAE52172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614F-DD36-43BB-BB88-60974B75175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CB84-DC5E-413F-A20C-C857232507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AA51-06B4-47E2-8E24-7F3FF23811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D60C-9D5F-44B3-8458-9FE76478D2F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2D8E-AFDF-4F81-A7AB-8E122BA625E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6D6D-8B10-4F09-B569-2126F27F298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D7D7-D6FF-41A9-A66B-BFFD0AEF931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E640-22AC-4AC7-8E8B-F30E39BE46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81DF-6D64-4777-B55A-67D17B9179E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54E2-C2AF-430E-AAEE-B642324E58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82FD-16A5-4B4C-9F10-A995D68BE87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278C-1813-4330-8B65-C5B41DE0AA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D212-07F3-4083-9E36-C9166A60372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416B-C681-4066-AACD-2F95F1ED44D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8F82-27EC-49AE-BF19-591C38EDBE6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F096-F9B3-43FE-B47F-EF8781143E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18D9-141D-4233-99C8-464B0CC4B0B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8C78-2568-4A65-8209-C869D2B20B0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11ED-22EB-45CD-AC9D-10E688FC47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1D18-98B2-4AFC-9441-C95512913CA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4963-1E38-476B-A269-DBB911B0BD2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3275-B7C5-429C-8095-228AD33D485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5866-1ADF-449E-83CC-762BA5E166E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70C7-68B4-4AAA-86B2-5E4B29C92F0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047D-28BA-4927-B997-125B38E8AF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1672-AFCB-4227-B016-3CB3CDB63FC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EEB2-6275-406C-B0C8-89F4C12EF4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E3E5-CD9A-4E5E-9F63-0477BAC13FB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B8B-D95F-47C7-A21D-7E7A4816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768-3B0B-4AC7-B315-7647E83F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D3C-608B-4677-B386-85A07305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4A8-74AA-4511-8B43-E9D005DF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EE5-EB9E-43C6-A667-2DF7654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2DB-F7BF-45F2-9675-05F86E56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3A8-75FF-4603-A531-5F3F2E1B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730-8F05-4B92-BF3A-08C059C8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464-635A-4869-9D4C-9052D556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914-BCFF-4CE8-A224-037EB9F7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4C00-05A0-4B77-97BC-6861E903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A43-FDE3-4B1F-80C5-3FCC278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80DE-092E-4358-8818-053F867756C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13040" y="1341360"/>
            <a:ext cx="537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rasformata di La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900000" y="1895400"/>
            <a:ext cx="73440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5"/>
          <p:cNvSpPr/>
          <p:nvPr/>
        </p:nvSpPr>
        <p:spPr>
          <a:xfrm>
            <a:off x="5940360" y="4653000"/>
            <a:ext cx="15112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266760" y="755640"/>
                <a:ext cx="551484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"/>
              <p:cNvSpPr txBox="1"/>
              <p:nvPr/>
            </p:nvSpPr>
            <p:spPr>
              <a:xfrm>
                <a:off x="468360" y="3284640"/>
                <a:ext cx="6912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ω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7020000" y="2133720"/>
                <a:ext cx="1036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Line 7"/>
          <p:cNvSpPr/>
          <p:nvPr/>
        </p:nvSpPr>
        <p:spPr>
          <a:xfrm>
            <a:off x="4572000" y="558792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940360" y="450864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7578720" y="5464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e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220720" y="42210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m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395280" y="3141720"/>
            <a:ext cx="7056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3"/>
              <p:cNvSpPr txBox="1"/>
              <p:nvPr/>
            </p:nvSpPr>
            <p:spPr>
              <a:xfrm>
                <a:off x="2050920" y="4941720"/>
                <a:ext cx="10810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9" name="Picture 34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611280" y="1052640"/>
                <a:ext cx="19447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8"/>
              <p:cNvSpPr txBox="1"/>
              <p:nvPr/>
            </p:nvSpPr>
            <p:spPr>
              <a:xfrm>
                <a:off x="539640" y="1700280"/>
                <a:ext cx="2022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1476360" y="2924280"/>
                <a:ext cx="5256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10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prietà di linear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05280" cy="1419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mpa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6"/>
              <p:cNvSpPr txBox="1"/>
              <p:nvPr/>
            </p:nvSpPr>
            <p:spPr>
              <a:xfrm>
                <a:off x="539640" y="981000"/>
                <a:ext cx="4537080" cy="408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r>
                          <m:t xml:space="preserve">t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  <m:sSub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5796000" y="4365720"/>
                <a:ext cx="1036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5076720" y="2205000"/>
                <a:ext cx="2303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g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Rectangle 9"/>
          <p:cNvSpPr/>
          <p:nvPr/>
        </p:nvSpPr>
        <p:spPr>
          <a:xfrm>
            <a:off x="3203640" y="1197000"/>
            <a:ext cx="288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5435640" y="2276640"/>
            <a:ext cx="288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295360" cy="17240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on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671400" y="1725480"/>
                <a:ext cx="42735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6012000" y="3860640"/>
                <a:ext cx="1511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6443640" y="333360"/>
            <a:ext cx="2333520" cy="1495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inus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6"/>
              <p:cNvSpPr txBox="1"/>
              <p:nvPr/>
            </p:nvSpPr>
            <p:spPr>
              <a:xfrm>
                <a:off x="671400" y="1725480"/>
                <a:ext cx="4273560" cy="25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t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t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7"/>
              <p:cNvSpPr txBox="1"/>
              <p:nvPr/>
            </p:nvSpPr>
            <p:spPr>
              <a:xfrm>
                <a:off x="5940360" y="3645000"/>
                <a:ext cx="103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nus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2323800" cy="1400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600120" y="1676520"/>
                <a:ext cx="4441680" cy="26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t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t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L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jωt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5940360" y="3645000"/>
                <a:ext cx="103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s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538200" y="1173240"/>
                <a:ext cx="2401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2268360" y="1916280"/>
                <a:ext cx="4685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442800" y="3718080"/>
                <a:ext cx="2546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1619280" y="4365720"/>
                <a:ext cx="598176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k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u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3921120" y="3740040"/>
                <a:ext cx="2354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10"/>
          <p:cNvSpPr/>
          <p:nvPr/>
        </p:nvSpPr>
        <p:spPr>
          <a:xfrm>
            <a:off x="395280" y="907920"/>
            <a:ext cx="266400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3500280"/>
            <a:ext cx="266400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8"/>
              <p:cNvSpPr txBox="1"/>
              <p:nvPr/>
            </p:nvSpPr>
            <p:spPr>
              <a:xfrm>
                <a:off x="406440" y="765000"/>
                <a:ext cx="266544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4" name="Group 21"/>
          <p:cNvGrpSpPr/>
          <p:nvPr/>
        </p:nvGrpSpPr>
        <p:grpSpPr>
          <a:xfrm>
            <a:off x="5710320" y="46080"/>
            <a:ext cx="2822400" cy="2087640"/>
            <a:chOff x="5710320" y="46080"/>
            <a:chExt cx="2822400" cy="2087640"/>
          </a:xfrm>
        </p:grpSpPr>
        <p:sp>
          <p:nvSpPr>
            <p:cNvPr id="215" name="Line 8"/>
            <p:cNvSpPr/>
            <p:nvPr/>
          </p:nvSpPr>
          <p:spPr>
            <a:xfrm flipV="1">
              <a:off x="6105600" y="155520"/>
              <a:ext cx="0" cy="17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"/>
            <p:cNvSpPr/>
            <p:nvPr/>
          </p:nvSpPr>
          <p:spPr>
            <a:xfrm>
              <a:off x="6010200" y="1787400"/>
              <a:ext cx="252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0"/>
            <p:cNvSpPr/>
            <p:nvPr/>
          </p:nvSpPr>
          <p:spPr>
            <a:xfrm>
              <a:off x="6066000" y="676440"/>
              <a:ext cx="9522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7018200" y="676440"/>
              <a:ext cx="0" cy="1143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12"/>
                <p:cNvSpPr txBox="1"/>
                <p:nvPr/>
              </p:nvSpPr>
              <p:spPr>
                <a:xfrm>
                  <a:off x="5710320" y="46080"/>
                  <a:ext cx="3603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Object 13"/>
                <p:cNvSpPr txBox="1"/>
                <p:nvPr/>
              </p:nvSpPr>
              <p:spPr>
                <a:xfrm>
                  <a:off x="6926400" y="1825560"/>
                  <a:ext cx="1666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Object 14"/>
                <p:cNvSpPr txBox="1"/>
                <p:nvPr/>
              </p:nvSpPr>
              <p:spPr>
                <a:xfrm>
                  <a:off x="5867280" y="1844640"/>
                  <a:ext cx="14940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Line 15"/>
            <p:cNvSpPr/>
            <p:nvPr/>
          </p:nvSpPr>
          <p:spPr>
            <a:xfrm>
              <a:off x="6083280" y="654120"/>
              <a:ext cx="0" cy="1143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19"/>
                <p:cNvSpPr txBox="1"/>
                <p:nvPr/>
              </p:nvSpPr>
              <p:spPr>
                <a:xfrm>
                  <a:off x="5838840" y="378000"/>
                  <a:ext cx="208080" cy="58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23"/>
              <p:cNvSpPr txBox="1"/>
              <p:nvPr/>
            </p:nvSpPr>
            <p:spPr>
              <a:xfrm>
                <a:off x="2700360" y="2708280"/>
                <a:ext cx="29052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4"/>
              <p:cNvSpPr txBox="1"/>
              <p:nvPr/>
            </p:nvSpPr>
            <p:spPr>
              <a:xfrm>
                <a:off x="2749680" y="3429000"/>
                <a:ext cx="28080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Text Box 25"/>
          <p:cNvSpPr/>
          <p:nvPr/>
        </p:nvSpPr>
        <p:spPr>
          <a:xfrm>
            <a:off x="6006240" y="2276640"/>
            <a:ext cx="185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area sottesa val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e impul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6"/>
              <p:cNvSpPr txBox="1"/>
              <p:nvPr/>
            </p:nvSpPr>
            <p:spPr>
              <a:xfrm>
                <a:off x="312840" y="765000"/>
                <a:ext cx="285588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647720" y="3067200"/>
                <a:ext cx="501336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d>
                          </m:num>
                          <m:den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s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39640" y="1125360"/>
            <a:ext cx="76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n numero complesso 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costituito da una parte reale ed una immaginaria, è scritto co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2771640" y="1844640"/>
            <a:ext cx="3384720" cy="1309680"/>
            <a:chOff x="2771640" y="1844640"/>
            <a:chExt cx="3384720" cy="1309680"/>
          </a:xfrm>
        </p:grpSpPr>
        <mc:AlternateContent>
          <mc:Choice xmlns:a14="http://schemas.microsoft.com/office/drawing/2010/main" Requires="a14">
            <p:sp>
              <p:nvSpPr>
                <p:cNvPr id="52" name="Object 6"/>
                <p:cNvSpPr txBox="1"/>
                <p:nvPr/>
              </p:nvSpPr>
              <p:spPr>
                <a:xfrm>
                  <a:off x="3132000" y="1844640"/>
                  <a:ext cx="302436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  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∈</m:t>
                      </m:r>
                      <m:r>
                        <m:t xml:space="preserve">ℜ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Object 7"/>
                <p:cNvSpPr txBox="1"/>
                <p:nvPr/>
              </p:nvSpPr>
              <p:spPr>
                <a:xfrm>
                  <a:off x="2771640" y="2781360"/>
                  <a:ext cx="72072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[</m:t>
                      </m:r>
                      <m:r>
                        <m:t xml:space="preserve">z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" name="Line 8"/>
            <p:cNvSpPr/>
            <p:nvPr/>
          </p:nvSpPr>
          <p:spPr>
            <a:xfrm flipV="1">
              <a:off x="3132000" y="22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Object 9"/>
                <p:cNvSpPr txBox="1"/>
                <p:nvPr/>
              </p:nvSpPr>
              <p:spPr>
                <a:xfrm>
                  <a:off x="4438800" y="2781360"/>
                  <a:ext cx="6984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m</m:t>
                      </m:r>
                      <m:r>
                        <m:t xml:space="preserve">[</m:t>
                      </m:r>
                      <m:r>
                        <m:t xml:space="preserve">z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Line 10"/>
            <p:cNvSpPr/>
            <p:nvPr/>
          </p:nvSpPr>
          <p:spPr>
            <a:xfrm flipH="1" flipV="1">
              <a:off x="4427640" y="2276640"/>
              <a:ext cx="2174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Object 11"/>
              <p:cNvSpPr txBox="1"/>
              <p:nvPr/>
            </p:nvSpPr>
            <p:spPr>
              <a:xfrm>
                <a:off x="611280" y="3213000"/>
                <a:ext cx="1657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" name="Group 21"/>
          <p:cNvGrpSpPr/>
          <p:nvPr/>
        </p:nvGrpSpPr>
        <p:grpSpPr>
          <a:xfrm>
            <a:off x="2627280" y="3789360"/>
            <a:ext cx="2909880" cy="2395080"/>
            <a:chOff x="2627280" y="3789360"/>
            <a:chExt cx="2909880" cy="2395080"/>
          </a:xfrm>
        </p:grpSpPr>
        <p:sp>
          <p:nvSpPr>
            <p:cNvPr id="59" name="Line 12"/>
            <p:cNvSpPr/>
            <p:nvPr/>
          </p:nvSpPr>
          <p:spPr>
            <a:xfrm flipV="1">
              <a:off x="2627280" y="5170680"/>
              <a:ext cx="2448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 flipV="1">
              <a:off x="3419640" y="4106880"/>
              <a:ext cx="0" cy="19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Text Box 14" descr=""/>
            <p:cNvPicPr/>
            <p:nvPr/>
          </p:nvPicPr>
          <p:blipFill>
            <a:blip r:embed="rId1"/>
            <a:stretch/>
          </p:blipFill>
          <p:spPr>
            <a:xfrm>
              <a:off x="4986360" y="5015880"/>
              <a:ext cx="48096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Text Box 15" descr=""/>
            <p:cNvPicPr/>
            <p:nvPr/>
          </p:nvPicPr>
          <p:blipFill>
            <a:blip r:embed="rId2"/>
            <a:stretch/>
          </p:blipFill>
          <p:spPr>
            <a:xfrm>
              <a:off x="3060720" y="3789360"/>
              <a:ext cx="378000" cy="4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Line 16"/>
            <p:cNvSpPr/>
            <p:nvPr/>
          </p:nvSpPr>
          <p:spPr>
            <a:xfrm flipV="1">
              <a:off x="3419640" y="4391280"/>
              <a:ext cx="936720" cy="780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" name="Object 17"/>
            <p:cNvGraphicFramePr/>
            <p:nvPr/>
          </p:nvGraphicFramePr>
          <p:xfrm>
            <a:off x="4427640" y="4532400"/>
            <a:ext cx="1028880" cy="3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27640" y="4532400"/>
                      <a:ext cx="102888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6" name="Object 18"/>
                <p:cNvSpPr txBox="1"/>
                <p:nvPr/>
              </p:nvSpPr>
              <p:spPr>
                <a:xfrm>
                  <a:off x="3851280" y="4817160"/>
                  <a:ext cx="25272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Line 19"/>
            <p:cNvSpPr/>
            <p:nvPr/>
          </p:nvSpPr>
          <p:spPr>
            <a:xfrm>
              <a:off x="3419640" y="5172480"/>
              <a:ext cx="936720" cy="708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Object 20"/>
                <p:cNvSpPr txBox="1"/>
                <p:nvPr/>
              </p:nvSpPr>
              <p:spPr>
                <a:xfrm>
                  <a:off x="4427640" y="5455440"/>
                  <a:ext cx="1109520" cy="36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69" name="Object 26"/>
            <p:cNvGraphicFramePr/>
            <p:nvPr/>
          </p:nvGraphicFramePr>
          <p:xfrm>
            <a:off x="4283280" y="5880960"/>
            <a:ext cx="309600" cy="30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0" name="Object 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83280" y="5880960"/>
                      <a:ext cx="30960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" name="Rectangle 23"/>
          <p:cNvSpPr/>
          <p:nvPr/>
        </p:nvSpPr>
        <p:spPr>
          <a:xfrm>
            <a:off x="395280" y="3141720"/>
            <a:ext cx="2016000" cy="71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6659640" y="1773360"/>
            <a:ext cx="20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rtes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2"/>
          <p:cNvGraphicFramePr/>
          <p:nvPr/>
        </p:nvGraphicFramePr>
        <p:xfrm>
          <a:off x="3132000" y="5157720"/>
          <a:ext cx="276480" cy="32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5157720"/>
                    <a:ext cx="27648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7"/>
          <p:cNvGraphicFramePr/>
          <p:nvPr/>
        </p:nvGraphicFramePr>
        <p:xfrm>
          <a:off x="4284720" y="4076640"/>
          <a:ext cx="24768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4076640"/>
                    <a:ext cx="247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28"/>
          <p:cNvGraphicFramePr/>
          <p:nvPr/>
        </p:nvGraphicFramePr>
        <p:xfrm>
          <a:off x="4356000" y="5157720"/>
          <a:ext cx="206640" cy="227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Object 2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6000" y="5157720"/>
                    <a:ext cx="20664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29"/>
          <p:cNvGraphicFramePr/>
          <p:nvPr/>
        </p:nvGraphicFramePr>
        <p:xfrm>
          <a:off x="2987640" y="4292640"/>
          <a:ext cx="371520" cy="2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" name="Object 2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87640" y="4292640"/>
                    <a:ext cx="3715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0"/>
          <p:cNvGraphicFramePr/>
          <p:nvPr/>
        </p:nvGraphicFramePr>
        <p:xfrm>
          <a:off x="2987640" y="5732640"/>
          <a:ext cx="370080" cy="26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87640" y="5732640"/>
                    <a:ext cx="3700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Connettore 1 35"/>
          <p:cNvSpPr/>
          <p:nvPr/>
        </p:nvSpPr>
        <p:spPr>
          <a:xfrm>
            <a:off x="3419640" y="4365720"/>
            <a:ext cx="936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nettore 1 39"/>
          <p:cNvSpPr/>
          <p:nvPr/>
        </p:nvSpPr>
        <p:spPr>
          <a:xfrm>
            <a:off x="3419640" y="5877000"/>
            <a:ext cx="936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ttore 1 41"/>
          <p:cNvSpPr/>
          <p:nvPr/>
        </p:nvSpPr>
        <p:spPr>
          <a:xfrm>
            <a:off x="4356000" y="4365720"/>
            <a:ext cx="0" cy="151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ttore 49"/>
          <p:cNvSpPr/>
          <p:nvPr/>
        </p:nvSpPr>
        <p:spPr>
          <a:xfrm>
            <a:off x="4284720" y="4365720"/>
            <a:ext cx="71280" cy="712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nettore 50"/>
          <p:cNvSpPr/>
          <p:nvPr/>
        </p:nvSpPr>
        <p:spPr>
          <a:xfrm>
            <a:off x="4284720" y="5805360"/>
            <a:ext cx="71280" cy="7164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 di Di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6659640" y="333360"/>
            <a:ext cx="2171520" cy="140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312840" y="765000"/>
                <a:ext cx="285588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3662280" y="4076640"/>
                <a:ext cx="98280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3276720" y="3716280"/>
            <a:ext cx="172692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 di Di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8"/>
          <p:cNvGrpSpPr/>
          <p:nvPr/>
        </p:nvGrpSpPr>
        <p:grpSpPr>
          <a:xfrm>
            <a:off x="611280" y="981000"/>
            <a:ext cx="3310920" cy="719280"/>
            <a:chOff x="611280" y="981000"/>
            <a:chExt cx="3310920" cy="719280"/>
          </a:xfrm>
        </p:grpSpPr>
        <p:sp>
          <p:nvSpPr>
            <p:cNvPr id="237" name="Rectangle 6"/>
            <p:cNvSpPr/>
            <p:nvPr/>
          </p:nvSpPr>
          <p:spPr>
            <a:xfrm>
              <a:off x="1665000" y="1028880"/>
              <a:ext cx="1358640" cy="671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Object 7"/>
                <p:cNvSpPr txBox="1"/>
                <p:nvPr/>
              </p:nvSpPr>
              <p:spPr>
                <a:xfrm>
                  <a:off x="2079360" y="1125720"/>
                  <a:ext cx="5439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Line 8"/>
            <p:cNvSpPr/>
            <p:nvPr/>
          </p:nvSpPr>
          <p:spPr>
            <a:xfrm>
              <a:off x="956880" y="1363680"/>
              <a:ext cx="70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>
              <a:off x="3024000" y="1363680"/>
              <a:ext cx="70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Object 10"/>
                <p:cNvSpPr txBox="1"/>
                <p:nvPr/>
              </p:nvSpPr>
              <p:spPr>
                <a:xfrm>
                  <a:off x="611280" y="981000"/>
                  <a:ext cx="53136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Object 11"/>
                <p:cNvSpPr txBox="1"/>
                <p:nvPr/>
              </p:nvSpPr>
              <p:spPr>
                <a:xfrm>
                  <a:off x="3366720" y="981000"/>
                  <a:ext cx="555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755640" y="2421000"/>
                <a:ext cx="431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4" name="Rectangle 16"/>
          <p:cNvSpPr/>
          <p:nvPr/>
        </p:nvSpPr>
        <p:spPr>
          <a:xfrm>
            <a:off x="5364000" y="2276640"/>
            <a:ext cx="3529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Ogni segnal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può ess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presso come convoluzione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mpulso di Dir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17"/>
              <p:cNvSpPr txBox="1"/>
              <p:nvPr/>
            </p:nvSpPr>
            <p:spPr>
              <a:xfrm>
                <a:off x="971640" y="3789360"/>
                <a:ext cx="45352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</m:t>
                        </m:r>
                      </m:sup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6" name="Text Box 18"/>
          <p:cNvSpPr/>
          <p:nvPr/>
        </p:nvSpPr>
        <p:spPr>
          <a:xfrm>
            <a:off x="593640" y="32828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i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604080" y="4924440"/>
            <a:ext cx="26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r il teorema del valor medi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0"/>
              <p:cNvSpPr txBox="1"/>
              <p:nvPr/>
            </p:nvSpPr>
            <p:spPr>
              <a:xfrm>
                <a:off x="3459240" y="4581360"/>
                <a:ext cx="43131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ξ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e>
                    </m:d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Δ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1"/>
              <p:cNvSpPr txBox="1"/>
              <p:nvPr/>
            </p:nvSpPr>
            <p:spPr>
              <a:xfrm>
                <a:off x="1547640" y="5589720"/>
                <a:ext cx="41896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Δ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0" name="Group 27"/>
          <p:cNvGrpSpPr/>
          <p:nvPr/>
        </p:nvGrpSpPr>
        <p:grpSpPr>
          <a:xfrm>
            <a:off x="6300720" y="5877000"/>
            <a:ext cx="2028960" cy="576360"/>
            <a:chOff x="6300720" y="5877000"/>
            <a:chExt cx="2028960" cy="576360"/>
          </a:xfrm>
        </p:grpSpPr>
        <p:sp>
          <p:nvSpPr>
            <p:cNvPr id="251" name="Line 22"/>
            <p:cNvSpPr/>
            <p:nvPr/>
          </p:nvSpPr>
          <p:spPr>
            <a:xfrm>
              <a:off x="6443640" y="59500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23"/>
                <p:cNvSpPr txBox="1"/>
                <p:nvPr/>
              </p:nvSpPr>
              <p:spPr>
                <a:xfrm>
                  <a:off x="6300720" y="6021360"/>
                  <a:ext cx="2574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Object 24"/>
                <p:cNvSpPr txBox="1"/>
                <p:nvPr/>
              </p:nvSpPr>
              <p:spPr>
                <a:xfrm>
                  <a:off x="8047080" y="6033960"/>
                  <a:ext cx="28260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25"/>
                <p:cNvSpPr txBox="1"/>
                <p:nvPr/>
              </p:nvSpPr>
              <p:spPr>
                <a:xfrm>
                  <a:off x="7470720" y="6040440"/>
                  <a:ext cx="25740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Line 26"/>
            <p:cNvSpPr/>
            <p:nvPr/>
          </p:nvSpPr>
          <p:spPr>
            <a:xfrm>
              <a:off x="7596360" y="5877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0"/>
          <p:cNvGrpSpPr/>
          <p:nvPr/>
        </p:nvGrpSpPr>
        <p:grpSpPr>
          <a:xfrm>
            <a:off x="5508720" y="549360"/>
            <a:ext cx="2950920" cy="1224000"/>
            <a:chOff x="5508720" y="549360"/>
            <a:chExt cx="2950920" cy="1224000"/>
          </a:xfrm>
        </p:grpSpPr>
        <mc:AlternateContent>
          <mc:Choice xmlns:a14="http://schemas.microsoft.com/office/drawing/2010/main" Requires="a14">
            <p:sp>
              <p:nvSpPr>
                <p:cNvPr id="257" name="Object 12"/>
                <p:cNvSpPr txBox="1"/>
                <p:nvPr/>
              </p:nvSpPr>
              <p:spPr>
                <a:xfrm>
                  <a:off x="5651640" y="1052640"/>
                  <a:ext cx="266544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Γ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δ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8" name="Text Box 13"/>
            <p:cNvSpPr/>
            <p:nvPr/>
          </p:nvSpPr>
          <p:spPr>
            <a:xfrm>
              <a:off x="5580000" y="692280"/>
              <a:ext cx="26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Risposta all’impul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9"/>
            <p:cNvSpPr/>
            <p:nvPr/>
          </p:nvSpPr>
          <p:spPr>
            <a:xfrm>
              <a:off x="5508720" y="549360"/>
              <a:ext cx="2950920" cy="1224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 di Di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5"/>
          <p:cNvGrpSpPr/>
          <p:nvPr/>
        </p:nvGrpSpPr>
        <p:grpSpPr>
          <a:xfrm>
            <a:off x="611280" y="981000"/>
            <a:ext cx="3310920" cy="719280"/>
            <a:chOff x="611280" y="981000"/>
            <a:chExt cx="3310920" cy="719280"/>
          </a:xfrm>
        </p:grpSpPr>
        <p:sp>
          <p:nvSpPr>
            <p:cNvPr id="262" name="Rectangle 6"/>
            <p:cNvSpPr/>
            <p:nvPr/>
          </p:nvSpPr>
          <p:spPr>
            <a:xfrm>
              <a:off x="1665000" y="1028880"/>
              <a:ext cx="1358640" cy="6714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7"/>
                <p:cNvSpPr txBox="1"/>
                <p:nvPr/>
              </p:nvSpPr>
              <p:spPr>
                <a:xfrm>
                  <a:off x="2079360" y="1125720"/>
                  <a:ext cx="5439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Line 8"/>
            <p:cNvSpPr/>
            <p:nvPr/>
          </p:nvSpPr>
          <p:spPr>
            <a:xfrm>
              <a:off x="956880" y="1363680"/>
              <a:ext cx="70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9"/>
            <p:cNvSpPr/>
            <p:nvPr/>
          </p:nvSpPr>
          <p:spPr>
            <a:xfrm>
              <a:off x="3024000" y="1363680"/>
              <a:ext cx="70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10"/>
                <p:cNvSpPr txBox="1"/>
                <p:nvPr/>
              </p:nvSpPr>
              <p:spPr>
                <a:xfrm>
                  <a:off x="611280" y="981000"/>
                  <a:ext cx="53136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11"/>
                <p:cNvSpPr txBox="1"/>
                <p:nvPr/>
              </p:nvSpPr>
              <p:spPr>
                <a:xfrm>
                  <a:off x="3366720" y="981000"/>
                  <a:ext cx="555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8" name="Text Box 12"/>
          <p:cNvSpPr/>
          <p:nvPr/>
        </p:nvSpPr>
        <p:spPr>
          <a:xfrm>
            <a:off x="647640" y="1987560"/>
            <a:ext cx="40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uscita del sistema all’ingresso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arà del tip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13"/>
              <p:cNvSpPr txBox="1"/>
              <p:nvPr/>
            </p:nvSpPr>
            <p:spPr>
              <a:xfrm>
                <a:off x="1763640" y="2565360"/>
                <a:ext cx="44229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Γ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4"/>
              <p:cNvSpPr txBox="1"/>
              <p:nvPr/>
            </p:nvSpPr>
            <p:spPr>
              <a:xfrm>
                <a:off x="1835280" y="3789360"/>
                <a:ext cx="424008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Γ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δ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  <m:r>
                              <m:t xml:space="preserve">=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Rectangle 15"/>
          <p:cNvSpPr/>
          <p:nvPr/>
        </p:nvSpPr>
        <p:spPr>
          <a:xfrm>
            <a:off x="1763640" y="3933720"/>
            <a:ext cx="64764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4788000" y="4941720"/>
            <a:ext cx="1296720" cy="64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5364000" y="189000"/>
            <a:ext cx="3672000" cy="23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l segnale in uscita può ess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lcolato attraverso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voluzione del segnale di ingr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 la risposta impulsi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mpulso di Di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8360" y="1341360"/>
            <a:ext cx="453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ble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547640" y="2133720"/>
            <a:ext cx="68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risposta impulsiva di un sistema può essere ricavata applicando in ingresso un segnale che approssimi l’impulso di Dirac e misurando l’uscita corrispond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1547640" y="291132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mpulso di Dirac è un’astrazione matematica che può solo essere approssim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1547640" y="3573360"/>
            <a:ext cx="68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 molti casi non è possibile né conveniente applicare al sistema una sollecitazione impulsiva per non danneggiare il sistema a causa dell’elevata ampiezza dell’impul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661680" y="9079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apendo 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3059280" y="836640"/>
                <a:ext cx="1368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Rectangle 9"/>
          <p:cNvSpPr/>
          <p:nvPr/>
        </p:nvSpPr>
        <p:spPr>
          <a:xfrm>
            <a:off x="2916360" y="692280"/>
            <a:ext cx="172692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683640" y="226044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lco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1"/>
              <p:cNvSpPr txBox="1"/>
              <p:nvPr/>
            </p:nvSpPr>
            <p:spPr>
              <a:xfrm>
                <a:off x="2219400" y="2144880"/>
                <a:ext cx="888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663480" y="9079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lco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1"/>
              <p:cNvSpPr txBox="1"/>
              <p:nvPr/>
            </p:nvSpPr>
            <p:spPr>
              <a:xfrm>
                <a:off x="2940120" y="992160"/>
                <a:ext cx="1608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63480" y="9079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lco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2484360" y="1197000"/>
                <a:ext cx="3000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π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e>
                              </m:d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gt;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t</m:t>
                              </m:r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663480" y="9079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alcol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3083040" y="1003320"/>
                <a:ext cx="132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la deri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5"/>
              <p:cNvSpPr txBox="1"/>
              <p:nvPr/>
            </p:nvSpPr>
            <p:spPr>
              <a:xfrm>
                <a:off x="395280" y="1173240"/>
                <a:ext cx="2689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6"/>
          <p:cNvSpPr/>
          <p:nvPr/>
        </p:nvSpPr>
        <p:spPr>
          <a:xfrm>
            <a:off x="395280" y="907920"/>
            <a:ext cx="266400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1187280" y="1914480"/>
                <a:ext cx="5735880" cy="374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5940360" y="836640"/>
                <a:ext cx="2303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g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g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9" name="Rectangle 9"/>
          <p:cNvSpPr/>
          <p:nvPr/>
        </p:nvSpPr>
        <p:spPr>
          <a:xfrm>
            <a:off x="2556000" y="2201760"/>
            <a:ext cx="288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227640" y="907920"/>
            <a:ext cx="28908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64480" y="5948280"/>
            <a:ext cx="63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è sfruttato il fatto ch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è di ordine esponenziale per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he tende all’in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la deri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539640" y="1197000"/>
                <a:ext cx="3770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Rectangle 6"/>
          <p:cNvSpPr/>
          <p:nvPr/>
        </p:nvSpPr>
        <p:spPr>
          <a:xfrm>
            <a:off x="395280" y="907920"/>
            <a:ext cx="403236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2195640" y="2421000"/>
                <a:ext cx="391464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'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116000" y="5229360"/>
                <a:ext cx="4923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611280" y="1197000"/>
                <a:ext cx="48243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e>
                              <m:sup/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y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y</m:t>
                                </m:r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xy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xy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Rectangle 6"/>
          <p:cNvSpPr/>
          <p:nvPr/>
        </p:nvSpPr>
        <p:spPr>
          <a:xfrm>
            <a:off x="6156360" y="1268280"/>
            <a:ext cx="208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7"/>
              <p:cNvSpPr txBox="1"/>
              <p:nvPr/>
            </p:nvSpPr>
            <p:spPr>
              <a:xfrm>
                <a:off x="1258920" y="2824200"/>
                <a:ext cx="35272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π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nter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Rectangle 8"/>
          <p:cNvSpPr/>
          <p:nvPr/>
        </p:nvSpPr>
        <p:spPr>
          <a:xfrm>
            <a:off x="6156360" y="3357720"/>
            <a:ext cx="20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l’integ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5"/>
              <p:cNvSpPr txBox="1"/>
              <p:nvPr/>
            </p:nvSpPr>
            <p:spPr>
              <a:xfrm>
                <a:off x="826920" y="907920"/>
                <a:ext cx="187344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3995640" y="1052640"/>
                <a:ext cx="2833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AutoShape 7"/>
          <p:cNvSpPr/>
          <p:nvPr/>
        </p:nvSpPr>
        <p:spPr>
          <a:xfrm>
            <a:off x="3059280" y="1197000"/>
            <a:ext cx="649080" cy="287280"/>
          </a:xfrm>
          <a:prstGeom prst="rightArrow">
            <a:avLst>
              <a:gd name="adj1" fmla="val 50000"/>
              <a:gd name="adj2" fmla="val 56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1835280" y="2565360"/>
                <a:ext cx="18255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AutoShape 9"/>
          <p:cNvSpPr/>
          <p:nvPr/>
        </p:nvSpPr>
        <p:spPr>
          <a:xfrm>
            <a:off x="4140360" y="3573360"/>
            <a:ext cx="649080" cy="287280"/>
          </a:xfrm>
          <a:prstGeom prst="rightArrow">
            <a:avLst>
              <a:gd name="adj1" fmla="val 50000"/>
              <a:gd name="adj2" fmla="val 564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5580000" y="3213000"/>
                <a:ext cx="24242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 valor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5"/>
              <p:cNvSpPr txBox="1"/>
              <p:nvPr/>
            </p:nvSpPr>
            <p:spPr>
              <a:xfrm>
                <a:off x="587520" y="1100160"/>
                <a:ext cx="2352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6"/>
          <p:cNvSpPr/>
          <p:nvPr/>
        </p:nvSpPr>
        <p:spPr>
          <a:xfrm>
            <a:off x="395280" y="907920"/>
            <a:ext cx="259236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51280" y="981000"/>
            <a:ext cx="36734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’ipotesi che tale limite es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460080" y="2203560"/>
            <a:ext cx="274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l teorema della derivata si 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9"/>
              <p:cNvSpPr txBox="1"/>
              <p:nvPr/>
            </p:nvSpPr>
            <p:spPr>
              <a:xfrm>
                <a:off x="3492360" y="1989000"/>
                <a:ext cx="3192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10"/>
          <p:cNvSpPr/>
          <p:nvPr/>
        </p:nvSpPr>
        <p:spPr>
          <a:xfrm>
            <a:off x="468000" y="31240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a c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11"/>
              <p:cNvSpPr txBox="1"/>
              <p:nvPr/>
            </p:nvSpPr>
            <p:spPr>
              <a:xfrm>
                <a:off x="3073320" y="3068640"/>
                <a:ext cx="40323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Text Box 12"/>
          <p:cNvSpPr/>
          <p:nvPr/>
        </p:nvSpPr>
        <p:spPr>
          <a:xfrm>
            <a:off x="441360" y="4132440"/>
            <a:ext cx="71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seguendo il limite sotto il segno di integrale il che è lecito per l’analiticità della funzio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3"/>
              <p:cNvSpPr txBox="1"/>
              <p:nvPr/>
            </p:nvSpPr>
            <p:spPr>
              <a:xfrm>
                <a:off x="2700360" y="4581360"/>
                <a:ext cx="32162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Text Box 14"/>
          <p:cNvSpPr/>
          <p:nvPr/>
        </p:nvSpPr>
        <p:spPr>
          <a:xfrm>
            <a:off x="468000" y="56451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 quin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5"/>
              <p:cNvSpPr txBox="1"/>
              <p:nvPr/>
            </p:nvSpPr>
            <p:spPr>
              <a:xfrm>
                <a:off x="2556000" y="5950080"/>
                <a:ext cx="3960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orema del valore ini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5"/>
              <p:cNvSpPr txBox="1"/>
              <p:nvPr/>
            </p:nvSpPr>
            <p:spPr>
              <a:xfrm>
                <a:off x="587520" y="1100160"/>
                <a:ext cx="23526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s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6"/>
          <p:cNvSpPr/>
          <p:nvPr/>
        </p:nvSpPr>
        <p:spPr>
          <a:xfrm>
            <a:off x="395280" y="907920"/>
            <a:ext cx="259236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2771640" y="2708280"/>
                <a:ext cx="403236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s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grale di conv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2050920" y="1413000"/>
                <a:ext cx="39610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τ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e>
                            </m:d>
                            <m:r>
                              <m:t xml:space="preserve">dτ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5"/>
              <p:cNvSpPr txBox="1"/>
              <p:nvPr/>
            </p:nvSpPr>
            <p:spPr>
              <a:xfrm>
                <a:off x="2556000" y="814320"/>
                <a:ext cx="44179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3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6"/>
              <p:cNvSpPr txBox="1"/>
              <p:nvPr/>
            </p:nvSpPr>
            <p:spPr>
              <a:xfrm>
                <a:off x="539640" y="1604880"/>
                <a:ext cx="36021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2095560" y="3476520"/>
                <a:ext cx="4852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8"/>
              <p:cNvSpPr txBox="1"/>
              <p:nvPr/>
            </p:nvSpPr>
            <p:spPr>
              <a:xfrm>
                <a:off x="2627280" y="4365720"/>
                <a:ext cx="346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2243160" y="5157720"/>
                <a:ext cx="42289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Rectangle 10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268360" y="1125360"/>
                <a:ext cx="42292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1835280" y="2481120"/>
                <a:ext cx="4949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1811160" y="3984480"/>
                <a:ext cx="4997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8"/>
              <p:cNvSpPr txBox="1"/>
              <p:nvPr/>
            </p:nvSpPr>
            <p:spPr>
              <a:xfrm>
                <a:off x="2585880" y="5398920"/>
                <a:ext cx="3436920" cy="4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1547640" y="1197000"/>
            <a:ext cx="2016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5435640" y="1197000"/>
            <a:ext cx="2016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1547640" y="386244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eb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5435640" y="3860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eb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3997440" y="155736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 flipH="1" flipV="1" rot="16200000">
            <a:off x="2016000" y="2889360"/>
            <a:ext cx="935280" cy="576000"/>
          </a:xfrm>
          <a:prstGeom prst="rightArrow">
            <a:avLst>
              <a:gd name="adj1" fmla="val 50000"/>
              <a:gd name="adj2" fmla="val 405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0"/>
          <p:cNvSpPr/>
          <p:nvPr/>
        </p:nvSpPr>
        <p:spPr>
          <a:xfrm>
            <a:off x="3995640" y="41497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1"/>
          <p:cNvSpPr/>
          <p:nvPr/>
        </p:nvSpPr>
        <p:spPr>
          <a:xfrm flipH="1" rot="5400000">
            <a:off x="5976360" y="288720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2"/>
              <p:cNvSpPr txBox="1"/>
              <p:nvPr/>
            </p:nvSpPr>
            <p:spPr>
              <a:xfrm>
                <a:off x="2916360" y="2852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13"/>
              <p:cNvSpPr txBox="1"/>
              <p:nvPr/>
            </p:nvSpPr>
            <p:spPr>
              <a:xfrm>
                <a:off x="6845400" y="2819520"/>
                <a:ext cx="5634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24000" y="981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azione razionale prop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3708360" y="1413000"/>
                <a:ext cx="15368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Rectangle 10"/>
          <p:cNvSpPr/>
          <p:nvPr/>
        </p:nvSpPr>
        <p:spPr>
          <a:xfrm>
            <a:off x="468360" y="2997360"/>
            <a:ext cx="2879640" cy="502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684360" y="3646440"/>
            <a:ext cx="39589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684360" y="4294080"/>
            <a:ext cx="39589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684360" y="4941720"/>
            <a:ext cx="395892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mplesse coni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2124000" y="2565360"/>
                <a:ext cx="3794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8"/>
              <p:cNvSpPr txBox="1"/>
              <p:nvPr/>
            </p:nvSpPr>
            <p:spPr>
              <a:xfrm>
                <a:off x="2050920" y="3697200"/>
                <a:ext cx="4587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65" name="Group 14"/>
          <p:cNvGrpSpPr/>
          <p:nvPr/>
        </p:nvGrpSpPr>
        <p:grpSpPr>
          <a:xfrm>
            <a:off x="4282920" y="3070080"/>
            <a:ext cx="4321080" cy="863640"/>
            <a:chOff x="4282920" y="3070080"/>
            <a:chExt cx="4321080" cy="863640"/>
          </a:xfrm>
        </p:grpSpPr>
        <p:sp>
          <p:nvSpPr>
            <p:cNvPr id="366" name="Oval 9"/>
            <p:cNvSpPr/>
            <p:nvPr/>
          </p:nvSpPr>
          <p:spPr>
            <a:xfrm>
              <a:off x="4282920" y="3070080"/>
              <a:ext cx="3603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12"/>
            <p:cNvGrpSpPr/>
            <p:nvPr/>
          </p:nvGrpSpPr>
          <p:grpSpPr>
            <a:xfrm>
              <a:off x="4498920" y="3430440"/>
              <a:ext cx="2665080" cy="216000"/>
              <a:chOff x="4498920" y="3430440"/>
              <a:chExt cx="2665080" cy="216000"/>
            </a:xfrm>
          </p:grpSpPr>
          <p:sp>
            <p:nvSpPr>
              <p:cNvPr id="368" name="Line 10"/>
              <p:cNvSpPr/>
              <p:nvPr/>
            </p:nvSpPr>
            <p:spPr>
              <a:xfrm>
                <a:off x="4498920" y="3430440"/>
                <a:ext cx="0" cy="21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1"/>
              <p:cNvSpPr/>
              <p:nvPr/>
            </p:nvSpPr>
            <p:spPr>
              <a:xfrm>
                <a:off x="4498920" y="3646440"/>
                <a:ext cx="2665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3"/>
            <p:cNvSpPr/>
            <p:nvPr/>
          </p:nvSpPr>
          <p:spPr>
            <a:xfrm>
              <a:off x="7164000" y="3430440"/>
              <a:ext cx="1440000" cy="503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PO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4282920" y="3718080"/>
            <a:ext cx="4321080" cy="862920"/>
            <a:chOff x="4282920" y="3718080"/>
            <a:chExt cx="4321080" cy="862920"/>
          </a:xfrm>
        </p:grpSpPr>
        <p:sp>
          <p:nvSpPr>
            <p:cNvPr id="372" name="Oval 16"/>
            <p:cNvSpPr/>
            <p:nvPr/>
          </p:nvSpPr>
          <p:spPr>
            <a:xfrm>
              <a:off x="4282920" y="3718080"/>
              <a:ext cx="360360" cy="360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7"/>
            <p:cNvGrpSpPr/>
            <p:nvPr/>
          </p:nvGrpSpPr>
          <p:grpSpPr>
            <a:xfrm>
              <a:off x="4498920" y="4078080"/>
              <a:ext cx="2665080" cy="215640"/>
              <a:chOff x="4498920" y="4078080"/>
              <a:chExt cx="2665080" cy="215640"/>
            </a:xfrm>
          </p:grpSpPr>
          <p:sp>
            <p:nvSpPr>
              <p:cNvPr id="374" name="Line 18"/>
              <p:cNvSpPr/>
              <p:nvPr/>
            </p:nvSpPr>
            <p:spPr>
              <a:xfrm>
                <a:off x="4498920" y="4078080"/>
                <a:ext cx="0" cy="215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9"/>
              <p:cNvSpPr/>
              <p:nvPr/>
            </p:nvSpPr>
            <p:spPr>
              <a:xfrm>
                <a:off x="4498920" y="4293720"/>
                <a:ext cx="2665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ectangle 20"/>
            <p:cNvSpPr/>
            <p:nvPr/>
          </p:nvSpPr>
          <p:spPr>
            <a:xfrm>
              <a:off x="7164000" y="4078080"/>
              <a:ext cx="1440000" cy="502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SID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552600" y="1484280"/>
                <a:ext cx="6940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Rectangle 11"/>
          <p:cNvSpPr/>
          <p:nvPr/>
        </p:nvSpPr>
        <p:spPr>
          <a:xfrm>
            <a:off x="611280" y="25653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12"/>
              <p:cNvSpPr txBox="1"/>
              <p:nvPr/>
            </p:nvSpPr>
            <p:spPr>
              <a:xfrm>
                <a:off x="168120" y="3645000"/>
                <a:ext cx="7732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3" name="Line 13"/>
          <p:cNvSpPr/>
          <p:nvPr/>
        </p:nvSpPr>
        <p:spPr>
          <a:xfrm flipV="1">
            <a:off x="1042920" y="3645000"/>
            <a:ext cx="79236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4"/>
          <p:cNvSpPr/>
          <p:nvPr/>
        </p:nvSpPr>
        <p:spPr>
          <a:xfrm flipV="1">
            <a:off x="395280" y="4003560"/>
            <a:ext cx="79200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5"/>
          <p:cNvSpPr/>
          <p:nvPr/>
        </p:nvSpPr>
        <p:spPr>
          <a:xfrm flipV="1">
            <a:off x="3635280" y="3573360"/>
            <a:ext cx="79236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6"/>
          <p:cNvSpPr/>
          <p:nvPr/>
        </p:nvSpPr>
        <p:spPr>
          <a:xfrm flipV="1">
            <a:off x="3780000" y="4003560"/>
            <a:ext cx="79200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17"/>
              <p:cNvSpPr txBox="1"/>
              <p:nvPr/>
            </p:nvSpPr>
            <p:spPr>
              <a:xfrm>
                <a:off x="1027080" y="4921200"/>
                <a:ext cx="6053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8"/>
              <p:cNvSpPr txBox="1"/>
              <p:nvPr/>
            </p:nvSpPr>
            <p:spPr>
              <a:xfrm>
                <a:off x="2460600" y="5856120"/>
                <a:ext cx="3146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5"/>
          <p:cNvGrpSpPr/>
          <p:nvPr/>
        </p:nvGrpSpPr>
        <p:grpSpPr>
          <a:xfrm>
            <a:off x="179280" y="620640"/>
            <a:ext cx="3446280" cy="2303640"/>
            <a:chOff x="179280" y="620640"/>
            <a:chExt cx="3446280" cy="2303640"/>
          </a:xfrm>
        </p:grpSpPr>
        <p:sp>
          <p:nvSpPr>
            <p:cNvPr id="95" name="Line 6"/>
            <p:cNvSpPr/>
            <p:nvPr/>
          </p:nvSpPr>
          <p:spPr>
            <a:xfrm>
              <a:off x="179280" y="198756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 flipV="1">
              <a:off x="1547640" y="908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3185640" y="186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1117440" y="62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 flipV="1">
              <a:off x="1547640" y="1196640"/>
              <a:ext cx="936720" cy="79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Object 11"/>
                <p:cNvSpPr txBox="1"/>
                <p:nvPr/>
              </p:nvSpPr>
              <p:spPr>
                <a:xfrm>
                  <a:off x="2555640" y="981000"/>
                  <a:ext cx="10288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01" name="Object 12"/>
            <p:cNvGraphicFramePr/>
            <p:nvPr/>
          </p:nvGraphicFramePr>
          <p:xfrm>
            <a:off x="1979280" y="1629000"/>
            <a:ext cx="252720" cy="29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280" y="1629000"/>
                      <a:ext cx="25272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Line 13"/>
            <p:cNvSpPr/>
            <p:nvPr/>
          </p:nvSpPr>
          <p:spPr>
            <a:xfrm>
              <a:off x="1547640" y="1989360"/>
              <a:ext cx="936720" cy="718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4"/>
                <p:cNvSpPr txBox="1"/>
                <p:nvPr/>
              </p:nvSpPr>
              <p:spPr>
                <a:xfrm>
                  <a:off x="2516040" y="2514600"/>
                  <a:ext cx="110952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05" name="Object 9"/>
            <p:cNvGraphicFramePr/>
            <p:nvPr/>
          </p:nvGraphicFramePr>
          <p:xfrm>
            <a:off x="2555640" y="981000"/>
            <a:ext cx="1028880" cy="308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5640" y="981000"/>
                      <a:ext cx="102888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7" name="Object 15"/>
          <p:cNvGraphicFramePr/>
          <p:nvPr/>
        </p:nvGraphicFramePr>
        <p:xfrm>
          <a:off x="4284720" y="1268280"/>
          <a:ext cx="2367000" cy="13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1268280"/>
                    <a:ext cx="236700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6"/>
          <p:cNvSpPr/>
          <p:nvPr/>
        </p:nvSpPr>
        <p:spPr>
          <a:xfrm>
            <a:off x="6804000" y="1557360"/>
            <a:ext cx="20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igonome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801360" y="3355920"/>
            <a:ext cx="27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cordando le formule di Euler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3851280" y="3068640"/>
                <a:ext cx="22986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9"/>
              <p:cNvSpPr txBox="1"/>
              <p:nvPr/>
            </p:nvSpPr>
            <p:spPr>
              <a:xfrm>
                <a:off x="1403280" y="4724280"/>
                <a:ext cx="2230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0"/>
              <p:cNvSpPr txBox="1"/>
              <p:nvPr/>
            </p:nvSpPr>
            <p:spPr>
              <a:xfrm>
                <a:off x="5148360" y="4437000"/>
                <a:ext cx="200340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ϕ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ϕ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ϕ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ϕ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Line 10"/>
          <p:cNvSpPr/>
          <p:nvPr/>
        </p:nvSpPr>
        <p:spPr>
          <a:xfrm>
            <a:off x="1547640" y="198900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V="1">
            <a:off x="154764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1"/>
          <p:cNvGraphicFramePr/>
          <p:nvPr/>
        </p:nvGraphicFramePr>
        <p:xfrm>
          <a:off x="2411280" y="1989000"/>
          <a:ext cx="204840" cy="22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1989000"/>
                    <a:ext cx="204840" cy="2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22"/>
          <p:cNvGraphicFramePr/>
          <p:nvPr/>
        </p:nvGraphicFramePr>
        <p:xfrm>
          <a:off x="1187280" y="1125360"/>
          <a:ext cx="308160" cy="30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7280" y="1125360"/>
                    <a:ext cx="30816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23"/>
          <p:cNvGraphicFramePr/>
          <p:nvPr/>
        </p:nvGraphicFramePr>
        <p:xfrm>
          <a:off x="1835280" y="1052640"/>
          <a:ext cx="29664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35280" y="1052640"/>
                    <a:ext cx="29664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124000" y="1484280"/>
                <a:ext cx="37940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43280" y="2421000"/>
                <a:ext cx="45878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2268360" y="4221000"/>
                <a:ext cx="43484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Rectangle 10"/>
          <p:cNvSpPr/>
          <p:nvPr/>
        </p:nvSpPr>
        <p:spPr>
          <a:xfrm>
            <a:off x="2050920" y="3933720"/>
            <a:ext cx="4826160" cy="1079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radici dist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7"/>
              <p:cNvSpPr txBox="1"/>
              <p:nvPr/>
            </p:nvSpPr>
            <p:spPr>
              <a:xfrm>
                <a:off x="755640" y="1930320"/>
                <a:ext cx="76629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3228840" y="1495440"/>
                <a:ext cx="1584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2747880" y="2554200"/>
                <a:ext cx="25448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…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r>
                          <m:t xml:space="preserve">…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1787400" y="3660840"/>
                <a:ext cx="5116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μ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793800" y="1449360"/>
                <a:ext cx="64594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μ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611280" y="25653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9"/>
              <p:cNvSpPr txBox="1"/>
              <p:nvPr/>
            </p:nvSpPr>
            <p:spPr>
              <a:xfrm>
                <a:off x="801720" y="3673440"/>
                <a:ext cx="7370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μ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μ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Line 10"/>
          <p:cNvSpPr/>
          <p:nvPr/>
        </p:nvSpPr>
        <p:spPr>
          <a:xfrm flipV="1">
            <a:off x="826920" y="3789360"/>
            <a:ext cx="79236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"/>
          <p:cNvSpPr/>
          <p:nvPr/>
        </p:nvSpPr>
        <p:spPr>
          <a:xfrm flipV="1">
            <a:off x="1258920" y="4147920"/>
            <a:ext cx="792000" cy="43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2"/>
          <p:cNvSpPr/>
          <p:nvPr/>
        </p:nvSpPr>
        <p:spPr>
          <a:xfrm flipV="1">
            <a:off x="2843280" y="3717720"/>
            <a:ext cx="792000" cy="43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3"/>
          <p:cNvSpPr/>
          <p:nvPr/>
        </p:nvSpPr>
        <p:spPr>
          <a:xfrm flipV="1">
            <a:off x="2916360" y="4147920"/>
            <a:ext cx="792000" cy="43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4"/>
              <p:cNvSpPr txBox="1"/>
              <p:nvPr/>
            </p:nvSpPr>
            <p:spPr>
              <a:xfrm>
                <a:off x="3060720" y="5086440"/>
                <a:ext cx="27622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611280" y="148428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8"/>
              <p:cNvSpPr txBox="1"/>
              <p:nvPr/>
            </p:nvSpPr>
            <p:spPr>
              <a:xfrm>
                <a:off x="297000" y="2779560"/>
                <a:ext cx="83786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9"/>
              <p:cNvSpPr txBox="1"/>
              <p:nvPr/>
            </p:nvSpPr>
            <p:spPr>
              <a:xfrm>
                <a:off x="600120" y="3600360"/>
                <a:ext cx="777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2857680" y="4978440"/>
                <a:ext cx="31701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μ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611280" y="148428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k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8"/>
              <p:cNvSpPr txBox="1"/>
              <p:nvPr/>
            </p:nvSpPr>
            <p:spPr>
              <a:xfrm>
                <a:off x="600120" y="2689200"/>
                <a:ext cx="77788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946080" y="3529080"/>
                <a:ext cx="7105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10"/>
              <p:cNvSpPr txBox="1"/>
              <p:nvPr/>
            </p:nvSpPr>
            <p:spPr>
              <a:xfrm>
                <a:off x="2689200" y="4978440"/>
                <a:ext cx="35067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μ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n molteplicità maggi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611280" y="148428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coliam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8"/>
              <p:cNvSpPr txBox="1"/>
              <p:nvPr/>
            </p:nvSpPr>
            <p:spPr>
              <a:xfrm>
                <a:off x="1392120" y="2541600"/>
                <a:ext cx="6100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μ</m:t>
                                </m:r>
                              </m:sup>
                            </m:sSup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Text Box 9"/>
          <p:cNvSpPr/>
          <p:nvPr/>
        </p:nvSpPr>
        <p:spPr>
          <a:xfrm>
            <a:off x="590040" y="41482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cordando 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Object 10"/>
              <p:cNvSpPr txBox="1"/>
              <p:nvPr/>
            </p:nvSpPr>
            <p:spPr>
              <a:xfrm>
                <a:off x="2268360" y="3860640"/>
                <a:ext cx="22338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AutoShape 11"/>
          <p:cNvSpPr/>
          <p:nvPr/>
        </p:nvSpPr>
        <p:spPr>
          <a:xfrm>
            <a:off x="2340000" y="5086440"/>
            <a:ext cx="649440" cy="287280"/>
          </a:xfrm>
          <a:prstGeom prst="rightArrow">
            <a:avLst>
              <a:gd name="adj1" fmla="val 50000"/>
              <a:gd name="adj2" fmla="val 565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12"/>
              <p:cNvSpPr txBox="1"/>
              <p:nvPr/>
            </p:nvSpPr>
            <p:spPr>
              <a:xfrm>
                <a:off x="3203640" y="4724280"/>
                <a:ext cx="33861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2809800" y="1460520"/>
                <a:ext cx="24242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mplesse coni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7"/>
              <p:cNvSpPr txBox="1"/>
              <p:nvPr/>
            </p:nvSpPr>
            <p:spPr>
              <a:xfrm>
                <a:off x="2556000" y="1413000"/>
                <a:ext cx="2544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8"/>
              <p:cNvSpPr txBox="1"/>
              <p:nvPr/>
            </p:nvSpPr>
            <p:spPr>
              <a:xfrm>
                <a:off x="6108840" y="1542960"/>
                <a:ext cx="1368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1932120" y="2840040"/>
                <a:ext cx="44161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1"/>
              <p:cNvSpPr txBox="1"/>
              <p:nvPr/>
            </p:nvSpPr>
            <p:spPr>
              <a:xfrm>
                <a:off x="777960" y="4184640"/>
                <a:ext cx="5306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r>
                          <m:t xml:space="preserve">p</m:t>
                        </m:r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2"/>
              <p:cNvSpPr txBox="1"/>
              <p:nvPr/>
            </p:nvSpPr>
            <p:spPr>
              <a:xfrm>
                <a:off x="766800" y="5062680"/>
                <a:ext cx="59054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s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j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5"/>
          <p:cNvGrpSpPr/>
          <p:nvPr/>
        </p:nvGrpSpPr>
        <p:grpSpPr>
          <a:xfrm>
            <a:off x="179280" y="620640"/>
            <a:ext cx="3446280" cy="2303640"/>
            <a:chOff x="179280" y="620640"/>
            <a:chExt cx="3446280" cy="2303640"/>
          </a:xfrm>
        </p:grpSpPr>
        <p:sp>
          <p:nvSpPr>
            <p:cNvPr id="124" name="Line 6"/>
            <p:cNvSpPr/>
            <p:nvPr/>
          </p:nvSpPr>
          <p:spPr>
            <a:xfrm>
              <a:off x="179280" y="1987560"/>
              <a:ext cx="30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1547640" y="90828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3185640" y="186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1117440" y="62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1547640" y="1196640"/>
              <a:ext cx="936720" cy="79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Object 11"/>
                <p:cNvSpPr txBox="1"/>
                <p:nvPr/>
              </p:nvSpPr>
              <p:spPr>
                <a:xfrm>
                  <a:off x="2555640" y="981000"/>
                  <a:ext cx="1028880" cy="30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Object 12"/>
                <p:cNvSpPr txBox="1"/>
                <p:nvPr/>
              </p:nvSpPr>
              <p:spPr>
                <a:xfrm>
                  <a:off x="1979280" y="1629000"/>
                  <a:ext cx="252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1" name="Line 13"/>
            <p:cNvSpPr/>
            <p:nvPr/>
          </p:nvSpPr>
          <p:spPr>
            <a:xfrm>
              <a:off x="1547640" y="1989360"/>
              <a:ext cx="936720" cy="7189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14"/>
                <p:cNvSpPr txBox="1"/>
                <p:nvPr/>
              </p:nvSpPr>
              <p:spPr>
                <a:xfrm>
                  <a:off x="2516040" y="2514600"/>
                  <a:ext cx="1109520" cy="3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z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jy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3" name="Object 15"/>
              <p:cNvSpPr txBox="1"/>
              <p:nvPr/>
            </p:nvSpPr>
            <p:spPr>
              <a:xfrm>
                <a:off x="5003640" y="1700280"/>
                <a:ext cx="10242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Rectangle 16"/>
          <p:cNvSpPr/>
          <p:nvPr/>
        </p:nvSpPr>
        <p:spPr>
          <a:xfrm>
            <a:off x="6804000" y="1557360"/>
            <a:ext cx="20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on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2484360" y="3284640"/>
                <a:ext cx="34592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y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ϕ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36" name="Object 16"/>
          <p:cNvGraphicFramePr/>
          <p:nvPr/>
        </p:nvGraphicFramePr>
        <p:xfrm>
          <a:off x="4959360" y="5084640"/>
          <a:ext cx="111456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9360" y="5084640"/>
                    <a:ext cx="111456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16"/>
          <p:cNvSpPr/>
          <p:nvPr/>
        </p:nvSpPr>
        <p:spPr>
          <a:xfrm>
            <a:off x="6804000" y="4941720"/>
            <a:ext cx="208764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5"/>
          <p:cNvGraphicFramePr/>
          <p:nvPr/>
        </p:nvGraphicFramePr>
        <p:xfrm>
          <a:off x="1835280" y="1052640"/>
          <a:ext cx="29520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1052640"/>
                    <a:ext cx="2952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cniche di antitras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508720" y="119160"/>
            <a:ext cx="287964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denominatore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27640" y="622440"/>
            <a:ext cx="3959280" cy="502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dici complesse coni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7"/>
              <p:cNvSpPr txBox="1"/>
              <p:nvPr/>
            </p:nvSpPr>
            <p:spPr>
              <a:xfrm>
                <a:off x="2195640" y="1341360"/>
                <a:ext cx="39844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v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−</m:t>
                            </m:r>
                            <m:r>
                              <m:t xml:space="preserve">j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8"/>
              <p:cNvSpPr txBox="1"/>
              <p:nvPr/>
            </p:nvSpPr>
            <p:spPr>
              <a:xfrm>
                <a:off x="1116000" y="2349360"/>
                <a:ext cx="69134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ω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σt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ctg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u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ctg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u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9"/>
              <p:cNvSpPr txBox="1"/>
              <p:nvPr/>
            </p:nvSpPr>
            <p:spPr>
              <a:xfrm>
                <a:off x="1066680" y="3933720"/>
                <a:ext cx="588168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ctg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u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ctg</m:t>
                                    </m:r>
                                    <m:f>
                                      <m:num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u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0"/>
              <p:cNvSpPr txBox="1"/>
              <p:nvPr/>
            </p:nvSpPr>
            <p:spPr>
              <a:xfrm>
                <a:off x="1908000" y="5589720"/>
                <a:ext cx="4897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σ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181240" cy="1409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5438520" cy="55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"/>
          <p:cNvPicPr/>
          <p:nvPr/>
        </p:nvPicPr>
        <p:blipFill>
          <a:blip r:embed="rId3"/>
          <a:stretch/>
        </p:blipFill>
        <p:spPr>
          <a:xfrm>
            <a:off x="1619280" y="3716280"/>
            <a:ext cx="5143320" cy="96192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7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"/>
          <p:cNvPicPr/>
          <p:nvPr/>
        </p:nvPicPr>
        <p:blipFill>
          <a:blip r:embed="rId1"/>
          <a:stretch/>
        </p:blipFill>
        <p:spPr>
          <a:xfrm>
            <a:off x="1486080" y="1628640"/>
            <a:ext cx="6172200" cy="7718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6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e di tras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7" descr=""/>
          <p:cNvPicPr/>
          <p:nvPr/>
        </p:nvPicPr>
        <p:blipFill>
          <a:blip r:embed="rId2"/>
          <a:stretch/>
        </p:blipFill>
        <p:spPr>
          <a:xfrm>
            <a:off x="2195640" y="4437000"/>
            <a:ext cx="4895640" cy="933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32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19680" cy="2219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e di tras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1979640" y="4221000"/>
            <a:ext cx="56102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" descr=""/>
          <p:cNvPicPr/>
          <p:nvPr/>
        </p:nvPicPr>
        <p:blipFill>
          <a:blip r:embed="rId1"/>
          <a:stretch/>
        </p:blipFill>
        <p:spPr>
          <a:xfrm>
            <a:off x="1700280" y="1833480"/>
            <a:ext cx="5743440" cy="319104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5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unzione di tras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2428920" y="695160"/>
            <a:ext cx="42861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34920" y="44280"/>
            <a:ext cx="532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eri compl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1116000" y="1197000"/>
                <a:ext cx="4573440" cy="15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y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y</m:t>
                                </m:r>
                              </m:e>
                            </m:d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1619280" y="3573360"/>
                <a:ext cx="5824440" cy="24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8"/>
          <p:cNvGrpSpPr/>
          <p:nvPr/>
        </p:nvGrpSpPr>
        <p:grpSpPr>
          <a:xfrm>
            <a:off x="1619280" y="2781360"/>
            <a:ext cx="1800000" cy="1150920"/>
            <a:chOff x="1619280" y="2781360"/>
            <a:chExt cx="1800000" cy="1150920"/>
          </a:xfrm>
        </p:grpSpPr>
        <p:sp>
          <p:nvSpPr>
            <p:cNvPr id="145" name="Rectangle 4"/>
            <p:cNvSpPr/>
            <p:nvPr/>
          </p:nvSpPr>
          <p:spPr>
            <a:xfrm>
              <a:off x="1619280" y="2781360"/>
              <a:ext cx="180000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Object 5"/>
                <p:cNvSpPr txBox="1"/>
                <p:nvPr/>
              </p:nvSpPr>
              <p:spPr>
                <a:xfrm>
                  <a:off x="1834920" y="3213360"/>
                  <a:ext cx="129564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t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7" name="Group 9"/>
          <p:cNvGrpSpPr/>
          <p:nvPr/>
        </p:nvGrpSpPr>
        <p:grpSpPr>
          <a:xfrm>
            <a:off x="5651640" y="2781360"/>
            <a:ext cx="1800000" cy="1150920"/>
            <a:chOff x="5651640" y="2781360"/>
            <a:chExt cx="1800000" cy="1150920"/>
          </a:xfrm>
        </p:grpSpPr>
        <p:sp>
          <p:nvSpPr>
            <p:cNvPr id="148" name="Rectangle 7"/>
            <p:cNvSpPr/>
            <p:nvPr/>
          </p:nvSpPr>
          <p:spPr>
            <a:xfrm>
              <a:off x="5651640" y="2781360"/>
              <a:ext cx="180000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6"/>
                <p:cNvSpPr txBox="1"/>
                <p:nvPr/>
              </p:nvSpPr>
              <p:spPr>
                <a:xfrm>
                  <a:off x="5796000" y="2924280"/>
                  <a:ext cx="129528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σ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AutoShape 10"/>
          <p:cNvSpPr/>
          <p:nvPr/>
        </p:nvSpPr>
        <p:spPr>
          <a:xfrm>
            <a:off x="406872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79280" y="333360"/>
            <a:ext cx="4465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a trasformata di Laplace è un operatore che associa ad una funzione del tempo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efinita per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na funzion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a valori complessi definita per valori della variabile complessa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692360" y="4581360"/>
            <a:ext cx="511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utilizzo delle trasformate di Laplace consente di semplificare notevolmente i calcoli nella risoluzione di equazioni differenziali: operazioni di derivazione ed integrazione nel dominio del tempo corrispondono ad operazioni di tipo algebrico nel dominio delle trasfor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1547640" y="1197000"/>
            <a:ext cx="2016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435640" y="1197000"/>
            <a:ext cx="2016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47640" y="3862440"/>
            <a:ext cx="201636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eb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435640" y="3860640"/>
            <a:ext cx="2016000" cy="1295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eb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3997440" y="155736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flipH="1" flipV="1" rot="16200000">
            <a:off x="2016000" y="2889360"/>
            <a:ext cx="935280" cy="576000"/>
          </a:xfrm>
          <a:prstGeom prst="rightArrow">
            <a:avLst>
              <a:gd name="adj1" fmla="val 50000"/>
              <a:gd name="adj2" fmla="val 405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3995640" y="41497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 flipH="1" rot="5400000">
            <a:off x="5976360" y="288720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2916360" y="2852640"/>
                <a:ext cx="365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3"/>
              <p:cNvSpPr txBox="1"/>
              <p:nvPr/>
            </p:nvSpPr>
            <p:spPr>
              <a:xfrm>
                <a:off x="6845400" y="2819520"/>
                <a:ext cx="5634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2627280" y="333360"/>
            <a:ext cx="3673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078000" y="369720"/>
                <a:ext cx="27720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Text Box 5"/>
          <p:cNvSpPr/>
          <p:nvPr/>
        </p:nvSpPr>
        <p:spPr>
          <a:xfrm>
            <a:off x="2627280" y="1844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Qualsiasi funzion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per cui esiste un valore della variabil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ale che l’integrale è finito, si dic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trasformabil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secondo La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50920" y="3716280"/>
            <a:ext cx="475272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insieme di tutti i valori complessi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per cui esiste, finito, l’integrale e quindi la funzion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(s)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viene detto </a:t>
            </a:r>
            <a:r>
              <a:rPr b="0" i="1" lang="it-IT" sz="1400" spc="-1" strike="noStrike">
                <a:solidFill>
                  <a:srgbClr val="ff0000"/>
                </a:solidFill>
                <a:latin typeface="Arial"/>
              </a:rPr>
              <a:t>dominio di convergenz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ed è rappresentato da un semipiano del piano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posto a destra di una retta parallela all’asse immaginario, di equazione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Re[s]=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 Tale retta viene denominata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asse di convergenz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d il valore </a:t>
            </a:r>
            <a:r>
              <a:rPr b="0" i="1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it-IT" sz="1400" spc="-1" strike="noStrike">
                <a:solidFill>
                  <a:srgbClr val="ff0000"/>
                </a:solidFill>
                <a:latin typeface="Arial"/>
              </a:rPr>
              <a:t>ascissa di convergenz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5292720" y="3500280"/>
            <a:ext cx="2962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21:57:57Z</dcterms:created>
  <dc:creator>Giuseppe Fedele</dc:creator>
  <dc:description/>
  <dc:language>en-US</dc:language>
  <cp:lastModifiedBy>jk</cp:lastModifiedBy>
  <dcterms:modified xsi:type="dcterms:W3CDTF">2011-02-18T23:50:17Z</dcterms:modified>
  <cp:revision>213</cp:revision>
  <dc:subject/>
  <dc:title>Diapositiva 1</dc:title>
</cp:coreProperties>
</file>