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3298B-C53B-4445-987A-CF68CBED6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316CB-3111-4AC9-A383-23E130443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E7655-4424-4671-A4BA-56070B50B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19A92-34E1-414E-B81A-E838B679B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DF941-14F0-4C50-82E9-09AAAB375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AC255-9E65-4075-953A-F4D2FD2EB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B5CD6-3822-4B47-B966-B04EFD529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5707C-DF62-45C2-8C04-A3319F531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4E761-6C17-4C93-9A67-38DC4DE79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3D594-B544-478D-B2AF-675238E73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F3FFA-99C9-43D8-8C28-A8E824A4A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40990-B688-4473-A0D2-A39B51890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1861F-F076-4804-AB72-E5259283AE83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egnaposto numero diapositiva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1E484-FBA8-44EA-A7E3-585DDE8B6C81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95280" y="263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6000" spc="-1" strike="noStrike">
                <a:solidFill>
                  <a:srgbClr val="000000"/>
                </a:solidFill>
                <a:latin typeface="Times New Roman"/>
              </a:rPr>
              <a:t>Impianto di terr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1621080" y="404640"/>
            <a:ext cx="5857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5400" spc="-1" strike="noStrike">
                <a:solidFill>
                  <a:srgbClr val="000000"/>
                </a:solidFill>
                <a:latin typeface="Arial"/>
              </a:rPr>
              <a:t>Sicurezza Elettric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Segnaposto numero diapositiva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98031-6C3D-47F1-9AA9-E70F5D5C501E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4"/>
          <p:cNvSpPr/>
          <p:nvPr/>
        </p:nvSpPr>
        <p:spPr>
          <a:xfrm>
            <a:off x="755640" y="0"/>
            <a:ext cx="762012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 u="sng">
                <a:solidFill>
                  <a:srgbClr val="000000"/>
                </a:solidFill>
                <a:uFillTx/>
                <a:latin typeface="Times New Roman"/>
              </a:rPr>
              <a:t>Resistenza di ter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7"/>
          <p:cNvSpPr/>
          <p:nvPr/>
        </p:nvSpPr>
        <p:spPr>
          <a:xfrm>
            <a:off x="686520" y="3573360"/>
            <a:ext cx="146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MAGL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1"/>
          <p:cNvSpPr/>
          <p:nvPr/>
        </p:nvSpPr>
        <p:spPr>
          <a:xfrm>
            <a:off x="687240" y="1484280"/>
            <a:ext cx="146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ANEL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12" descr="http://www.elektro.it/elektro_sicurel_html/sicurel_7/7image010.gif"/>
          <p:cNvPicPr/>
          <p:nvPr/>
        </p:nvPicPr>
        <p:blipFill>
          <a:blip r:embed="rId1"/>
          <a:stretch/>
        </p:blipFill>
        <p:spPr>
          <a:xfrm>
            <a:off x="3635280" y="1197000"/>
            <a:ext cx="1435320" cy="14349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3" descr="http://www.elektro.it/elektro_sicurel_html/sicurel_7/7image011.gif"/>
          <p:cNvPicPr/>
          <p:nvPr/>
        </p:nvPicPr>
        <p:blipFill>
          <a:blip r:embed="rId2"/>
          <a:stretch/>
        </p:blipFill>
        <p:spPr>
          <a:xfrm>
            <a:off x="5867280" y="1484280"/>
            <a:ext cx="1873440" cy="8128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4" descr="http://www.elektro.it/elektro_sicurel_html/sicurel_7/7image012.gif"/>
          <p:cNvPicPr/>
          <p:nvPr/>
        </p:nvPicPr>
        <p:blipFill>
          <a:blip r:embed="rId3"/>
          <a:stretch/>
        </p:blipFill>
        <p:spPr>
          <a:xfrm>
            <a:off x="3635280" y="3068640"/>
            <a:ext cx="1473120" cy="14731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5" descr="http://www.elektro.it/elektro_sicurel_html/sicurel_7/7image013.gif"/>
          <p:cNvPicPr/>
          <p:nvPr/>
        </p:nvPicPr>
        <p:blipFill>
          <a:blip r:embed="rId4"/>
          <a:stretch/>
        </p:blipFill>
        <p:spPr>
          <a:xfrm>
            <a:off x="6084720" y="3284640"/>
            <a:ext cx="1224000" cy="90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Segnaposto numero diapositiva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5FF3F-4789-4B6F-B482-7355EC692280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755640" y="0"/>
            <a:ext cx="7620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 u="sng">
                <a:solidFill>
                  <a:srgbClr val="000000"/>
                </a:solidFill>
                <a:uFillTx/>
                <a:latin typeface="Times New Roman"/>
              </a:rPr>
              <a:t>Disperso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5"/>
          <p:cNvSpPr/>
          <p:nvPr/>
        </p:nvSpPr>
        <p:spPr>
          <a:xfrm>
            <a:off x="162720" y="1268280"/>
            <a:ext cx="83995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Il </a:t>
            </a:r>
            <a:r>
              <a:rPr b="1" lang="it-IT" sz="2000" spc="-1" strike="noStrike" u="sng">
                <a:solidFill>
                  <a:srgbClr val="000000"/>
                </a:solidFill>
                <a:uFillTx/>
                <a:latin typeface="Times New Roman"/>
              </a:rPr>
              <a:t>dispersore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è un corpo metallico o l’insieme di corpi metallici in contatto elettrico co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terreno utilizzati intenzionalmente o di fatto per disperdere correnti elettric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6"/>
          <p:cNvSpPr/>
          <p:nvPr/>
        </p:nvSpPr>
        <p:spPr>
          <a:xfrm>
            <a:off x="508680" y="2204280"/>
            <a:ext cx="8481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it-IT" sz="2000" spc="-1" strike="noStrike" u="sng">
                <a:solidFill>
                  <a:srgbClr val="000000"/>
                </a:solidFill>
                <a:uFillTx/>
                <a:latin typeface="Times New Roman"/>
              </a:rPr>
              <a:t>dispersore intenzionale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viene installato unicamente con lo scopo di mettere a terr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gli impianti elettrici (picchetti, corde, piastre, piattine ecc..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7"/>
          <p:cNvSpPr/>
          <p:nvPr/>
        </p:nvSpPr>
        <p:spPr>
          <a:xfrm>
            <a:off x="607320" y="3068280"/>
            <a:ext cx="856440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it-IT" sz="2000" spc="-1" strike="noStrike" u="sng">
                <a:solidFill>
                  <a:srgbClr val="000000"/>
                </a:solidFill>
                <a:uFillTx/>
                <a:latin typeface="Times New Roman"/>
              </a:rPr>
              <a:t>dispersore di fatto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è un corpo metallico in contatto col terreno o tramite calcestruzzo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                                    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che viene normalmente utilizzato per scopi diversi dalla messa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                                    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terra degli impianti elettrici (gli elementi metallici degli edifici, 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                                     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tubazioni metalliche di acqua ed altri fluidi, le armature metallic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                                     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dei cavi a contatto col terreno ecc..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8"/>
          <p:cNvSpPr/>
          <p:nvPr/>
        </p:nvSpPr>
        <p:spPr>
          <a:xfrm flipH="1" flipV="1">
            <a:off x="1979280" y="4005360"/>
            <a:ext cx="129708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9"/>
          <p:cNvSpPr/>
          <p:nvPr/>
        </p:nvSpPr>
        <p:spPr>
          <a:xfrm>
            <a:off x="284400" y="5300280"/>
            <a:ext cx="887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I dispersori di fatto sono costituiti da elementi metallici che normalmente sono molto estes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e hanno superfici di contatto col terreno più grandi di quelle dei dispersori intenzionali per cu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il loro contributo alla dispersione della corrente di guasto può essere notevo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egnaposto numero diapositiva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84FB3-1CC9-4291-AA0A-90FD436234DF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755640" y="0"/>
            <a:ext cx="7620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 u="sng">
                <a:solidFill>
                  <a:srgbClr val="000000"/>
                </a:solidFill>
                <a:uFillTx/>
                <a:latin typeface="Times New Roman"/>
              </a:rPr>
              <a:t>Dispersori intenzional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298080" y="1576440"/>
            <a:ext cx="30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Requisiti fondamental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7"/>
          <p:cNvSpPr/>
          <p:nvPr/>
        </p:nvSpPr>
        <p:spPr>
          <a:xfrm>
            <a:off x="250920" y="2205000"/>
            <a:ext cx="8642160" cy="257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•         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robustezza meccanica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sufficiente per resistere alle sollecitazioni dovute al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operazioni di installazione e all’assestamento del terren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•         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resistenza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(comprese le giunzioni e i morsetti) all’aggressione chimica del terren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•         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buona 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continuità elettrica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fra i vari elementi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•         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non devono essere causa di corrosione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per le altre strutture interrate alle qual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sono collegati metallicamen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10"/>
          <p:cNvSpPr/>
          <p:nvPr/>
        </p:nvSpPr>
        <p:spPr>
          <a:xfrm>
            <a:off x="1763640" y="4799160"/>
            <a:ext cx="68407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acciaio: per non essere corroso viene ricoperto di zin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rame: meno esposto alla corrosione, MA corrode gli altri 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me stagn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iaio zincato a cal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uminio: si corrode superficialmente perché ossidano → isola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onsigliato: dispersore di rame (corda nuda) + dispersore di ferro zincato (picchett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11"/>
          <p:cNvSpPr/>
          <p:nvPr/>
        </p:nvSpPr>
        <p:spPr>
          <a:xfrm>
            <a:off x="900000" y="5013360"/>
            <a:ext cx="576360" cy="1295280"/>
          </a:xfrm>
          <a:custGeom>
            <a:avLst/>
            <a:gdLst>
              <a:gd name="textAreaLeft" fmla="*/ 77040 w 576360"/>
              <a:gd name="textAreaRight" fmla="*/ 499320 w 576360"/>
              <a:gd name="textAreaTop" fmla="*/ 226440 h 1295280"/>
              <a:gd name="textAreaBottom" fmla="*/ 93924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egnaposto numero diapositiva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95EA8-BF25-4901-BBFE-6F04332FB51C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2"/>
          <p:cNvSpPr/>
          <p:nvPr/>
        </p:nvSpPr>
        <p:spPr>
          <a:xfrm>
            <a:off x="755640" y="0"/>
            <a:ext cx="7620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 u="sng">
                <a:solidFill>
                  <a:srgbClr val="000000"/>
                </a:solidFill>
                <a:uFillTx/>
                <a:latin typeface="Times New Roman"/>
              </a:rPr>
              <a:t>Collocazione dei dispersor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3"/>
          <p:cNvSpPr/>
          <p:nvPr/>
        </p:nvSpPr>
        <p:spPr>
          <a:xfrm>
            <a:off x="173160" y="968400"/>
            <a:ext cx="7867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lontani tra di lo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in terreno umido e vegetale (o buon conduttor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lontani da fonti di possibile corros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buon compromesso di profondit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se resistività elevata 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terra artificia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tilizzo dei sali appositamente preparati per migliorare la conducibilità del terre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8"/>
          <p:cNvSpPr/>
          <p:nvPr/>
        </p:nvSpPr>
        <p:spPr>
          <a:xfrm>
            <a:off x="748080" y="3070080"/>
            <a:ext cx="545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i dispersori possono essere del tipo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a picchetto, a corda, a piastra, ad anello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9"/>
          <p:cNvSpPr/>
          <p:nvPr/>
        </p:nvSpPr>
        <p:spPr>
          <a:xfrm>
            <a:off x="7093080" y="3213000"/>
            <a:ext cx="1584360" cy="720720"/>
          </a:xfrm>
          <a:prstGeom prst="pi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10"/>
          <p:cNvSpPr/>
          <p:nvPr/>
        </p:nvSpPr>
        <p:spPr>
          <a:xfrm>
            <a:off x="175320" y="4641840"/>
            <a:ext cx="862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cordando ch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istenza di terra determina la tensione totale di terra →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ere questa tensione: condizione sufficiente (ma non sempre pox se Iguasto elevat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ia dispersore influisce su tensione di contatto e di passo →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ere questa tensione: spesso necessario sempre auspicab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egnaposto numero diapositiva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31EB4-213E-4030-ADAE-A33E7FFEEFE2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2"/>
          <p:cNvSpPr/>
          <p:nvPr/>
        </p:nvSpPr>
        <p:spPr>
          <a:xfrm>
            <a:off x="755640" y="0"/>
            <a:ext cx="762012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 u="sng">
                <a:solidFill>
                  <a:srgbClr val="000000"/>
                </a:solidFill>
                <a:uFillTx/>
                <a:latin typeface="Times New Roman"/>
              </a:rPr>
              <a:t>Dispersori intenzional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3"/>
          <p:cNvSpPr/>
          <p:nvPr/>
        </p:nvSpPr>
        <p:spPr>
          <a:xfrm>
            <a:off x="234720" y="1339920"/>
            <a:ext cx="614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 u="sng">
                <a:solidFill>
                  <a:srgbClr val="000000"/>
                </a:solidFill>
                <a:uFillTx/>
                <a:latin typeface="Times New Roman"/>
              </a:rPr>
              <a:t>Dispersori ad anello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segue il perimetro dell’area protet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250920" y="1773000"/>
            <a:ext cx="82803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collegando ad anello conduttori nudi (nastri o corde) posati direttamente nel terreno ad una profondità di almeno 0,5 m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8"/>
          <p:cNvSpPr/>
          <p:nvPr/>
        </p:nvSpPr>
        <p:spPr>
          <a:xfrm>
            <a:off x="1042920" y="2421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9"/>
          <p:cNvSpPr/>
          <p:nvPr/>
        </p:nvSpPr>
        <p:spPr>
          <a:xfrm>
            <a:off x="317520" y="2708280"/>
            <a:ext cx="656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 u="sng">
                <a:solidFill>
                  <a:srgbClr val="000000"/>
                </a:solidFill>
                <a:uFillTx/>
                <a:latin typeface="Times New Roman"/>
              </a:rPr>
              <a:t>Dispersori a maglia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migliorano equalizzazione del potenzi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10"/>
          <p:cNvSpPr/>
          <p:nvPr/>
        </p:nvSpPr>
        <p:spPr>
          <a:xfrm>
            <a:off x="324000" y="3171960"/>
            <a:ext cx="8280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collegando ad anello conduttori nudi (nastri o corde) posati direttamente nel terreno ad una profondità di almeno 0,5 m eventualmente integrato con picchett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11" descr="7image017"/>
          <p:cNvPicPr/>
          <p:nvPr/>
        </p:nvPicPr>
        <p:blipFill>
          <a:blip r:embed="rId1"/>
          <a:stretch/>
        </p:blipFill>
        <p:spPr>
          <a:xfrm>
            <a:off x="6300720" y="3716280"/>
            <a:ext cx="2737080" cy="2737080"/>
          </a:xfrm>
          <a:prstGeom prst="rect">
            <a:avLst/>
          </a:prstGeom>
          <a:ln w="0">
            <a:noFill/>
          </a:ln>
        </p:spPr>
      </p:pic>
      <p:sp>
        <p:nvSpPr>
          <p:cNvPr id="151" name="Rectangle 12"/>
          <p:cNvSpPr/>
          <p:nvPr/>
        </p:nvSpPr>
        <p:spPr>
          <a:xfrm>
            <a:off x="108000" y="76284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Piastra di rame estesa su tutta la superficie 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max equipotenzialità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3"/>
          <p:cNvSpPr/>
          <p:nvPr/>
        </p:nvSpPr>
        <p:spPr>
          <a:xfrm>
            <a:off x="108000" y="3801960"/>
            <a:ext cx="6192720" cy="20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Tensioni di contatto max sulle maglie periferiche della re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(in prox delle diagonali)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↓ 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to della maglia e ↑ perimetro della re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nsioni di passo max all’esterno della rete magli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in prox delle diagonali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↑ 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imetro della rete, ↑ profondità, mentre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↑ 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umero maglie meno ef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Segnaposto numero diapositiva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7B0D8-FA82-4FDD-A8B0-54D4B70F75C3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4"/>
          <p:cNvSpPr/>
          <p:nvPr/>
        </p:nvSpPr>
        <p:spPr>
          <a:xfrm>
            <a:off x="755640" y="0"/>
            <a:ext cx="762012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 u="sng">
                <a:solidFill>
                  <a:srgbClr val="000000"/>
                </a:solidFill>
                <a:uFillTx/>
                <a:latin typeface="Times New Roman"/>
              </a:rPr>
              <a:t>Dispersori intenzional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5"/>
          <p:cNvSpPr/>
          <p:nvPr/>
        </p:nvSpPr>
        <p:spPr>
          <a:xfrm>
            <a:off x="167400" y="981000"/>
            <a:ext cx="302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 u="sng">
                <a:solidFill>
                  <a:srgbClr val="000000"/>
                </a:solidFill>
                <a:uFillTx/>
                <a:latin typeface="Times New Roman"/>
              </a:rPr>
              <a:t>Dispersori a picchet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6"/>
          <p:cNvSpPr/>
          <p:nvPr/>
        </p:nvSpPr>
        <p:spPr>
          <a:xfrm>
            <a:off x="324000" y="1390320"/>
            <a:ext cx="828036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forma cilindrica 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(serie di tubi o tondini suddivis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in tratti raccordabili con filettatur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profondità di infissione notevo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profilati di acciaio zincato a cal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profondità di posa non elevata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7" descr="7image015"/>
          <p:cNvPicPr/>
          <p:nvPr/>
        </p:nvPicPr>
        <p:blipFill>
          <a:blip r:embed="rId1"/>
          <a:stretch/>
        </p:blipFill>
        <p:spPr>
          <a:xfrm>
            <a:off x="5867280" y="907920"/>
            <a:ext cx="1074960" cy="43243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8" descr="7image016"/>
          <p:cNvPicPr/>
          <p:nvPr/>
        </p:nvPicPr>
        <p:blipFill>
          <a:blip r:embed="rId2"/>
          <a:stretch/>
        </p:blipFill>
        <p:spPr>
          <a:xfrm>
            <a:off x="1332000" y="3860640"/>
            <a:ext cx="2735280" cy="27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Segnaposto numero diapositiva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B8270-1607-461D-8F2D-81035DA60222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4"/>
          <p:cNvSpPr/>
          <p:nvPr/>
        </p:nvSpPr>
        <p:spPr>
          <a:xfrm>
            <a:off x="755640" y="0"/>
            <a:ext cx="7620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 u="sng">
                <a:solidFill>
                  <a:srgbClr val="000000"/>
                </a:solidFill>
                <a:uFillTx/>
                <a:latin typeface="Times New Roman"/>
              </a:rPr>
              <a:t>Dispersori di fat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5"/>
          <p:cNvSpPr/>
          <p:nvPr/>
        </p:nvSpPr>
        <p:spPr>
          <a:xfrm>
            <a:off x="53640" y="1197000"/>
            <a:ext cx="899856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Le caratteristiche del dispersore di terra possono essere migliorate utilizzando, oltre i dispersor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intenzionali, anche i 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dispersori di fatto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Tutti i corpi metallici in intimo contatto col terreno o tramite calcestruzzo possono esse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collegati all’impianto di terra adottando però alcuni accorgimenti atti ad evita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0000"/>
                </a:solidFill>
                <a:uFillTx/>
                <a:latin typeface="Times New Roman"/>
              </a:rPr>
              <a:t>fenomeni di corrosione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6"/>
          <p:cNvSpPr/>
          <p:nvPr/>
        </p:nvSpPr>
        <p:spPr>
          <a:xfrm flipH="1" flipV="1">
            <a:off x="1692360" y="2923920"/>
            <a:ext cx="28728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7"/>
          <p:cNvSpPr/>
          <p:nvPr/>
        </p:nvSpPr>
        <p:spPr>
          <a:xfrm>
            <a:off x="1184760" y="3213000"/>
            <a:ext cx="309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bisogna usare metalli omogene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8"/>
          <p:cNvSpPr/>
          <p:nvPr/>
        </p:nvSpPr>
        <p:spPr>
          <a:xfrm>
            <a:off x="245880" y="3789360"/>
            <a:ext cx="338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stagn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r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ott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bronz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acciaio annegato nel calcestruzz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acciaio dol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piomb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allumini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zin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9"/>
          <p:cNvSpPr/>
          <p:nvPr/>
        </p:nvSpPr>
        <p:spPr>
          <a:xfrm>
            <a:off x="3780000" y="4149720"/>
            <a:ext cx="0" cy="180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2"/>
          <p:cNvSpPr/>
          <p:nvPr/>
        </p:nvSpPr>
        <p:spPr>
          <a:xfrm>
            <a:off x="3997080" y="4005360"/>
            <a:ext cx="358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13"/>
          <p:cNvSpPr/>
          <p:nvPr/>
        </p:nvSpPr>
        <p:spPr>
          <a:xfrm>
            <a:off x="4694760" y="4292640"/>
            <a:ext cx="445860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Uno dei dispersori di fatto più comuni son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ferri di armatura del cemento armato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che, per effetto dell’umidità contenuta ne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calcestruzzo, possono considerarsi dispersor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a tutti gli effetti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Segnaposto numero diapositiva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48E36-4E16-4C7D-B4FF-F5B2B12261BF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2"/>
          <p:cNvSpPr/>
          <p:nvPr/>
        </p:nvSpPr>
        <p:spPr>
          <a:xfrm>
            <a:off x="755640" y="0"/>
            <a:ext cx="7620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 u="sng">
                <a:solidFill>
                  <a:srgbClr val="000000"/>
                </a:solidFill>
                <a:uFillTx/>
                <a:latin typeface="Times New Roman"/>
              </a:rPr>
              <a:t>Dispersori di fatto estern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3"/>
          <p:cNvSpPr/>
          <p:nvPr/>
        </p:nvSpPr>
        <p:spPr>
          <a:xfrm>
            <a:off x="52920" y="1197000"/>
            <a:ext cx="861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Dispersori di fatto nelle zone esterne all’impianto utilizzatore (non sotto il controllo di ch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esercisce l’impianto di terra): tubazioni metalliche dell’acquedotto pubblico, funi di guar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linee aeree, guaine dei cavi, 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Segnaposto numero diapositiva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CC1C8-1E59-4F07-B4AC-5985E0BDD2F4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4"/>
          <p:cNvSpPr/>
          <p:nvPr/>
        </p:nvSpPr>
        <p:spPr>
          <a:xfrm>
            <a:off x="755640" y="0"/>
            <a:ext cx="7620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 u="sng">
                <a:solidFill>
                  <a:srgbClr val="000000"/>
                </a:solidFill>
                <a:uFillTx/>
                <a:latin typeface="Times New Roman"/>
              </a:rPr>
              <a:t>Struttura di un impianto di ter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5"/>
          <p:cNvSpPr/>
          <p:nvPr/>
        </p:nvSpPr>
        <p:spPr>
          <a:xfrm>
            <a:off x="243000" y="1196280"/>
            <a:ext cx="48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tipica struttura di impianto di terra per un edificio: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1692360" y="1200240"/>
            <a:ext cx="5761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6" descr="http://www.elektro.it/elektro_sicurel_html/sicurel_7/7image014.gif"/>
          <p:cNvPicPr/>
          <p:nvPr/>
        </p:nvPicPr>
        <p:blipFill>
          <a:blip r:embed="rId1"/>
          <a:stretch/>
        </p:blipFill>
        <p:spPr>
          <a:xfrm>
            <a:off x="179280" y="1628640"/>
            <a:ext cx="5153040" cy="4457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6" name=""/>
          <p:cNvGraphicFramePr/>
          <p:nvPr/>
        </p:nvGraphicFramePr>
        <p:xfrm>
          <a:off x="5435640" y="1844640"/>
          <a:ext cx="3889440" cy="2743200"/>
        </p:xfrm>
        <a:graphic>
          <a:graphicData uri="http://schemas.openxmlformats.org/drawingml/2006/table">
            <a:tbl>
              <a:tblPr/>
              <a:tblGrid>
                <a:gridCol w="388944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25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</a:t>
                      </a: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     Dispersore intenziona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N</a:t>
                      </a: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      Dispersore di fat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T</a:t>
                      </a: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       Conduttore di ter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QP</a:t>
                      </a: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    Conduttore equipotenziale principa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QS</a:t>
                      </a: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    Conduttore equipotenziale supplementa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E</a:t>
                      </a: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      Conduttore di protezi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T</a:t>
                      </a: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      Collettore (o nodo) principale di ter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        Mass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E</a:t>
                      </a: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     Massa estrane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egnaposto numero diapositiva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B7447-C5D2-4FD6-9EF4-404A5D361CFD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4"/>
          <p:cNvSpPr/>
          <p:nvPr/>
        </p:nvSpPr>
        <p:spPr>
          <a:xfrm>
            <a:off x="755640" y="0"/>
            <a:ext cx="7620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 u="sng">
                <a:solidFill>
                  <a:srgbClr val="000000"/>
                </a:solidFill>
                <a:uFillTx/>
                <a:latin typeface="Times New Roman"/>
              </a:rPr>
              <a:t>Colori e normativ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5"/>
          <p:cNvSpPr/>
          <p:nvPr/>
        </p:nvSpPr>
        <p:spPr>
          <a:xfrm>
            <a:off x="268920" y="1267920"/>
            <a:ext cx="888552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it-IT" sz="1800" spc="-1" strike="noStrike" u="sng">
                <a:solidFill>
                  <a:srgbClr val="000000"/>
                </a:solidFill>
                <a:uFillTx/>
                <a:latin typeface="Times New Roman"/>
              </a:rPr>
              <a:t>conduttori di terra, equipotenziali e di protezione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se costituiti da cavi unipolari 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anime di cavi multipolari devono essere contraddistinti da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isolante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di colore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giallo/verde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Per i </a:t>
            </a:r>
            <a:r>
              <a:rPr b="0" lang="it-IT" sz="1800" spc="-1" strike="noStrike" u="sng">
                <a:solidFill>
                  <a:srgbClr val="000000"/>
                </a:solidFill>
                <a:uFillTx/>
                <a:latin typeface="Times New Roman"/>
              </a:rPr>
              <a:t>conduttori nudi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non sono prescritti colori o contrassegni. Nel caso in cui fosse necessari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distinguerli da altri conduttori si devono impiegare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fascette di colore giallo/verde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o il 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segno grafico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6" descr="7image046"/>
          <p:cNvPicPr/>
          <p:nvPr/>
        </p:nvPicPr>
        <p:blipFill>
          <a:blip r:embed="rId1"/>
          <a:stretch/>
        </p:blipFill>
        <p:spPr>
          <a:xfrm>
            <a:off x="2484360" y="2997360"/>
            <a:ext cx="1589040" cy="1366560"/>
          </a:xfrm>
          <a:prstGeom prst="rect">
            <a:avLst/>
          </a:prstGeom>
          <a:ln w="0">
            <a:noFill/>
          </a:ln>
        </p:spPr>
      </p:pic>
      <p:sp>
        <p:nvSpPr>
          <p:cNvPr id="181" name="Rectangle 7"/>
          <p:cNvSpPr/>
          <p:nvPr/>
        </p:nvSpPr>
        <p:spPr>
          <a:xfrm>
            <a:off x="234720" y="4753800"/>
            <a:ext cx="8499960" cy="15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it-IT" sz="1800" spc="-1" strike="noStrike" u="sng">
                <a:solidFill>
                  <a:srgbClr val="000000"/>
                </a:solidFill>
                <a:uFillTx/>
                <a:latin typeface="Times New Roman"/>
              </a:rPr>
              <a:t>morsetti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destinati al collegamento di </a:t>
            </a:r>
            <a:r>
              <a:rPr b="0" lang="it-IT" sz="1800" spc="-1" strike="noStrike" u="sng">
                <a:solidFill>
                  <a:srgbClr val="000000"/>
                </a:solidFill>
                <a:uFillTx/>
                <a:latin typeface="Times New Roman"/>
              </a:rPr>
              <a:t>conduttori di terra, equipotenziali o di protezione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devono essere contrassegnati col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simbolo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sopr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Il </a:t>
            </a:r>
            <a:r>
              <a:rPr b="0" lang="it-IT" sz="1800" spc="-1" strike="noStrike" u="sng">
                <a:solidFill>
                  <a:srgbClr val="000000"/>
                </a:solidFill>
                <a:uFillTx/>
                <a:latin typeface="Times New Roman"/>
              </a:rPr>
              <a:t>conduttore PEN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deve essere di colore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blu chiaro con fascette terminali giallo/verde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oppure la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guaina giallo/verde con fascette terminali blu chiaro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Segnaposto numero diapositiva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1B007-F65D-4D79-AEF7-CBD9D0B2FBA5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5"/>
          <p:cNvSpPr/>
          <p:nvPr/>
        </p:nvSpPr>
        <p:spPr>
          <a:xfrm>
            <a:off x="49680" y="1125360"/>
            <a:ext cx="91083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L’ </a:t>
            </a:r>
            <a:r>
              <a:rPr b="1" lang="it-IT" sz="1800" spc="-1" strike="noStrike" u="sng">
                <a:solidFill>
                  <a:srgbClr val="000000"/>
                </a:solidFill>
                <a:uFillTx/>
                <a:latin typeface="Times New Roman"/>
              </a:rPr>
              <a:t>IMPIANTO di TERRA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costituisce fondamentalmente un mezzo per disperdere corrent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elettriche nel terreno e per proteggere, unitamente ai dispositivi d’interruzione automatica de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circuito, le persone dal pericolo di elettrocuzion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Un buon impianto di terra, associato ad uso corretto dei collegamenti equipotenziali, rappresent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una delle soluzioni più utilizzate per raggiungere il miglior livello di sicurezz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Un impianto di terra, a seconda della funzione che deve assolvere, può distinguersi i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7"/>
          <p:cNvSpPr/>
          <p:nvPr/>
        </p:nvSpPr>
        <p:spPr>
          <a:xfrm>
            <a:off x="163800" y="3356640"/>
            <a:ext cx="814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Times New Roman"/>
              </a:rPr>
              <a:t>messa a terra di protezione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: misura atta a proteggere le persone dai contatti diret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8"/>
          <p:cNvSpPr/>
          <p:nvPr/>
        </p:nvSpPr>
        <p:spPr>
          <a:xfrm>
            <a:off x="160920" y="3861720"/>
            <a:ext cx="9000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Times New Roman"/>
              </a:rPr>
              <a:t>messa a terra di funzionamento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: ha lo scopo di stabilire un collegamento a terra d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particolari punti del circuito elettrico per esigenze di esercizio, come la messa a terra del neutr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nei sistemi TT e T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9"/>
          <p:cNvSpPr/>
          <p:nvPr/>
        </p:nvSpPr>
        <p:spPr>
          <a:xfrm>
            <a:off x="163080" y="4796640"/>
            <a:ext cx="853524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Times New Roman"/>
              </a:rPr>
              <a:t>messa a terra per lavori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: collega a terra temporaneamente una sezione di impianto p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esigenze di manuten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0"/>
          <p:cNvSpPr/>
          <p:nvPr/>
        </p:nvSpPr>
        <p:spPr>
          <a:xfrm>
            <a:off x="-10440" y="5863680"/>
            <a:ext cx="866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La presenza dell’ </a:t>
            </a:r>
            <a:r>
              <a:rPr b="1" lang="it-IT" sz="1800" spc="-1" strike="noStrike" u="sng">
                <a:solidFill>
                  <a:srgbClr val="000000"/>
                </a:solidFill>
                <a:uFillTx/>
                <a:latin typeface="Times New Roman"/>
              </a:rPr>
              <a:t>IMPIANTO di TERRA,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per la sicurezza della persona, è una condizio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NECESSARIA ma NON SUFFICI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1"/>
          <p:cNvSpPr/>
          <p:nvPr/>
        </p:nvSpPr>
        <p:spPr>
          <a:xfrm>
            <a:off x="179280" y="260280"/>
            <a:ext cx="89647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 u="sng">
                <a:solidFill>
                  <a:srgbClr val="000000"/>
                </a:solidFill>
                <a:uFillTx/>
                <a:latin typeface="Times New Roman"/>
              </a:rPr>
              <a:t>Alcune definizion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Segnaposto numero diapositiva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7F8DD-1D49-4722-9850-04DE24B5E842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WordArt 4"/>
          <p:cNvSpPr txBox="1"/>
          <p:nvPr/>
        </p:nvSpPr>
        <p:spPr>
          <a:xfrm>
            <a:off x="971640" y="1700280"/>
            <a:ext cx="7345440" cy="28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33"/>
                  </a:solidFill>
                  <a:miter/>
                </a:ln>
                <a:solidFill>
                  <a:srgbClr val="c0c0c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Buona giornata</a:t>
            </a:r>
            <a:endParaRPr b="0" lang="en-US" sz="1800" spc="1" strike="noStrike">
              <a:ln w="12600">
                <a:solidFill>
                  <a:srgbClr val="333333"/>
                </a:solidFill>
                <a:miter/>
              </a:ln>
              <a:solidFill>
                <a:srgbClr val="c0c0c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Segnaposto numero diapositiva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4C577-01B2-4B83-8BE9-2434486C0E9F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2"/>
          <p:cNvSpPr/>
          <p:nvPr/>
        </p:nvSpPr>
        <p:spPr>
          <a:xfrm>
            <a:off x="755640" y="0"/>
            <a:ext cx="762012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 u="sng">
                <a:solidFill>
                  <a:srgbClr val="000000"/>
                </a:solidFill>
                <a:uFillTx/>
                <a:latin typeface="Times New Roman"/>
              </a:rPr>
              <a:t>Alcune definizion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8"/>
          <p:cNvSpPr/>
          <p:nvPr/>
        </p:nvSpPr>
        <p:spPr>
          <a:xfrm>
            <a:off x="-16200" y="980280"/>
            <a:ext cx="891324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Times New Roman"/>
              </a:rPr>
              <a:t>Tensione totale di terra:</a:t>
            </a:r>
            <a:r>
              <a:rPr b="0" i="1" lang="it-IT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tensione che si stabilisce durante il cedimento dell’isolamento tr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una massa ed un punto del terreno sufficientemente lontano a potenziale ze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9"/>
          <p:cNvSpPr/>
          <p:nvPr/>
        </p:nvSpPr>
        <p:spPr>
          <a:xfrm>
            <a:off x="-16560" y="1707480"/>
            <a:ext cx="870444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Times New Roman"/>
              </a:rPr>
              <a:t>Tensione di contatto: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è la differenza di potenziale alla quale può essere soggetto il corp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umano in contatto con parti simultaneamente accessibili, escluse le parti attive, durante i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cedimento dell’isolamento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0"/>
          <p:cNvSpPr/>
          <p:nvPr/>
        </p:nvSpPr>
        <p:spPr>
          <a:xfrm>
            <a:off x="-16920" y="2715480"/>
            <a:ext cx="927324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Times New Roman"/>
              </a:rPr>
              <a:t>Tensione di passo: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differenza di potenziale che può risultare applicata tra i piedi di una person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a distanza di un passo (convenzionalmente un metro) durante il cedimento dell’isolamento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1"/>
          <p:cNvSpPr/>
          <p:nvPr/>
        </p:nvSpPr>
        <p:spPr>
          <a:xfrm>
            <a:off x="-17280" y="3436200"/>
            <a:ext cx="89406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Times New Roman"/>
              </a:rPr>
              <a:t>Tensione di contatto limite convenzionale:</a:t>
            </a:r>
            <a:r>
              <a:rPr b="0" i="1" lang="it-IT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massimo valore di tensione di contatto che è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possibile mantenere per un tempo indefinito in condizioni ambientali specific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2"/>
          <p:cNvSpPr/>
          <p:nvPr/>
        </p:nvSpPr>
        <p:spPr>
          <a:xfrm>
            <a:off x="-11520" y="4221000"/>
            <a:ext cx="9170280" cy="20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Times New Roman"/>
              </a:rPr>
              <a:t>Tensione nominale verso terra di un sistema:</a:t>
            </a:r>
            <a:r>
              <a:rPr b="0" i="1" lang="it-IT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sistemi trifase con neutro isolato o con neutro a terra attraverso impedenza, la tensione nomin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sistemi trifase con neutro direttamente a terra, la tensione stellata corrispondente alla tensio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nomin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sistemi monofase o a corrente continua senza punti di messa a terra, la tensione nomina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sistemi monofase o a corrente continua con punto di mezzo messo a terra, metà della tensio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nominale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Segnaposto numero diapositiva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FD0D0-94FF-4BC0-BEC7-02F64D0A8B61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4"/>
          <p:cNvSpPr/>
          <p:nvPr/>
        </p:nvSpPr>
        <p:spPr>
          <a:xfrm>
            <a:off x="755640" y="0"/>
            <a:ext cx="762012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 u="sng">
                <a:solidFill>
                  <a:srgbClr val="000000"/>
                </a:solidFill>
                <a:uFillTx/>
                <a:latin typeface="Times New Roman"/>
              </a:rPr>
              <a:t>Alcune definizion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6"/>
          <p:cNvSpPr/>
          <p:nvPr/>
        </p:nvSpPr>
        <p:spPr>
          <a:xfrm>
            <a:off x="-17280" y="692640"/>
            <a:ext cx="9163080" cy="59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Times New Roman"/>
              </a:rPr>
              <a:t>Parte attiva:</a:t>
            </a:r>
            <a:r>
              <a:rPr b="0" i="1" lang="it-IT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conduttore o parte conduttrice in tensione nel servizio ordinario, compreso i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conduttore di neutro, ma escluso, per convenzione, il conduttore P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Times New Roman"/>
              </a:rPr>
              <a:t>Massa</a:t>
            </a:r>
            <a:r>
              <a:rPr b="1" lang="it-IT" sz="1800" spc="-1" strike="noStrike" u="sng">
                <a:solidFill>
                  <a:srgbClr val="000000"/>
                </a:solidFill>
                <a:uFillTx/>
                <a:latin typeface="Times New Roman"/>
              </a:rPr>
              <a:t>: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parte conduttrice di un componente elettrico che può essere toccata e che non è 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tensione in condizioni ordinarie, ma che può andare in tensione in condizioni di guasto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una parte conduttrice che può andare in tensione solo perché è in contatto con una massa n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è da considerarsi una mas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Times New Roman"/>
              </a:rPr>
              <a:t>Massa estranea</a:t>
            </a:r>
            <a:r>
              <a:rPr b="1" lang="it-IT" sz="1800" spc="-1" strike="noStrike" u="sng">
                <a:solidFill>
                  <a:srgbClr val="000000"/>
                </a:solidFill>
                <a:uFillTx/>
                <a:latin typeface="Times New Roman"/>
              </a:rPr>
              <a:t>: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parte conduttrice non facente parte dell’impianto elettrico in grado d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introdurre un potenziale, generalmente un potenziale di ter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Times New Roman"/>
              </a:rPr>
              <a:t>Terra</a:t>
            </a:r>
            <a:r>
              <a:rPr b="1" lang="it-IT" sz="1800" spc="-1" strike="noStrike" u="sng">
                <a:solidFill>
                  <a:srgbClr val="000000"/>
                </a:solidFill>
                <a:uFillTx/>
                <a:latin typeface="Times New Roman"/>
              </a:rPr>
              <a:t>: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il terreno come conduttore il cui potenziale elettrico in ogni punto è convenzionalmen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considerato uguale a zer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Times New Roman"/>
              </a:rPr>
              <a:t>Dispersore</a:t>
            </a:r>
            <a:r>
              <a:rPr b="1" lang="it-IT" sz="1800" spc="-1" strike="noStrike" u="sng">
                <a:solidFill>
                  <a:srgbClr val="000000"/>
                </a:solidFill>
                <a:uFillTx/>
                <a:latin typeface="Times New Roman"/>
              </a:rPr>
              <a:t>: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corpo conduttore o gruppo di corpi conduttori in contatto elettrico con il terren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e che realizza un collegamento elettrico con la ter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Times New Roman"/>
              </a:rPr>
              <a:t>Resistenza di terra: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resistenza esistente tra un collettore (o nodo) di terra e la ter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Times New Roman"/>
              </a:rPr>
              <a:t>Impianti di terra elettricamente indipendenti: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impianti di terra aventi dispersori separati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La corrente massima che uno di questi impianti può disperdere non deve modificare il potenzia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rispetto a terra dell’altro impianto in misura superiore ad un determinato val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Segnaposto numero diapositiva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5D5D2-341B-401A-9C8C-75D7D2CF8FEE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"/>
          <p:cNvSpPr/>
          <p:nvPr/>
        </p:nvSpPr>
        <p:spPr>
          <a:xfrm>
            <a:off x="755640" y="0"/>
            <a:ext cx="762012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 u="sng">
                <a:solidFill>
                  <a:srgbClr val="000000"/>
                </a:solidFill>
                <a:uFillTx/>
                <a:latin typeface="Times New Roman"/>
              </a:rPr>
              <a:t>Alcune definizion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3"/>
          <p:cNvSpPr/>
          <p:nvPr/>
        </p:nvSpPr>
        <p:spPr>
          <a:xfrm>
            <a:off x="-18360" y="518040"/>
            <a:ext cx="9247320" cy="634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Times New Roman"/>
              </a:rPr>
              <a:t>Conduttore di protezione: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conduttore prescritto per alcune misure di protezione contro 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contatti indiretti per il collegamento di alcune delle seguenti parti: masse, masse estrane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collettore (o nodo) principale di terra, dispersore, punto di terra della sorgente o neutro artifici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Times New Roman"/>
              </a:rPr>
              <a:t>Conduttore PEN: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conduttore che svolge contemporaneamente funzioni sia di protezione s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di neut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Times New Roman"/>
              </a:rPr>
              <a:t>Conduttore di terra: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conduttore di protezione che collega il collettore (o nodo) principale d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terra al dispersore o i dispersori tra lo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Collettore (o nodo) principale di terra: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elemento che raccoglie, collegandoli tra loro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il dispersore, i conduttori di protezione, compresi i conduttori equipotenziali e di terr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Times New Roman"/>
              </a:rPr>
              <a:t>Collegamento equipotenziale: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conduttore che mette le diverse masse e masse estranee all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stesso potenzi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EQP: collegamento equipotenziale principa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EQS: collegamento equipotenziale secondari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Times New Roman"/>
              </a:rPr>
              <a:t>Conduttore equipotenziale: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conduttore di protezione che assicura il collegamen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equipotenzi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Times New Roman"/>
              </a:rPr>
              <a:t>Impianto di terra: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 insieme dei dispersori, dei conduttori di terra, dei collettori (o nodi) di terr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e dei conduttori equipotenziali, destinato a realizzare la messa a terra di protezione e/o d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funzionamen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Segnaposto numero diapositiva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884EC-18F8-4D24-952E-2D82299A9410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4"/>
          <p:cNvSpPr/>
          <p:nvPr/>
        </p:nvSpPr>
        <p:spPr>
          <a:xfrm>
            <a:off x="755640" y="189000"/>
            <a:ext cx="7620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 u="sng">
                <a:solidFill>
                  <a:srgbClr val="000000"/>
                </a:solidFill>
                <a:uFillTx/>
                <a:latin typeface="Times New Roman"/>
              </a:rPr>
              <a:t>Resistività del terren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5"/>
          <p:cNvSpPr/>
          <p:nvPr/>
        </p:nvSpPr>
        <p:spPr>
          <a:xfrm>
            <a:off x="229320" y="1916280"/>
            <a:ext cx="8538120" cy="231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Il parametro fondamentale per la determinazione della resistenza di terra è l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resistività del terre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presenta valori estremamente variabili da luogo a luogo e in funzione del temp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se confrontata con i metalli, è molto elevat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è influenzata positivamente dalla presenza di sali e dall’umidità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"/>
          <p:cNvSpPr/>
          <p:nvPr/>
        </p:nvSpPr>
        <p:spPr>
          <a:xfrm>
            <a:off x="1116000" y="4581360"/>
            <a:ext cx="61214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È  importante, per il calcolo della resistenza di terra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determinarne con una buona precisione il valore med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Segnaposto numero diapositiva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981E2-2789-4321-A071-5FF814C24D4F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4"/>
          <p:cNvSpPr/>
          <p:nvPr/>
        </p:nvSpPr>
        <p:spPr>
          <a:xfrm>
            <a:off x="755640" y="0"/>
            <a:ext cx="7620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 u="sng">
                <a:solidFill>
                  <a:srgbClr val="000000"/>
                </a:solidFill>
                <a:uFillTx/>
                <a:latin typeface="Times New Roman"/>
              </a:rPr>
              <a:t>Resistenza di ter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5"/>
          <p:cNvSpPr/>
          <p:nvPr/>
        </p:nvSpPr>
        <p:spPr>
          <a:xfrm>
            <a:off x="170280" y="1125360"/>
            <a:ext cx="8990640" cy="34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Resistenza di terra: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la somma delle resistenze elettriche elementari di porzioni elementar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di terren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ad una certa distanza dal dispersore la sezione diventa così grande che la resistenza è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pressoché null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nelle immediate vicinanze, le sezioni attraverso le quali la corrente fluisce si rimpiccioliscon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e la resistenza aumen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 u="sng">
                <a:solidFill>
                  <a:srgbClr val="000000"/>
                </a:solidFill>
                <a:uFillTx/>
                <a:latin typeface="Times New Roman"/>
              </a:rPr>
              <a:t>Ipotesi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terreno omogene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resistività del terreno costante in tutti i suoi pun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si trascura l’effetto reattivo, supponendo prevalente quello resist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6" descr="7image002"/>
          <p:cNvPicPr/>
          <p:nvPr/>
        </p:nvPicPr>
        <p:blipFill>
          <a:blip r:embed="rId1"/>
          <a:stretch/>
        </p:blipFill>
        <p:spPr>
          <a:xfrm>
            <a:off x="468360" y="4653000"/>
            <a:ext cx="1609560" cy="201600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8"/>
          <p:cNvSpPr/>
          <p:nvPr/>
        </p:nvSpPr>
        <p:spPr>
          <a:xfrm>
            <a:off x="2181240" y="5516640"/>
            <a:ext cx="69627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La differenza di potenziale tra l’elettrodo e un qualsiasi punto lontano a potenziale zero è detta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tensione di terra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o tensione totale di ter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Segnaposto numero diapositiva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CF712-94BA-4B4C-AF81-B4734FDD8D54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4"/>
          <p:cNvSpPr/>
          <p:nvPr/>
        </p:nvSpPr>
        <p:spPr>
          <a:xfrm>
            <a:off x="755640" y="0"/>
            <a:ext cx="762012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 u="sng">
                <a:solidFill>
                  <a:srgbClr val="000000"/>
                </a:solidFill>
                <a:uFillTx/>
                <a:latin typeface="Times New Roman"/>
              </a:rPr>
              <a:t>Resistenza di ter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5"/>
          <p:cNvSpPr/>
          <p:nvPr/>
        </p:nvSpPr>
        <p:spPr>
          <a:xfrm>
            <a:off x="179280" y="907920"/>
            <a:ext cx="8640720" cy="29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La resistenza di terra è legata alla Ut e alla corrente iniettata nel terren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validità di carattere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generale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e quindi anche per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elettrodi di forma diver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indipendente dalla corrente iniettat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dipende da caratteristiche dell’elettro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da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natura del terren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Object 6"/>
              <p:cNvSpPr txBox="1"/>
              <p:nvPr/>
            </p:nvSpPr>
            <p:spPr>
              <a:xfrm>
                <a:off x="3635280" y="1341360"/>
                <a:ext cx="108108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r>
                          <m:t xml:space="preserve">I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7" name="Rectangle 73"/>
          <p:cNvSpPr/>
          <p:nvPr/>
        </p:nvSpPr>
        <p:spPr>
          <a:xfrm>
            <a:off x="0" y="2709720"/>
            <a:ext cx="5668920" cy="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77"/>
          <p:cNvSpPr/>
          <p:nvPr/>
        </p:nvSpPr>
        <p:spPr>
          <a:xfrm>
            <a:off x="0" y="2709720"/>
            <a:ext cx="2378160" cy="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79"/>
          <p:cNvSpPr/>
          <p:nvPr/>
        </p:nvSpPr>
        <p:spPr>
          <a:xfrm>
            <a:off x="0" y="2709720"/>
            <a:ext cx="3565440" cy="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112"/>
          <p:cNvSpPr/>
          <p:nvPr/>
        </p:nvSpPr>
        <p:spPr>
          <a:xfrm flipH="1" flipV="1">
            <a:off x="3851280" y="3500280"/>
            <a:ext cx="129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13"/>
          <p:cNvSpPr/>
          <p:nvPr/>
        </p:nvSpPr>
        <p:spPr>
          <a:xfrm>
            <a:off x="2088720" y="4292640"/>
            <a:ext cx="696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Esempi di formule 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semplificate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che permettono di calcolare la resistenz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di terra di alcuni tra gli elettrodi più diffus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114"/>
          <p:cNvSpPr/>
          <p:nvPr/>
        </p:nvSpPr>
        <p:spPr>
          <a:xfrm>
            <a:off x="6516720" y="5229360"/>
            <a:ext cx="1800360" cy="936360"/>
          </a:xfrm>
          <a:prstGeom prst="pi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Segnaposto numero diapositiva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4CBE6-E84F-4D1F-9B79-6F2E769E1924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4"/>
          <p:cNvSpPr/>
          <p:nvPr/>
        </p:nvSpPr>
        <p:spPr>
          <a:xfrm>
            <a:off x="0" y="1677960"/>
            <a:ext cx="5668920" cy="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8"/>
          <p:cNvSpPr/>
          <p:nvPr/>
        </p:nvSpPr>
        <p:spPr>
          <a:xfrm>
            <a:off x="0" y="1677960"/>
            <a:ext cx="2378160" cy="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20"/>
          <p:cNvSpPr/>
          <p:nvPr/>
        </p:nvSpPr>
        <p:spPr>
          <a:xfrm>
            <a:off x="0" y="1677960"/>
            <a:ext cx="3565440" cy="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23"/>
          <p:cNvSpPr/>
          <p:nvPr/>
        </p:nvSpPr>
        <p:spPr>
          <a:xfrm>
            <a:off x="0" y="1677960"/>
            <a:ext cx="2378160" cy="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25"/>
          <p:cNvSpPr/>
          <p:nvPr/>
        </p:nvSpPr>
        <p:spPr>
          <a:xfrm>
            <a:off x="0" y="1677960"/>
            <a:ext cx="3565440" cy="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8"/>
          <p:cNvSpPr/>
          <p:nvPr/>
        </p:nvSpPr>
        <p:spPr>
          <a:xfrm>
            <a:off x="0" y="1677960"/>
            <a:ext cx="2378160" cy="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30"/>
          <p:cNvSpPr/>
          <p:nvPr/>
        </p:nvSpPr>
        <p:spPr>
          <a:xfrm>
            <a:off x="0" y="1677960"/>
            <a:ext cx="3565440" cy="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33"/>
          <p:cNvSpPr/>
          <p:nvPr/>
        </p:nvSpPr>
        <p:spPr>
          <a:xfrm>
            <a:off x="0" y="1677960"/>
            <a:ext cx="2378160" cy="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35"/>
          <p:cNvSpPr/>
          <p:nvPr/>
        </p:nvSpPr>
        <p:spPr>
          <a:xfrm>
            <a:off x="0" y="1677960"/>
            <a:ext cx="3565440" cy="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38"/>
          <p:cNvSpPr/>
          <p:nvPr/>
        </p:nvSpPr>
        <p:spPr>
          <a:xfrm>
            <a:off x="0" y="1677960"/>
            <a:ext cx="2378160" cy="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40"/>
          <p:cNvSpPr/>
          <p:nvPr/>
        </p:nvSpPr>
        <p:spPr>
          <a:xfrm>
            <a:off x="0" y="1677960"/>
            <a:ext cx="3565440" cy="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47"/>
          <p:cNvSpPr/>
          <p:nvPr/>
        </p:nvSpPr>
        <p:spPr>
          <a:xfrm>
            <a:off x="755640" y="0"/>
            <a:ext cx="762012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 u="sng">
                <a:solidFill>
                  <a:srgbClr val="000000"/>
                </a:solidFill>
                <a:uFillTx/>
                <a:latin typeface="Times New Roman"/>
              </a:rPr>
              <a:t>Resistenza di ter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61"/>
          <p:cNvSpPr/>
          <p:nvPr/>
        </p:nvSpPr>
        <p:spPr>
          <a:xfrm>
            <a:off x="0" y="1998720"/>
            <a:ext cx="5668920" cy="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65"/>
          <p:cNvSpPr/>
          <p:nvPr/>
        </p:nvSpPr>
        <p:spPr>
          <a:xfrm>
            <a:off x="0" y="1998720"/>
            <a:ext cx="2378160" cy="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67"/>
          <p:cNvSpPr/>
          <p:nvPr/>
        </p:nvSpPr>
        <p:spPr>
          <a:xfrm>
            <a:off x="0" y="1998720"/>
            <a:ext cx="3565440" cy="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170"/>
          <p:cNvSpPr/>
          <p:nvPr/>
        </p:nvSpPr>
        <p:spPr>
          <a:xfrm>
            <a:off x="0" y="1998720"/>
            <a:ext cx="2378160" cy="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172"/>
          <p:cNvSpPr/>
          <p:nvPr/>
        </p:nvSpPr>
        <p:spPr>
          <a:xfrm>
            <a:off x="0" y="1998720"/>
            <a:ext cx="3565440" cy="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75"/>
          <p:cNvSpPr/>
          <p:nvPr/>
        </p:nvSpPr>
        <p:spPr>
          <a:xfrm>
            <a:off x="0" y="1998720"/>
            <a:ext cx="2378160" cy="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77"/>
          <p:cNvSpPr/>
          <p:nvPr/>
        </p:nvSpPr>
        <p:spPr>
          <a:xfrm>
            <a:off x="0" y="1998720"/>
            <a:ext cx="3565440" cy="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80"/>
          <p:cNvSpPr/>
          <p:nvPr/>
        </p:nvSpPr>
        <p:spPr>
          <a:xfrm>
            <a:off x="0" y="1998720"/>
            <a:ext cx="2378160" cy="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182"/>
          <p:cNvSpPr/>
          <p:nvPr/>
        </p:nvSpPr>
        <p:spPr>
          <a:xfrm>
            <a:off x="0" y="1998720"/>
            <a:ext cx="3565440" cy="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85"/>
          <p:cNvSpPr/>
          <p:nvPr/>
        </p:nvSpPr>
        <p:spPr>
          <a:xfrm>
            <a:off x="0" y="1998720"/>
            <a:ext cx="2378160" cy="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87"/>
          <p:cNvSpPr/>
          <p:nvPr/>
        </p:nvSpPr>
        <p:spPr>
          <a:xfrm>
            <a:off x="0" y="1998720"/>
            <a:ext cx="3565440" cy="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283" descr="http://www.elektro.it/elektro_sicurel_html/sicurel_7/7image004.gif"/>
          <p:cNvPicPr/>
          <p:nvPr/>
        </p:nvPicPr>
        <p:blipFill>
          <a:blip r:embed="rId1"/>
          <a:stretch/>
        </p:blipFill>
        <p:spPr>
          <a:xfrm>
            <a:off x="3635280" y="981000"/>
            <a:ext cx="1435320" cy="14353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284" descr="http://www.elektro.it/elektro_sicurel_html/sicurel_7/7image005.gif"/>
          <p:cNvPicPr/>
          <p:nvPr/>
        </p:nvPicPr>
        <p:blipFill>
          <a:blip r:embed="rId2"/>
          <a:stretch/>
        </p:blipFill>
        <p:spPr>
          <a:xfrm>
            <a:off x="5867280" y="1197000"/>
            <a:ext cx="1873440" cy="89856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285"/>
          <p:cNvSpPr/>
          <p:nvPr/>
        </p:nvSpPr>
        <p:spPr>
          <a:xfrm>
            <a:off x="688320" y="1484280"/>
            <a:ext cx="151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PIAS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286"/>
          <p:cNvSpPr/>
          <p:nvPr/>
        </p:nvSpPr>
        <p:spPr>
          <a:xfrm>
            <a:off x="613440" y="3429000"/>
            <a:ext cx="200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PICCHET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287" descr="http://www.elektro.it/elektro_sicurel_html/sicurel_7/7image006.gif"/>
          <p:cNvPicPr/>
          <p:nvPr/>
        </p:nvPicPr>
        <p:blipFill>
          <a:blip r:embed="rId3"/>
          <a:stretch/>
        </p:blipFill>
        <p:spPr>
          <a:xfrm>
            <a:off x="3635280" y="2852640"/>
            <a:ext cx="1435320" cy="14353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288" descr="http://www.elektro.it/elektro_sicurel_html/sicurel_7/7image007.gif"/>
          <p:cNvPicPr/>
          <p:nvPr/>
        </p:nvPicPr>
        <p:blipFill>
          <a:blip r:embed="rId4"/>
          <a:stretch/>
        </p:blipFill>
        <p:spPr>
          <a:xfrm>
            <a:off x="6804000" y="3141720"/>
            <a:ext cx="1008000" cy="80172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289"/>
          <p:cNvSpPr/>
          <p:nvPr/>
        </p:nvSpPr>
        <p:spPr>
          <a:xfrm>
            <a:off x="543240" y="5157720"/>
            <a:ext cx="2446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CONDUTT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ORIZZONT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290" descr="http://www.elektro.it/elektro_sicurel_html/sicurel_7/7image008.gif"/>
          <p:cNvPicPr/>
          <p:nvPr/>
        </p:nvPicPr>
        <p:blipFill>
          <a:blip r:embed="rId5"/>
          <a:stretch/>
        </p:blipFill>
        <p:spPr>
          <a:xfrm>
            <a:off x="3635280" y="4724280"/>
            <a:ext cx="1384560" cy="13845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91" descr="http://www.elektro.it/elektro_sicurel_html/sicurel_7/7image009.gif"/>
          <p:cNvPicPr/>
          <p:nvPr/>
        </p:nvPicPr>
        <p:blipFill>
          <a:blip r:embed="rId6"/>
          <a:stretch/>
        </p:blipFill>
        <p:spPr>
          <a:xfrm>
            <a:off x="6300720" y="4941720"/>
            <a:ext cx="1295640" cy="7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0T14:33:03Z</dcterms:created>
  <dc:creator>federica foiadelli</dc:creator>
  <dc:description/>
  <dc:language>en-US</dc:language>
  <cp:lastModifiedBy>jk</cp:lastModifiedBy>
  <dcterms:modified xsi:type="dcterms:W3CDTF">2009-02-11T08:19:29Z</dcterms:modified>
  <cp:revision>100</cp:revision>
  <dc:subject/>
  <dc:title>Il</dc:title>
</cp:coreProperties>
</file>