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4F8-EB37-4C06-9E0F-DA57876C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E83-7E87-41F1-979C-627AF74C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ABB-AEF7-44C6-9150-AD63BFEA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438-38AD-45A4-BEC2-CC867582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B34-0C1B-4242-B32D-47F5A05B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615-854D-4176-A3B7-DEB6BBD3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DD3-1FE2-4877-A089-84741FEC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C08-FA84-4182-98CE-A6221F33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483-793C-4325-8F11-6ACC3428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796-FB3F-4540-9F1B-CDDE5DFC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674-F955-40B2-B7CE-01A3D111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26C-C62E-49E3-9B62-1AC11D66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D4F3-93B6-4638-9697-22BE2C25D14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egnaposto numero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6D9F-56AF-466D-BF85-7B37F1CBFF4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Times New Roman"/>
              </a:rPr>
              <a:t>Impianto di ter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21080" y="404640"/>
            <a:ext cx="58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Sicurezza Elett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5220-7DE2-44BA-AE9F-3882009B127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sistenza di t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86520" y="3573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A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87240" y="14842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http://www.elektro.it/elektro_sicurel_html/sicurel_7/7image010.gif"/>
          <p:cNvPicPr/>
          <p:nvPr/>
        </p:nvPicPr>
        <p:blipFill>
          <a:blip r:embed="rId1"/>
          <a:stretch/>
        </p:blipFill>
        <p:spPr>
          <a:xfrm>
            <a:off x="3635280" y="1197000"/>
            <a:ext cx="1435320" cy="1434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http://www.elektro.it/elektro_sicurel_html/sicurel_7/7image011.gif"/>
          <p:cNvPicPr/>
          <p:nvPr/>
        </p:nvPicPr>
        <p:blipFill>
          <a:blip r:embed="rId2"/>
          <a:stretch/>
        </p:blipFill>
        <p:spPr>
          <a:xfrm>
            <a:off x="5867280" y="1484280"/>
            <a:ext cx="1873440" cy="812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http://www.elektro.it/elektro_sicurel_html/sicurel_7/7image012.gif"/>
          <p:cNvPicPr/>
          <p:nvPr/>
        </p:nvPicPr>
        <p:blipFill>
          <a:blip r:embed="rId3"/>
          <a:stretch/>
        </p:blipFill>
        <p:spPr>
          <a:xfrm>
            <a:off x="3635280" y="3068640"/>
            <a:ext cx="1473120" cy="147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http://www.elektro.it/elektro_sicurel_html/sicurel_7/7image013.gif"/>
          <p:cNvPicPr/>
          <p:nvPr/>
        </p:nvPicPr>
        <p:blipFill>
          <a:blip r:embed="rId4"/>
          <a:stretch/>
        </p:blipFill>
        <p:spPr>
          <a:xfrm>
            <a:off x="6084720" y="3284640"/>
            <a:ext cx="1224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A00A-CFCE-4553-B84C-ED29CD167BE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62720" y="1268280"/>
            <a:ext cx="83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perso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un corpo metallico o l’insieme di corpi metallici in contatto elettrico 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rreno utilizzati intenzionalmente o di fatto per disperdere correnti elettr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508680" y="2204280"/>
            <a:ext cx="848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persore intenziona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viene installato unicamente con lo scopo di mettere a te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li impianti elettrici (picchetti, corde, piastre, piattine ecc.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07320" y="3068280"/>
            <a:ext cx="8564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persore di fat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un corpo metallico in contatto col terreno o tramite calcestruzz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he viene normalmente utilizzato per scopi diversi dalla mess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rra degli impianti elettrici (gli elementi metallici degli edifici, 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ubazioni metalliche di acqua ed altri fluidi, le armature metall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i cavi a contatto col terreno ecc.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 flipV="1">
            <a:off x="1979280" y="4005360"/>
            <a:ext cx="1297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284400" y="5300280"/>
            <a:ext cx="88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 dispersori di fatto sono costituiti da elementi metallici che normalmente sono molto este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hanno superfici di contatto col terreno più grandi di quelle dei dispersori intenzionali per c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loro contributo alla dispersione della corrente di guasto può essere notev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538C-ACDA-495C-8700-B9D784313D6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intenzion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98080" y="157644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quisiti fondament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50920" y="2205000"/>
            <a:ext cx="864216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    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obustezza meccan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ufficiente per resistere alle sollecitazioni dovute a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perazioni di installazione e all’assestamento del terre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•     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sistenz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comprese le giunzioni e i morsetti) all’aggressione chimica del terre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•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uon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tinuità elettr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fra i vari elemen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•     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on devono essere causa di corros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er le altre strutture interrate alle qu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ono collegati metallic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763640" y="479916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cciaio: per non essere corroso viene ricoperto di zi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me: meno esposto alla corrosione, MA corrode gli altri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e stag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aio zincato a cal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uminio: si corrode superficialmente perché ossidano → iso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nsigliato: dispersore di rame (corda nuda) + dispersore di ferro zincato (picchet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900000" y="5013360"/>
            <a:ext cx="576360" cy="1295280"/>
          </a:xfrm>
          <a:custGeom>
            <a:avLst/>
            <a:gdLst>
              <a:gd name="textAreaLeft" fmla="*/ 77040 w 576360"/>
              <a:gd name="textAreaRight" fmla="*/ 499320 w 57636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408B-54EF-4A30-8D4F-51F9847BED7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000000"/>
                </a:solidFill>
                <a:uFillTx/>
                <a:latin typeface="Times New Roman"/>
              </a:rPr>
              <a:t>Collocazione dei dispers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3160" y="968400"/>
            <a:ext cx="78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ontani tra di 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terreno umido e vegetale (o buon condut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ontani da fonti di possibile corro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uon compromesso di profon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 resistività elevat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terra artifi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zo dei sali appositamente preparati per migliorare la conducibilità del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48080" y="3070080"/>
            <a:ext cx="54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dispersori possono essere del tip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picchetto, a corda, a piastra, ad anello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7093080" y="3213000"/>
            <a:ext cx="1584360" cy="72072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75320" y="4641840"/>
            <a:ext cx="862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ordando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di terra determina la tensione totale di terra 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ere questa tensione: condizione sufficiente (ma non sempre pox se Iguasto elev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ia dispersore influisce su tensione di contatto e di passo 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ere questa tensione: spesso necessario sempre auspic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5698-3255-47C8-823C-01CAB79C3C2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intenzio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34720" y="1339920"/>
            <a:ext cx="61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ad anell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gue il perimetro dell’area prot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50920" y="1773000"/>
            <a:ext cx="82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llegando ad anello conduttori nudi (nastri o corde) posati direttamente nel terreno ad una profondità di almeno 0,5 m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104292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17520" y="2708280"/>
            <a:ext cx="65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a magli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igliorano equalizzazione del po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24000" y="31719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llegando ad anello conduttori nudi (nastri o corde) posati direttamente nel terreno ad una profondità di almeno 0,5 m eventualmente integrato con picche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7image017"/>
          <p:cNvPicPr/>
          <p:nvPr/>
        </p:nvPicPr>
        <p:blipFill>
          <a:blip r:embed="rId1"/>
          <a:stretch/>
        </p:blipFill>
        <p:spPr>
          <a:xfrm>
            <a:off x="6300720" y="3716280"/>
            <a:ext cx="2737080" cy="2737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2"/>
          <p:cNvSpPr/>
          <p:nvPr/>
        </p:nvSpPr>
        <p:spPr>
          <a:xfrm>
            <a:off x="108000" y="7628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iastra di rame estesa su tutta la superfici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max equipotenzialit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08000" y="3801960"/>
            <a:ext cx="6192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ensioni di contatto max sulle maglie periferiche della 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in prox delle diagonali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↓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o della maglia e ↑ perimetro della 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sioni di passo max all’esterno della rete magl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prox delle diagonal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↑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metro della rete, ↑ profondità, mentr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o maglie meno e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D379-0A83-4137-853C-4B048692B52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intenzio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67400" y="98100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a picch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24000" y="1390320"/>
            <a:ext cx="8280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rma cilindric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serie di tubi o tondini suddivi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tratti raccordabili con filetta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fondità di infissione notev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filati di acciaio zincato a cal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fondità di posa non elev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7image015"/>
          <p:cNvPicPr/>
          <p:nvPr/>
        </p:nvPicPr>
        <p:blipFill>
          <a:blip r:embed="rId1"/>
          <a:stretch/>
        </p:blipFill>
        <p:spPr>
          <a:xfrm>
            <a:off x="5867280" y="907920"/>
            <a:ext cx="1074960" cy="4324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7image016"/>
          <p:cNvPicPr/>
          <p:nvPr/>
        </p:nvPicPr>
        <p:blipFill>
          <a:blip r:embed="rId2"/>
          <a:stretch/>
        </p:blipFill>
        <p:spPr>
          <a:xfrm>
            <a:off x="1332000" y="3860640"/>
            <a:ext cx="2735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636D-A669-46EC-8ED5-9A4AB71FCEF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di fa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53640" y="1197000"/>
            <a:ext cx="8998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e caratteristiche del dispersore di terra possono essere migliorate utilizzando, oltre i dispers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tenzionali, anche 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spersori di fat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utti i corpi metallici in intimo contatto col terreno o tramite calcestruzzo possono ess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llegati all’impianto di terra adottando però alcuni accorgimenti atti ad evi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fenomeni di corros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H="1" flipV="1">
            <a:off x="1692360" y="29239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184760" y="321300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isogna usare metalli omogen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45880" y="3789360"/>
            <a:ext cx="33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tag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t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ron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cciaio annegato nel calcestru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cciaio do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io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llumin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zi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3780000" y="41497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997080" y="4005360"/>
            <a:ext cx="35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4694760" y="4292640"/>
            <a:ext cx="4458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o dei dispersori di fatto più comuni s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erri di armatura del cemento arma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he, per effetto dell’umidità contenuta 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alcestruzzo, possono considerarsi dispers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 tutti gli effet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FF57-AF6B-4894-844A-9E3938E5ACC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di fatto ester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2920" y="1197000"/>
            <a:ext cx="86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spersori di fatto nelle zone esterne all’impianto utilizzatore (non sotto il controllo di c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ercisce l’impianto di terra): tubazioni metalliche dell’acquedotto pubblico, funi di gu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inee aeree, guaine dei cavi,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EA43-D9F7-44C9-9248-8FF9CE23F5A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uttura di un impianto di t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43000" y="119628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ipica struttura di impianto di terra per un edificio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692360" y="1200240"/>
            <a:ext cx="576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http://www.elektro.it/elektro_sicurel_html/sicurel_7/7image014.gif"/>
          <p:cNvPicPr/>
          <p:nvPr/>
        </p:nvPicPr>
        <p:blipFill>
          <a:blip r:embed="rId1"/>
          <a:stretch/>
        </p:blipFill>
        <p:spPr>
          <a:xfrm>
            <a:off x="179280" y="1628640"/>
            <a:ext cx="5153040" cy="445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435640" y="1844640"/>
          <a:ext cx="3889440" cy="2743200"/>
        </p:xfrm>
        <a:graphic>
          <a:graphicData uri="http://schemas.openxmlformats.org/drawingml/2006/table">
            <a:tbl>
              <a:tblPr/>
              <a:tblGrid>
                <a:gridCol w="38894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 Dispersore inten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   Dispersore di fa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    Conduttore di ter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P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 Conduttore equipotenziale princip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S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 Conduttore equipotenziale supplement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   Conduttore di prote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   Collettore (o nodo) principale di ter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     Mas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 Massa estran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F19A-32A5-4D16-A4D5-B454965337E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lori e norm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68920" y="1267920"/>
            <a:ext cx="88855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duttori di terra, equipotenziali e di protez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e costituiti da cavi unipolari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nime di cavi multipolari devono essere contraddistinti d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solant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 color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iallo/verd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 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duttori nud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non sono prescritti colori o contrassegni. Nel caso in cui fosse necess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stinguerli da altri conduttori si devono impiegar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scette di colore giallo/verd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 il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egno grafic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7image046"/>
          <p:cNvPicPr/>
          <p:nvPr/>
        </p:nvPicPr>
        <p:blipFill>
          <a:blip r:embed="rId1"/>
          <a:stretch/>
        </p:blipFill>
        <p:spPr>
          <a:xfrm>
            <a:off x="2484360" y="2997360"/>
            <a:ext cx="1589040" cy="1366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"/>
          <p:cNvSpPr/>
          <p:nvPr/>
        </p:nvSpPr>
        <p:spPr>
          <a:xfrm>
            <a:off x="234720" y="4753800"/>
            <a:ext cx="8499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rset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estinati al collegamento d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duttori di terra, equipotenziali o di protez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vono essere contrassegnati co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mbol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op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duttore PE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eve essere di color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lu chiaro con fascette terminali giallo/verd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ppure l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uaina giallo/verde con fascette terminali blu chiar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C566-F4DD-44E7-AD16-84EC5FF9659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9680" y="1125360"/>
            <a:ext cx="91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’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IMPIANTO di TER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stituisce fondamentalmente un mezzo per disperdere corr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lettriche nel terreno e per proteggere, unitamente ai dispositivi d’interruzione automatic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ircuito, le persone dal pericolo di elettrocu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buon impianto di terra, associato ad uso corretto dei collegamenti equipotenziali, rappres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delle soluzioni più utilizzate per raggiungere il miglior livello di sicurezz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impianto di terra, a seconda della funzione che deve assolvere, può distinguersi i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63800" y="335664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ssa a terra di protez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misura atta a proteggere le persone dai contatti dir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60920" y="3861720"/>
            <a:ext cx="9000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ssa a terra di funzionamen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ha lo scopo di stabilire un collegamento a terra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rticolari punti del circuito elettrico per esigenze di esercizio, come la messa a terra del neu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ei sistemi TT e 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63080" y="4796640"/>
            <a:ext cx="853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ssa a terra per lavor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collega a terra temporaneamente una sezione di impianto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igenze di manut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-10440" y="5863680"/>
            <a:ext cx="86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presenza dell’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IMPIANTO di TERRA,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er la sicurezza della persona, è una condi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ECESSARIA ma NON SUF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79280" y="260280"/>
            <a:ext cx="896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cune defini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86FB-FEFE-4813-93B9-D9D39576030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971640" y="1700280"/>
            <a:ext cx="734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uona giornata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6D06-891C-424B-B798-762D02BAE18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Alcune defini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-16200" y="980280"/>
            <a:ext cx="8913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nsione totale di terra: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nsione che si stabilisce durante il cedimento dell’isolamento 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massa ed un punto del terreno sufficientemente lontano a potenzial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-16560" y="1707480"/>
            <a:ext cx="8704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nsione di contatto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la differenza di potenziale alla quale può essere soggetto il cor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mano in contatto con parti simultaneamente accessibili, escluse le parti attive, durante 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edimento dell’isola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-16920" y="2715480"/>
            <a:ext cx="9273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nsione di passo: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fferenza di potenziale che può risultare applicata tra i piedi di una perso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 distanza di un passo (convenzionalmente un metro) durante il cedimento dell’isola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-17280" y="3436200"/>
            <a:ext cx="8940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nsione di contatto limite convenzionale: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ssimo valore di tensione di contatto che 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ssibile mantenere per un tempo indefinito in condizioni ambientali spec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-11520" y="4221000"/>
            <a:ext cx="91702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nsione nominale verso terra di un sistema: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stemi trifase con neutro isolato o con neutro a terra attraverso impedenza, la tensione no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stemi trifase con neutro direttamente a terra, la tensione stellata corrispondente alla tens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o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stemi monofase o a corrente continua senza punti di messa a terra, la tensione nomi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stemi monofase o a corrente continua con punto di mezzo messo a terra, metà della tens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omina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3C41-F9FD-4BF3-96BE-9B86735AEA9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Alcune defini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-17280" y="692640"/>
            <a:ext cx="91630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e attiva: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duttore o parte conduttrice in tensione nel servizio ordinario, compreso 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duttore di neutro, ma escluso, per convenzione, il conduttore 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ssa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arte conduttrice di un componente elettrico che può essere toccata e che non è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nsione in condizioni ordinarie, ma che può andare in tensione in condizioni di guas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parte conduttrice che può andare in tensione solo perché è in contatto con una massa n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è da considerarsi una m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ssa estranea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arte conduttrice non facente parte dell’impianto elettrico in grado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trodurre un potenziale, generalmente un potenziale di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rra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l terreno come conduttore il cui potenziale elettrico in ogni punto è convenzion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siderato uguale a z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persore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rpo conduttore o gruppo di corpi conduttori in contatto elettrico con il terre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che realizza un collegamento elettrico con la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sistenza di terra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resistenza esistente tra un collettore (o nodo) di terra e la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Impianti di terra elettricamente indipendenti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mpianti di terra aventi dispersori separ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corrente massima che uno di questi impianti può disperdere non deve modificare il potenzi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ispetto a terra dell’altro impianto in misura superiore ad un determinato va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731E-9C54-4C06-BCA3-3ADFADC04DF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Alcune defini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-18360" y="518040"/>
            <a:ext cx="924732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duttore di protezione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duttore prescritto per alcune misure di protezione contro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tatti indiretti per il collegamento di alcune delle seguenti parti: masse, masse estrane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llettore (o nodo) principale di terra, dispersore, punto di terra della sorgente o neutro artifi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duttore PEN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duttore che svolge contemporaneamente funzioni sia di protezione 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 neu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duttore di terra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duttore di protezione che collega il collettore (o nodo) principale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rra al dispersore o i dispersori tra 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llettore (o nodo) principale di terra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lemento che raccoglie, collegandoli tra lor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dispersore, i conduttori di protezione, compresi i conduttori equipotenziali e di te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llegamento equipotenziale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duttore che mette le diverse masse e masse estranee a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tesso po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QP: collegamento equipotenziale princip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QS: collegamento equipotenziale second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duttore equipotenziale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duttore di protezione che assicura il colleg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quipo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Impianto di terra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insieme dei dispersori, dei conduttori di terra, dei collettori (o nodi) di te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dei conduttori equipotenziali, destinato a realizzare la messa a terra di protezione e/o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unzion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8B72-AC4B-4616-9A94-BC07670B9C8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55640" y="18900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sistività del terr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9320" y="1916280"/>
            <a:ext cx="853812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parametro fondamentale per la determinazione della resistenza di terra è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esistività del terr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senta valori estremamente variabili da luogo a luogo e in funzione del t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confrontata con i metalli, è molto elev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è influenzata positivamente dalla presenza di sali e dall’umidit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116000" y="4581360"/>
            <a:ext cx="612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È  importante, per il calcolo della resistenza di ter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terminarne con una buona precisione il valore 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CC50-5744-41A4-B7B1-CFCBA6E15EF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sistenza di t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70280" y="1125360"/>
            <a:ext cx="89906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sistenza di terra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la somma delle resistenze elettriche elementari di porzioni element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 terre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d una certa distanza dal dispersore la sezione diventa così grande che la resistenza 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essoché nu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elle immediate vicinanze, le sezioni attraverso le quali la corrente fluisce si rimpicciolisc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la resistenza au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Ipote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rreno omogene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sistività del terreno costante in tutti i suoi pu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 trascura l’effetto reattivo, supponendo prevalente quello resis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7image002"/>
          <p:cNvPicPr/>
          <p:nvPr/>
        </p:nvPicPr>
        <p:blipFill>
          <a:blip r:embed="rId1"/>
          <a:stretch/>
        </p:blipFill>
        <p:spPr>
          <a:xfrm>
            <a:off x="468360" y="4653000"/>
            <a:ext cx="1609560" cy="2016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181240" y="5516640"/>
            <a:ext cx="696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differenza di potenziale tra l’elettrodo e un qualsiasi punto lontano a potenziale zero è dett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ensione di ter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o tensione totale di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9810-6012-4CA3-BC05-95F7B2D1DB2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sistenza di t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79280" y="907920"/>
            <a:ext cx="864072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resistenza di terra è legata alla Ut e alla corrente iniettata nel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alidità di caratter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enera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quindi anche per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lettrodi di forma di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dipendente dalla corrente iniett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pende da caratteristiche dell’elettr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atura del terre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3635280" y="1341360"/>
                <a:ext cx="1081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Rectangle 73"/>
          <p:cNvSpPr/>
          <p:nvPr/>
        </p:nvSpPr>
        <p:spPr>
          <a:xfrm>
            <a:off x="0" y="2709720"/>
            <a:ext cx="5668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7"/>
          <p:cNvSpPr/>
          <p:nvPr/>
        </p:nvSpPr>
        <p:spPr>
          <a:xfrm>
            <a:off x="0" y="270972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9"/>
          <p:cNvSpPr/>
          <p:nvPr/>
        </p:nvSpPr>
        <p:spPr>
          <a:xfrm>
            <a:off x="0" y="270972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2"/>
          <p:cNvSpPr/>
          <p:nvPr/>
        </p:nvSpPr>
        <p:spPr>
          <a:xfrm flipH="1" flipV="1">
            <a:off x="3851280" y="3500280"/>
            <a:ext cx="129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3"/>
          <p:cNvSpPr/>
          <p:nvPr/>
        </p:nvSpPr>
        <p:spPr>
          <a:xfrm>
            <a:off x="2088720" y="4292640"/>
            <a:ext cx="69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empi di formul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emplificat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 permettono di calcolare la resiste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 terra di alcuni tra gli elettrodi più diffu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14"/>
          <p:cNvSpPr/>
          <p:nvPr/>
        </p:nvSpPr>
        <p:spPr>
          <a:xfrm>
            <a:off x="6516720" y="5229360"/>
            <a:ext cx="1800360" cy="93636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A43D-1AF8-44C7-A029-A937ADD670A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0" y="1677960"/>
            <a:ext cx="5668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167796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0" y="167796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0" y="167796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167796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0" y="167796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0" y="167796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3"/>
          <p:cNvSpPr/>
          <p:nvPr/>
        </p:nvSpPr>
        <p:spPr>
          <a:xfrm>
            <a:off x="0" y="167796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5"/>
          <p:cNvSpPr/>
          <p:nvPr/>
        </p:nvSpPr>
        <p:spPr>
          <a:xfrm>
            <a:off x="0" y="167796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8"/>
          <p:cNvSpPr/>
          <p:nvPr/>
        </p:nvSpPr>
        <p:spPr>
          <a:xfrm>
            <a:off x="0" y="167796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0"/>
          <p:cNvSpPr/>
          <p:nvPr/>
        </p:nvSpPr>
        <p:spPr>
          <a:xfrm>
            <a:off x="0" y="167796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7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sistenza di t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1"/>
          <p:cNvSpPr/>
          <p:nvPr/>
        </p:nvSpPr>
        <p:spPr>
          <a:xfrm>
            <a:off x="0" y="1998720"/>
            <a:ext cx="5668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5"/>
          <p:cNvSpPr/>
          <p:nvPr/>
        </p:nvSpPr>
        <p:spPr>
          <a:xfrm>
            <a:off x="0" y="199872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7"/>
          <p:cNvSpPr/>
          <p:nvPr/>
        </p:nvSpPr>
        <p:spPr>
          <a:xfrm>
            <a:off x="0" y="199872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0"/>
          <p:cNvSpPr/>
          <p:nvPr/>
        </p:nvSpPr>
        <p:spPr>
          <a:xfrm>
            <a:off x="0" y="199872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2"/>
          <p:cNvSpPr/>
          <p:nvPr/>
        </p:nvSpPr>
        <p:spPr>
          <a:xfrm>
            <a:off x="0" y="199872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5"/>
          <p:cNvSpPr/>
          <p:nvPr/>
        </p:nvSpPr>
        <p:spPr>
          <a:xfrm>
            <a:off x="0" y="199872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7"/>
          <p:cNvSpPr/>
          <p:nvPr/>
        </p:nvSpPr>
        <p:spPr>
          <a:xfrm>
            <a:off x="0" y="199872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0"/>
          <p:cNvSpPr/>
          <p:nvPr/>
        </p:nvSpPr>
        <p:spPr>
          <a:xfrm>
            <a:off x="0" y="199872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2"/>
          <p:cNvSpPr/>
          <p:nvPr/>
        </p:nvSpPr>
        <p:spPr>
          <a:xfrm>
            <a:off x="0" y="199872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85"/>
          <p:cNvSpPr/>
          <p:nvPr/>
        </p:nvSpPr>
        <p:spPr>
          <a:xfrm>
            <a:off x="0" y="199872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7"/>
          <p:cNvSpPr/>
          <p:nvPr/>
        </p:nvSpPr>
        <p:spPr>
          <a:xfrm>
            <a:off x="0" y="199872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83" descr="http://www.elektro.it/elektro_sicurel_html/sicurel_7/7image004.gif"/>
          <p:cNvPicPr/>
          <p:nvPr/>
        </p:nvPicPr>
        <p:blipFill>
          <a:blip r:embed="rId1"/>
          <a:stretch/>
        </p:blipFill>
        <p:spPr>
          <a:xfrm>
            <a:off x="3635280" y="981000"/>
            <a:ext cx="1435320" cy="143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84" descr="http://www.elektro.it/elektro_sicurel_html/sicurel_7/7image005.gif"/>
          <p:cNvPicPr/>
          <p:nvPr/>
        </p:nvPicPr>
        <p:blipFill>
          <a:blip r:embed="rId2"/>
          <a:stretch/>
        </p:blipFill>
        <p:spPr>
          <a:xfrm>
            <a:off x="5867280" y="1197000"/>
            <a:ext cx="1873440" cy="898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85"/>
          <p:cNvSpPr/>
          <p:nvPr/>
        </p:nvSpPr>
        <p:spPr>
          <a:xfrm>
            <a:off x="688320" y="14842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IA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6"/>
          <p:cNvSpPr/>
          <p:nvPr/>
        </p:nvSpPr>
        <p:spPr>
          <a:xfrm>
            <a:off x="613440" y="342900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ICCH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87" descr="http://www.elektro.it/elektro_sicurel_html/sicurel_7/7image006.gif"/>
          <p:cNvPicPr/>
          <p:nvPr/>
        </p:nvPicPr>
        <p:blipFill>
          <a:blip r:embed="rId3"/>
          <a:stretch/>
        </p:blipFill>
        <p:spPr>
          <a:xfrm>
            <a:off x="3635280" y="2852640"/>
            <a:ext cx="1435320" cy="143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8" descr="http://www.elektro.it/elektro_sicurel_html/sicurel_7/7image007.gif"/>
          <p:cNvPicPr/>
          <p:nvPr/>
        </p:nvPicPr>
        <p:blipFill>
          <a:blip r:embed="rId4"/>
          <a:stretch/>
        </p:blipFill>
        <p:spPr>
          <a:xfrm>
            <a:off x="6804000" y="3141720"/>
            <a:ext cx="1008000" cy="801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89"/>
          <p:cNvSpPr/>
          <p:nvPr/>
        </p:nvSpPr>
        <p:spPr>
          <a:xfrm>
            <a:off x="543240" y="5157720"/>
            <a:ext cx="244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DUT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RIZZO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90" descr="http://www.elektro.it/elektro_sicurel_html/sicurel_7/7image008.gif"/>
          <p:cNvPicPr/>
          <p:nvPr/>
        </p:nvPicPr>
        <p:blipFill>
          <a:blip r:embed="rId5"/>
          <a:stretch/>
        </p:blipFill>
        <p:spPr>
          <a:xfrm>
            <a:off x="3635280" y="4724280"/>
            <a:ext cx="1384560" cy="138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1" descr="http://www.elektro.it/elektro_sicurel_html/sicurel_7/7image009.gif"/>
          <p:cNvPicPr/>
          <p:nvPr/>
        </p:nvPicPr>
        <p:blipFill>
          <a:blip r:embed="rId6"/>
          <a:stretch/>
        </p:blipFill>
        <p:spPr>
          <a:xfrm>
            <a:off x="6300720" y="4941720"/>
            <a:ext cx="129564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4:33:03Z</dcterms:created>
  <dc:creator>federica foiadelli</dc:creator>
  <dc:description/>
  <dc:language>en-US</dc:language>
  <cp:lastModifiedBy>jk</cp:lastModifiedBy>
  <dcterms:modified xsi:type="dcterms:W3CDTF">2009-02-11T08:19:29Z</dcterms:modified>
  <cp:revision>100</cp:revision>
  <dc:subject/>
  <dc:title>Il</dc:title>
</cp:coreProperties>
</file>