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F807-9A52-43C7-A272-FA54FBCB1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5815-307D-4F0F-A278-8357CA9F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4DDB-525D-41D4-B92A-1CFD454A5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5A77-138B-4D6F-BDFE-85D1804EF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9C53-86A9-4B73-A926-63355FFD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C8D0-C618-43A8-B36C-D2DC5CB2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F236-FF42-44A1-B7DB-ADEBB7F1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6CE6-C578-4916-A526-665F2E9C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144E-7CE9-4D7C-B24E-7D2CED13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CB33-6199-4612-96F7-46895235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3448-C393-424E-8852-257761FD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9689-5F11-463B-9E83-9662B690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c123"/>
            </a:gs>
            <a:gs pos="50000">
              <a:srgbClr val="e6f0dc"/>
            </a:gs>
            <a:gs pos="100000">
              <a:srgbClr val="27c12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A080-9055-48D8-A042-0C81351398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c123"/>
            </a:gs>
            <a:gs pos="50000">
              <a:srgbClr val="e6f0dc"/>
            </a:gs>
            <a:gs pos="100000">
              <a:srgbClr val="27c12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33cc"/>
                </a:solidFill>
                <a:latin typeface="Times New Roman"/>
              </a:rPr>
              <a:t>IL TERRENO </a:t>
            </a:r>
            <a:br>
              <a:rPr sz="4400"/>
            </a:br>
            <a:r>
              <a:rPr b="1" lang="it-IT" sz="4400" spc="-1" strike="noStrike">
                <a:solidFill>
                  <a:srgbClr val="3333cc"/>
                </a:solidFill>
                <a:latin typeface="Times New Roman"/>
              </a:rPr>
              <a:t>CONDUTTORE ELETTR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ng.Mariacristina Ros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olitecnico di Mil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7274-026F-4FF4-A425-8AE6ABE8404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c123"/>
            </a:gs>
            <a:gs pos="50000">
              <a:srgbClr val="e6f0dc"/>
            </a:gs>
            <a:gs pos="100000">
              <a:srgbClr val="27c12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ENSIONE </a:t>
            </a:r>
            <a:r>
              <a:rPr b="1" lang="it-I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OTALE E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I CONTATTO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9144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e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la carcassa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(messa a terra) di un apparecch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è collegata a un dispersore di resistenza R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 disper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 corrente di guasto I, essa assume la tensio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 detta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tensione totale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i ter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 tensione alla quale è sogget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l corpo umano durante un guasto d’isolamen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rende il nome di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tensione di contatto U</a:t>
            </a:r>
            <a:r>
              <a:rPr b="1" lang="it-IT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 tensione di contatto è </a:t>
            </a: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&lt;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alla tensione tota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F90A-4C08-448E-87E5-22E4A14E4B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c123"/>
            </a:gs>
            <a:gs pos="50000">
              <a:srgbClr val="e6f0dc"/>
            </a:gs>
            <a:gs pos="100000">
              <a:srgbClr val="27c12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Tensione di contatto, la persona è in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prossimità del dispersor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e la tensione applicata al corpo umano è solo una parte della tensione totale U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9080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44600" y="1752480"/>
            <a:ext cx="8394480" cy="4724640"/>
            <a:chOff x="444600" y="1752480"/>
            <a:chExt cx="8394480" cy="4724640"/>
          </a:xfrm>
        </p:grpSpPr>
        <p:pic>
          <p:nvPicPr>
            <p:cNvPr id="98" name="image008" descr=""/>
            <p:cNvPicPr/>
            <p:nvPr/>
          </p:nvPicPr>
          <p:blipFill>
            <a:blip r:embed="rId1"/>
            <a:stretch/>
          </p:blipFill>
          <p:spPr>
            <a:xfrm>
              <a:off x="444600" y="1752480"/>
              <a:ext cx="4566960" cy="47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image010" descr=""/>
            <p:cNvPicPr/>
            <p:nvPr/>
          </p:nvPicPr>
          <p:blipFill>
            <a:blip r:embed="rId2"/>
            <a:stretch/>
          </p:blipFill>
          <p:spPr>
            <a:xfrm>
              <a:off x="4800600" y="1752480"/>
              <a:ext cx="4038480" cy="472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7772400" y="3048120"/>
              <a:ext cx="762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Arial Black"/>
                </a:rPr>
                <a:t>U</a:t>
              </a:r>
              <a:r>
                <a:rPr b="0" lang="it-IT" sz="2800" spc="-1" strike="noStrike" baseline="-25000">
                  <a:solidFill>
                    <a:srgbClr val="000000"/>
                  </a:solidFill>
                  <a:latin typeface="Arial Black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8381880" y="289548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2400" y="48769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Times New Roman"/>
                </a:rPr>
                <a:t>Us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5598-F61A-4FDD-B346-12491BA5AD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c123"/>
            </a:gs>
            <a:gs pos="50000">
              <a:srgbClr val="e6f0dc"/>
            </a:gs>
            <a:gs pos="100000">
              <a:srgbClr val="27c12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0" y="457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 tensione preesistente al contatto tra la carcass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 il punto del terreno occupato dalla person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è denominato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tensione di contatto a vuoto U</a:t>
            </a:r>
            <a:r>
              <a:rPr b="1" lang="it-IT" sz="3200" spc="-1" strike="noStrike" baseline="-25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 spesso a favore della sicurezza si confon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n la tensione di contatto U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00"/>
                </a:solidFill>
                <a:uFillTx/>
                <a:latin typeface="Times New Roman"/>
              </a:rPr>
              <a:t>Oss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. così come è definita la tensione di contatto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dipende dalla resistenza del corpo umano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 quindi non indicativa della pericolosità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tensioni di contatto diverse corrispondent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 resistenze diverse, ma alla stessa 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B31C-3C83-4808-97FC-53EE1141B4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c123"/>
            </a:gs>
            <a:gs pos="50000">
              <a:srgbClr val="e6f0dc"/>
            </a:gs>
            <a:gs pos="100000">
              <a:srgbClr val="27c12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0" y="763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tuazione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ù pericolosa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 ha 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contatto avviene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tano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l disperso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un punto del terreno in cu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potenziale è prossimo allo zer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oltre se il punto di contatto avveni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mite una conduttura idrica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sistenza di contatto verso terra della persona  R</a:t>
            </a:r>
            <a:r>
              <a:rPr b="0" lang="it-IT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c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rebbe molto piccola aumentand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tensione di contatto U</a:t>
            </a:r>
            <a:r>
              <a:rPr b="0" lang="it-IT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o a farla coincide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modo sensibile alla tensione totale di terra U</a:t>
            </a:r>
            <a:r>
              <a:rPr b="0" lang="it-IT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86E7-368A-4A17-9126-6E1EE853B58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c123"/>
            </a:gs>
            <a:gs pos="50000">
              <a:srgbClr val="e6f0dc"/>
            </a:gs>
            <a:gs pos="100000">
              <a:srgbClr val="27c12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 tensione di contatto deve essere valuta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n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un metodo standard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e riferita a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un valore convenzionale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el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resistenza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el corpo uma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i fini della sicurezza se fosse infini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i misurerebbe la tensione di contatto a vuot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ma pur essendo cautelativo sarebbe troppo ristret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n sede normativa è stata assunta una resiste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nvenzionale del corpo umano pari a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1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C439-9D4A-41BD-BA83-4FF4228DBE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c123"/>
            </a:gs>
            <a:gs pos="50000">
              <a:srgbClr val="e6f0dc"/>
            </a:gs>
            <a:gs pos="100000">
              <a:srgbClr val="27c12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0" y="5335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er effettuare le misure si devono utilizzare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due elettrodi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remuti sul terreno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con una forza di 250N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iascun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e un voltmetro con R di 1000 </a:t>
            </a:r>
            <a:r>
              <a:rPr b="1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inseri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tra la parte in esame e i due elettrodi in parall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osti alla distanza di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1m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dalla stessa par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E9FC-14EF-4DB1-BB80-15A5D72899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c123"/>
            </a:gs>
            <a:gs pos="50000">
              <a:srgbClr val="e6f0dc"/>
            </a:gs>
            <a:gs pos="100000">
              <a:srgbClr val="27c12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0" y="-7668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tensione di contatto dipende essenzialm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lla R</a:t>
            </a:r>
            <a:r>
              <a:rPr b="0" lang="it-IT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l corpo uman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l limite la R</a:t>
            </a:r>
            <a:r>
              <a:rPr b="0" lang="it-IT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sse infinita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ttraverso il corp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ano non passerebbe alcuna corrente pur av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a la U</a:t>
            </a:r>
            <a:r>
              <a:rPr b="0" lang="it-IT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0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la sicurezza sarebbe la più elev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e. Purtroppo la R</a:t>
            </a:r>
            <a:r>
              <a:rPr b="0" lang="it-IT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n solo non  è infini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anche di difficile valutazione poiché dipen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diversi fattori ma soprattutto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al percorso della corrent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alle condizioni ambientali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alla sup. di contatto degli elettrodi con la pel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 dalla tension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44FE-0BC4-40C3-87B2-D98F8D1F03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c123"/>
            </a:gs>
            <a:gs pos="50000">
              <a:srgbClr val="e6f0dc"/>
            </a:gs>
            <a:gs pos="100000">
              <a:srgbClr val="27c12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0" y="3805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mente la corrente fluisce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ercorso mani-mani o mani-piedi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è elevata la probabilità che il percors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la corrente sia diverso si configu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i="1" lang="it-I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uogo conduttore ristretto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il qua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prendono particolari misure di sicurezza.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percorso mano-mano è meno pericolos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percorso mani-piedi 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obabilità di innescare la fibrillazione cardia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 minore rispetto al percorso vertica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DF4E-B057-4006-9C9C-A1ACD6A03E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c123"/>
            </a:gs>
            <a:gs pos="50000">
              <a:srgbClr val="e6f0dc"/>
            </a:gs>
            <a:gs pos="100000">
              <a:srgbClr val="27c12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ttavia 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l percorso vertical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R</a:t>
            </a:r>
            <a:r>
              <a:rPr b="0" lang="it-IT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 in ser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sistenza verso terra della persona R</a:t>
            </a:r>
            <a:r>
              <a:rPr b="0" lang="it-IT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 è a favore della sicurezza, tanto che per valor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 R</a:t>
            </a:r>
            <a:r>
              <a:rPr b="0" lang="it-IT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EB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evati diventa più pericoloso in certi cas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percorso trasversale mano-man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Da queste considerazioni per traccia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la curva di sicurezz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ci si è riferiti 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ercorso mani-piedi di una person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che afferra un apparecchio elettrico con le due ma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e con i due piedi appoggiati al suol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5DA9-6D36-4ACA-9356-CF8D56F515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c123"/>
            </a:gs>
            <a:gs pos="50000">
              <a:srgbClr val="e6f0dc"/>
            </a:gs>
            <a:gs pos="100000">
              <a:srgbClr val="27c12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ono stati esaminati diversi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ipi di paviment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 secco e a umido ed è stato assunto un valore d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1" lang="it-IT" sz="28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EB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di 10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largamente cautelativo) per i luoghi ordinari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 di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2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n condizioni particolar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ll’aperto, in mancanza del paviment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a R</a:t>
            </a:r>
            <a:r>
              <a:rPr b="0" lang="it-IT" sz="28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EB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quivale a circa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volte la resistività del terren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dentificata co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a resistenza di una piastra metallica appoggia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ul terreno di area equivalente a quella dei piedi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 quindi è prudenziale per resistività del terr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&gt;100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rascurando, a favore del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icurezza,  la resistenza delle calzatu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9BCE-AA6F-48CF-9530-5D5D066B62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c123"/>
            </a:gs>
            <a:gs pos="50000">
              <a:srgbClr val="e6f0dc"/>
            </a:gs>
            <a:gs pos="100000">
              <a:srgbClr val="27c12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LA RESISTENZA DI T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rrente che fluisce attraverso il corpo uman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chiude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genere tramite il terren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vo il caso particolare di una persona isolata da t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in contatto simultaneo con due punt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circuito elettrico a diverso potenzia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981080" y="4038480"/>
            <a:ext cx="2210040" cy="2514600"/>
            <a:chOff x="1981080" y="4038480"/>
            <a:chExt cx="2210040" cy="2514600"/>
          </a:xfrm>
        </p:grpSpPr>
        <p:grpSp>
          <p:nvGrpSpPr>
            <p:cNvPr id="46" name=""/>
            <p:cNvGrpSpPr/>
            <p:nvPr/>
          </p:nvGrpSpPr>
          <p:grpSpPr>
            <a:xfrm>
              <a:off x="1981080" y="4038480"/>
              <a:ext cx="2210040" cy="2514240"/>
              <a:chOff x="1981080" y="4038480"/>
              <a:chExt cx="2210040" cy="2514240"/>
            </a:xfrm>
          </p:grpSpPr>
          <p:grpSp>
            <p:nvGrpSpPr>
              <p:cNvPr id="47" name=""/>
              <p:cNvGrpSpPr/>
              <p:nvPr/>
            </p:nvGrpSpPr>
            <p:grpSpPr>
              <a:xfrm>
                <a:off x="1981080" y="4325760"/>
                <a:ext cx="2210040" cy="2226960"/>
                <a:chOff x="1981080" y="4325760"/>
                <a:chExt cx="2210040" cy="222696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2643840" y="4325760"/>
                  <a:ext cx="442080" cy="556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2864880" y="4882320"/>
                  <a:ext cx="0" cy="83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 flipH="1">
                  <a:off x="2422800" y="4882320"/>
                  <a:ext cx="441720" cy="27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2864880" y="4882320"/>
                  <a:ext cx="442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3306960" y="4325760"/>
                  <a:ext cx="220680" cy="834840"/>
                </a:xfrm>
                <a:prstGeom prst="flowChartSummingJunction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 flipH="1">
                  <a:off x="2643840" y="5717520"/>
                  <a:ext cx="221040" cy="83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2864880" y="5717520"/>
                  <a:ext cx="221040" cy="83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1981080" y="6552720"/>
                  <a:ext cx="2210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rot="10886400">
                  <a:off x="2860920" y="4651200"/>
                  <a:ext cx="401400" cy="1861560"/>
                </a:xfrm>
                <a:custGeom>
                  <a:avLst/>
                  <a:gdLst/>
                  <a:ahLst/>
                  <a:rect l="l" t="t" r="r" b="b"/>
                  <a:pathLst>
                    <a:path w="327" h="1204">
                      <a:moveTo>
                        <a:pt x="0" y="0"/>
                      </a:moveTo>
                      <a:cubicBezTo>
                        <a:pt x="125" y="28"/>
                        <a:pt x="238" y="19"/>
                        <a:pt x="300" y="160"/>
                      </a:cubicBezTo>
                      <a:cubicBezTo>
                        <a:pt x="327" y="221"/>
                        <a:pt x="313" y="293"/>
                        <a:pt x="320" y="360"/>
                      </a:cubicBezTo>
                      <a:cubicBezTo>
                        <a:pt x="313" y="487"/>
                        <a:pt x="311" y="614"/>
                        <a:pt x="300" y="740"/>
                      </a:cubicBezTo>
                      <a:cubicBezTo>
                        <a:pt x="296" y="789"/>
                        <a:pt x="249" y="905"/>
                        <a:pt x="240" y="940"/>
                      </a:cubicBezTo>
                      <a:cubicBezTo>
                        <a:pt x="233" y="968"/>
                        <a:pt x="193" y="1137"/>
                        <a:pt x="180" y="1140"/>
                      </a:cubicBezTo>
                      <a:cubicBezTo>
                        <a:pt x="153" y="1147"/>
                        <a:pt x="127" y="1153"/>
                        <a:pt x="100" y="1160"/>
                      </a:cubicBezTo>
                      <a:cubicBezTo>
                        <a:pt x="34" y="1204"/>
                        <a:pt x="64" y="1200"/>
                        <a:pt x="20" y="1200"/>
                      </a:cubicBezTo>
                    </a:path>
                  </a:pathLst>
                </a:custGeom>
                <a:noFill/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2590920" y="4110120"/>
                <a:ext cx="152280" cy="28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895480" y="403848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H="1">
                <a:off x="3047760" y="4110120"/>
                <a:ext cx="152280" cy="28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743200" y="4110120"/>
                <a:ext cx="76320" cy="28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>
                <a:off x="2971800" y="4110120"/>
                <a:ext cx="76320" cy="21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3505320" y="4343400"/>
              <a:ext cx="457200" cy="2209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334120" y="4267080"/>
            <a:ext cx="2057400" cy="2361960"/>
            <a:chOff x="5334120" y="4267080"/>
            <a:chExt cx="2057400" cy="2361960"/>
          </a:xfrm>
        </p:grpSpPr>
        <p:grpSp>
          <p:nvGrpSpPr>
            <p:cNvPr id="64" name=""/>
            <p:cNvGrpSpPr/>
            <p:nvPr/>
          </p:nvGrpSpPr>
          <p:grpSpPr>
            <a:xfrm>
              <a:off x="5334120" y="4267080"/>
              <a:ext cx="2057400" cy="2361960"/>
              <a:chOff x="5334120" y="4267080"/>
              <a:chExt cx="2057400" cy="2361960"/>
            </a:xfrm>
          </p:grpSpPr>
          <p:sp>
            <p:nvSpPr>
              <p:cNvPr id="65" name=""/>
              <p:cNvSpPr/>
              <p:nvPr/>
            </p:nvSpPr>
            <p:spPr>
              <a:xfrm>
                <a:off x="5951160" y="4267080"/>
                <a:ext cx="411120" cy="590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157080" y="4857120"/>
                <a:ext cx="0" cy="88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>
                <a:off x="6157080" y="4857120"/>
                <a:ext cx="411120" cy="29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157080" y="4857120"/>
                <a:ext cx="411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568560" y="4267080"/>
                <a:ext cx="205560" cy="885600"/>
              </a:xfrm>
              <a:prstGeom prst="flowChartSummingJuncti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>
                <a:off x="5950800" y="5743440"/>
                <a:ext cx="205560" cy="88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157080" y="5743440"/>
                <a:ext cx="205560" cy="88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334120" y="6629040"/>
                <a:ext cx="205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0886400">
                <a:off x="6361200" y="4619520"/>
                <a:ext cx="424080" cy="536400"/>
              </a:xfrm>
              <a:custGeom>
                <a:avLst/>
                <a:gdLst/>
                <a:ahLst/>
                <a:rect l="l" t="t" r="r" b="b"/>
                <a:pathLst>
                  <a:path w="327" h="1204">
                    <a:moveTo>
                      <a:pt x="0" y="0"/>
                    </a:moveTo>
                    <a:cubicBezTo>
                      <a:pt x="125" y="28"/>
                      <a:pt x="238" y="19"/>
                      <a:pt x="300" y="160"/>
                    </a:cubicBezTo>
                    <a:cubicBezTo>
                      <a:pt x="327" y="221"/>
                      <a:pt x="313" y="293"/>
                      <a:pt x="320" y="360"/>
                    </a:cubicBezTo>
                    <a:cubicBezTo>
                      <a:pt x="313" y="487"/>
                      <a:pt x="311" y="614"/>
                      <a:pt x="300" y="740"/>
                    </a:cubicBezTo>
                    <a:cubicBezTo>
                      <a:pt x="296" y="789"/>
                      <a:pt x="249" y="905"/>
                      <a:pt x="240" y="940"/>
                    </a:cubicBezTo>
                    <a:cubicBezTo>
                      <a:pt x="233" y="968"/>
                      <a:pt x="193" y="1137"/>
                      <a:pt x="180" y="1140"/>
                    </a:cubicBezTo>
                    <a:cubicBezTo>
                      <a:pt x="153" y="1147"/>
                      <a:pt x="127" y="1153"/>
                      <a:pt x="100" y="1160"/>
                    </a:cubicBezTo>
                    <a:cubicBezTo>
                      <a:pt x="34" y="1204"/>
                      <a:pt x="64" y="1200"/>
                      <a:pt x="20" y="1200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745240" y="6333840"/>
                <a:ext cx="822960" cy="295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6781680" y="4343400"/>
              <a:ext cx="457200" cy="2209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B353-96C7-4E75-B16B-E29740783F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c123"/>
            </a:gs>
            <a:gs pos="50000">
              <a:srgbClr val="e6f0dc"/>
            </a:gs>
            <a:gs pos="100000">
              <a:srgbClr val="27c12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ella ta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b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sono riportati i valori di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n funzione della tensione nel percors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mani-piedi  (CEI 1335 P, art.5)  dalla qua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i ricava per ogni valore di tensione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Arial"/>
              </a:rPr>
              <a:t>la corren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che fluisce attraverso  la resistenza R</a:t>
            </a:r>
            <a:r>
              <a:rPr b="0" lang="en-GB" sz="32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+R</a:t>
            </a:r>
            <a:r>
              <a:rPr b="0" lang="en-GB" sz="32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E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838080" y="3200400"/>
            <a:ext cx="7314480" cy="3276360"/>
            <a:chOff x="838080" y="3200400"/>
            <a:chExt cx="7314480" cy="3276360"/>
          </a:xfrm>
        </p:grpSpPr>
        <p:grpSp>
          <p:nvGrpSpPr>
            <p:cNvPr id="113" name=""/>
            <p:cNvGrpSpPr/>
            <p:nvPr/>
          </p:nvGrpSpPr>
          <p:grpSpPr>
            <a:xfrm>
              <a:off x="850680" y="3205800"/>
              <a:ext cx="7287120" cy="3264480"/>
              <a:chOff x="850680" y="3205800"/>
              <a:chExt cx="7287120" cy="326448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850680" y="3205800"/>
                <a:ext cx="2180880" cy="1158840"/>
                <a:chOff x="850680" y="3205800"/>
                <a:chExt cx="2180880" cy="115884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850680" y="3205800"/>
                  <a:ext cx="2180880" cy="115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ensione di contatto</a:t>
                  </a:r>
                  <a:r>
                    <a:rPr b="0" i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</a:t>
                  </a: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850680" y="3205800"/>
                  <a:ext cx="2180880" cy="115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3032280" y="3205800"/>
                <a:ext cx="5105520" cy="1158840"/>
                <a:chOff x="3032280" y="3205800"/>
                <a:chExt cx="5105520" cy="115884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3032280" y="3205800"/>
                  <a:ext cx="5105520" cy="115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br>
                    <a:rPr sz="900"/>
                  </a:b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alori di R</a:t>
                  </a:r>
                  <a:r>
                    <a:rPr b="1" lang="en-GB" sz="24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che non sono superati dal 5% della popolazione  </a:t>
                  </a:r>
                  <a:br>
                    <a:rPr sz="2400"/>
                  </a:b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percorso mani - piedi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032280" y="3205800"/>
                  <a:ext cx="5105520" cy="115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850680" y="4365000"/>
                <a:ext cx="2180880" cy="2105280"/>
                <a:chOff x="850680" y="4365000"/>
                <a:chExt cx="2180880" cy="21052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850680" y="4365000"/>
                  <a:ext cx="2180880" cy="21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     V</a:t>
                  </a:r>
                  <a:br>
                    <a:rPr sz="1400"/>
                  </a:br>
                  <a:r>
                    <a:rPr b="0" lang="en-GB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0     V </a:t>
                  </a:r>
                  <a:br>
                    <a:rPr sz="1400"/>
                  </a:br>
                  <a:r>
                    <a:rPr b="0" lang="en-GB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5     V</a:t>
                  </a:r>
                  <a:br>
                    <a:rPr sz="1400"/>
                  </a:br>
                  <a:r>
                    <a:rPr b="0" lang="en-GB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   V</a:t>
                  </a:r>
                  <a:br>
                    <a:rPr sz="1400"/>
                  </a:br>
                  <a:r>
                    <a:rPr b="0" lang="en-GB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5   V</a:t>
                  </a:r>
                  <a:br>
                    <a:rPr sz="1400"/>
                  </a:br>
                  <a:r>
                    <a:rPr b="0" lang="en-GB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0   V </a:t>
                  </a:r>
                  <a:br>
                    <a:rPr sz="1400"/>
                  </a:br>
                  <a:r>
                    <a:rPr b="0" lang="en-GB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00   V</a:t>
                  </a:r>
                  <a:br>
                    <a:rPr sz="1400"/>
                  </a:br>
                  <a:r>
                    <a:rPr b="0" lang="en-GB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0 V</a:t>
                  </a:r>
                  <a:br>
                    <a:rPr sz="1400"/>
                  </a:br>
                  <a:r>
                    <a:rPr b="0" lang="en-GB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al. asintotico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850680" y="4365000"/>
                  <a:ext cx="2180880" cy="210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3032280" y="4365000"/>
                <a:ext cx="5105520" cy="2105280"/>
                <a:chOff x="3032280" y="4365000"/>
                <a:chExt cx="5105520" cy="21052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3032280" y="4365000"/>
                  <a:ext cx="5105520" cy="21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75 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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25 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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25 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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00 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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62 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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00 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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75 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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50 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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25 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032280" y="4365000"/>
                  <a:ext cx="5105520" cy="210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6" name=""/>
            <p:cNvSpPr/>
            <p:nvPr/>
          </p:nvSpPr>
          <p:spPr>
            <a:xfrm>
              <a:off x="838080" y="3200400"/>
              <a:ext cx="7314480" cy="3276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1A38-7F1D-4429-8801-569DF9DA31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c123"/>
            </a:gs>
            <a:gs pos="50000">
              <a:srgbClr val="e6f0dc"/>
            </a:gs>
            <a:gs pos="100000">
              <a:srgbClr val="27c12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l valore di corrente così calcolato va riporta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ulla curva di sicurezza tempo-corrente dalla qua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è facile ricavare </a:t>
            </a:r>
            <a:r>
              <a:rPr b="0" lang="en-GB" sz="2800" spc="-1" strike="noStrike">
                <a:solidFill>
                  <a:srgbClr val="3333cc"/>
                </a:solidFill>
                <a:latin typeface="Times New Roman"/>
                <a:ea typeface="Arial"/>
              </a:rPr>
              <a:t>il temp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per cui può essere tollera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quel valore di tension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, questi valori sono raccol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nella tabella e vengono utilizzati per tracci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a curva di sicurezza  tensione/temp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09480" y="3079800"/>
            <a:ext cx="7924320" cy="3854520"/>
            <a:chOff x="609480" y="3079800"/>
            <a:chExt cx="7924320" cy="3854520"/>
          </a:xfrm>
        </p:grpSpPr>
        <p:grpSp>
          <p:nvGrpSpPr>
            <p:cNvPr id="129" name=""/>
            <p:cNvGrpSpPr/>
            <p:nvPr/>
          </p:nvGrpSpPr>
          <p:grpSpPr>
            <a:xfrm>
              <a:off x="619200" y="3083760"/>
              <a:ext cx="7903440" cy="3845880"/>
              <a:chOff x="619200" y="3083760"/>
              <a:chExt cx="7903440" cy="384588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619200" y="3083760"/>
                <a:ext cx="1150560" cy="1329120"/>
                <a:chOff x="619200" y="3083760"/>
                <a:chExt cx="1150560" cy="132912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619200" y="3083760"/>
                  <a:ext cx="1150560" cy="13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ensione di contatt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619200" y="3083760"/>
                  <a:ext cx="1150560" cy="132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1770480" y="3083760"/>
                <a:ext cx="2976120" cy="512280"/>
                <a:chOff x="1770480" y="3083760"/>
                <a:chExt cx="2976120" cy="51228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1770480" y="3083760"/>
                  <a:ext cx="2976120" cy="51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dizioni ordinarie</a:t>
                  </a:r>
                  <a:r>
                    <a:rPr b="0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770480" y="3083760"/>
                  <a:ext cx="2976120" cy="512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4747320" y="3083760"/>
                <a:ext cx="3775320" cy="512280"/>
                <a:chOff x="4747320" y="3083760"/>
                <a:chExt cx="3775320" cy="51228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4747320" y="3083760"/>
                  <a:ext cx="3775320" cy="51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i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dizioni particolari</a:t>
                  </a:r>
                  <a:r>
                    <a:rPr b="0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4747320" y="3083760"/>
                  <a:ext cx="3775320" cy="512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1770480" y="3596040"/>
                <a:ext cx="902160" cy="816840"/>
                <a:chOff x="1770480" y="3596040"/>
                <a:chExt cx="902160" cy="8168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1770480" y="3596040"/>
                  <a:ext cx="902160" cy="81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0" i="1" lang="fr-FR" sz="18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</a:t>
                  </a:r>
                  <a:r>
                    <a:rPr b="0" i="1" lang="fr-FR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R</a:t>
                  </a:r>
                  <a:r>
                    <a:rPr b="0" i="1" lang="fr-FR" sz="18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770480" y="3596040"/>
                  <a:ext cx="902160" cy="81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2673360" y="3596040"/>
                <a:ext cx="1054080" cy="816840"/>
                <a:chOff x="2673360" y="3596040"/>
                <a:chExt cx="1054080" cy="81684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673360" y="3596040"/>
                  <a:ext cx="1054080" cy="81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673360" y="3596040"/>
                  <a:ext cx="1054080" cy="81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3728520" y="3596040"/>
                <a:ext cx="1018080" cy="816840"/>
                <a:chOff x="3728520" y="3596040"/>
                <a:chExt cx="1018080" cy="8168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728520" y="3596040"/>
                  <a:ext cx="1018080" cy="81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728520" y="3596040"/>
                  <a:ext cx="1018080" cy="81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4747320" y="3596040"/>
                <a:ext cx="1644840" cy="816840"/>
                <a:chOff x="4747320" y="3596040"/>
                <a:chExt cx="1644840" cy="8168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4747320" y="3596040"/>
                  <a:ext cx="1644840" cy="81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0" i="1" lang="fr-FR" sz="18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</a:t>
                  </a:r>
                  <a:r>
                    <a:rPr b="0" i="1" lang="fr-FR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R</a:t>
                  </a:r>
                  <a:r>
                    <a:rPr b="0" i="1" lang="fr-FR" sz="18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747320" y="3596040"/>
                  <a:ext cx="1644840" cy="81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6393240" y="3596040"/>
                <a:ext cx="1230120" cy="816840"/>
                <a:chOff x="6393240" y="3596040"/>
                <a:chExt cx="1230120" cy="81684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6393240" y="3596040"/>
                  <a:ext cx="1230120" cy="81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393240" y="3596040"/>
                  <a:ext cx="1230120" cy="81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7624080" y="3596040"/>
                <a:ext cx="898200" cy="816840"/>
                <a:chOff x="7624080" y="3596040"/>
                <a:chExt cx="898200" cy="8168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7624080" y="3596040"/>
                  <a:ext cx="898200" cy="81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7624080" y="3596040"/>
                  <a:ext cx="898200" cy="81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619200" y="4412880"/>
                <a:ext cx="1150560" cy="2516760"/>
                <a:chOff x="619200" y="4412880"/>
                <a:chExt cx="1150560" cy="251676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619200" y="4412880"/>
                  <a:ext cx="1150560" cy="25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   V</a:t>
                  </a:r>
                  <a:br>
                    <a:rPr sz="1600"/>
                  </a:br>
                  <a:r>
                    <a:rPr b="0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0   V</a:t>
                  </a:r>
                  <a:br>
                    <a:rPr sz="1600"/>
                  </a:br>
                  <a:r>
                    <a:rPr b="0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5   V</a:t>
                  </a:r>
                  <a:br>
                    <a:rPr sz="1600"/>
                  </a:br>
                  <a:r>
                    <a:rPr b="0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0  V</a:t>
                  </a:r>
                  <a:br>
                    <a:rPr sz="1600"/>
                  </a:br>
                  <a:r>
                    <a:rPr b="0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0  V</a:t>
                  </a:r>
                  <a:br>
                    <a:rPr sz="1600"/>
                  </a:br>
                  <a:r>
                    <a:rPr b="0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0  V</a:t>
                  </a:r>
                  <a:br>
                    <a:rPr sz="1600"/>
                  </a:br>
                  <a:r>
                    <a:rPr b="0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0  V</a:t>
                  </a:r>
                  <a:br>
                    <a:rPr sz="1600"/>
                  </a:br>
                  <a:r>
                    <a:rPr b="0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0  V</a:t>
                  </a:r>
                  <a:br>
                    <a:rPr sz="1600"/>
                  </a:br>
                  <a:r>
                    <a:rPr b="0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00  V </a:t>
                  </a:r>
                  <a:r>
                    <a:rPr b="0" lang="fr-FR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19200" y="4412880"/>
                  <a:ext cx="1150560" cy="251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1770480" y="4412880"/>
                <a:ext cx="902160" cy="2516760"/>
                <a:chOff x="1770480" y="4412880"/>
                <a:chExt cx="902160" cy="251676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1770480" y="4412880"/>
                  <a:ext cx="902160" cy="25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----- </a:t>
                  </a:r>
                  <a:br>
                    <a:rPr sz="1600"/>
                  </a:b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25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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25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br>
                    <a:rPr sz="1600"/>
                  </a:b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00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1535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</a:t>
                  </a:r>
                  <a:br>
                    <a:rPr sz="1600"/>
                  </a:b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75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</a:t>
                  </a:r>
                  <a:br>
                    <a:rPr sz="1600"/>
                  </a:b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75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</a:t>
                  </a:r>
                  <a:br>
                    <a:rPr sz="1600"/>
                  </a:b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70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</a:t>
                  </a:r>
                  <a:br>
                    <a:rPr sz="1600"/>
                  </a:b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60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</a:t>
                  </a:r>
                  <a:r>
                    <a:rPr b="0" lang="en-GB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770480" y="4412880"/>
                  <a:ext cx="902160" cy="251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2673360" y="4412880"/>
                <a:ext cx="1054080" cy="2516760"/>
                <a:chOff x="2673360" y="4412880"/>
                <a:chExt cx="1054080" cy="251676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2673360" y="4412880"/>
                  <a:ext cx="1054080" cy="25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----- 29   mA</a:t>
                  </a:r>
                  <a:br>
                    <a:rPr sz="1600"/>
                  </a:b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6   mA    56   mA    72   mA    102mA     167mA     204mA     368 mA</a:t>
                  </a:r>
                  <a:r>
                    <a:rPr b="0" lang="en-GB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673360" y="4412880"/>
                  <a:ext cx="1054080" cy="251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3728520" y="4412880"/>
                <a:ext cx="1018080" cy="2516760"/>
                <a:chOff x="3728520" y="4412880"/>
                <a:chExt cx="1018080" cy="251676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3728520" y="4412880"/>
                  <a:ext cx="1018080" cy="25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-----  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        s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60  s     0,45  s     0,36  s     0,27  s     0,17  s     0,12  s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4  s     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3728520" y="4412880"/>
                  <a:ext cx="1018080" cy="251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4747320" y="4412880"/>
                <a:ext cx="1644840" cy="2516760"/>
                <a:chOff x="4747320" y="4412880"/>
                <a:chExt cx="1644840" cy="251676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747320" y="4412880"/>
                  <a:ext cx="1644840" cy="25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75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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25 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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5 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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80 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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30 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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60 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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75 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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70 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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------  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747320" y="4412880"/>
                  <a:ext cx="1644840" cy="251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393240" y="4412880"/>
                <a:ext cx="1230120" cy="2516760"/>
                <a:chOff x="6393240" y="4412880"/>
                <a:chExt cx="1230120" cy="25167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393240" y="4412880"/>
                  <a:ext cx="1230120" cy="25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  m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4  mA   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1  mA  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5mA  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1mA  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7mA  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00 m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91mA     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-----  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393240" y="4412880"/>
                  <a:ext cx="1230120" cy="251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7624080" y="4412880"/>
                <a:ext cx="898200" cy="2516760"/>
                <a:chOff x="7624080" y="4412880"/>
                <a:chExt cx="898200" cy="251676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7624080" y="4412880"/>
                  <a:ext cx="898200" cy="25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         s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47   s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30   s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25   s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8   s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0   s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3   s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2   s</a:t>
                  </a:r>
                  <a:br>
                    <a:rPr sz="1600"/>
                  </a:b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------  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7624080" y="4412880"/>
                  <a:ext cx="898200" cy="251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8" name=""/>
            <p:cNvSpPr/>
            <p:nvPr/>
          </p:nvSpPr>
          <p:spPr>
            <a:xfrm>
              <a:off x="609480" y="3079800"/>
              <a:ext cx="7924320" cy="38545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042A-80D0-49BE-B5A4-DE42AD763D5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c123"/>
            </a:gs>
            <a:gs pos="50000">
              <a:srgbClr val="e6f0dc"/>
            </a:gs>
            <a:gs pos="100000">
              <a:srgbClr val="27c12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962000" y="14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image025" descr=""/>
          <p:cNvPicPr/>
          <p:nvPr/>
        </p:nvPicPr>
        <p:blipFill>
          <a:blip r:embed="rId1"/>
          <a:stretch/>
        </p:blipFill>
        <p:spPr>
          <a:xfrm>
            <a:off x="914400" y="876240"/>
            <a:ext cx="7238880" cy="56008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urve di sicurezza tensione-tempo in condizioni ambientali particolari e ordina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0BFA-D2BE-40C3-BE60-89DDE3B2A97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c123"/>
            </a:gs>
            <a:gs pos="50000">
              <a:srgbClr val="e6f0dc"/>
            </a:gs>
            <a:gs pos="100000">
              <a:srgbClr val="27c12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0" y="-7668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oiché i valori di R</a:t>
            </a:r>
            <a:r>
              <a:rPr b="0" lang="it-IT" sz="32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varian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a seconda del percorso della corrente nel corpo um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er semplificare l’individuazione delle tension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ericolose si sono stabiliti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n modo convenzion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valori prudenziali di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1" lang="it-IT" sz="32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e di R</a:t>
            </a:r>
            <a:r>
              <a:rPr b="1" lang="it-IT" sz="32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E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tali da ottene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 valori massimi delle tensioni di contatto a vuo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opportabili dal corpo umano in funzione del temp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La tensione che p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uò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ermanere su una massa 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un tempo indefinito senza pericolo per le person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è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 condizioni normali  U</a:t>
            </a:r>
            <a:r>
              <a:rPr b="1" lang="it-IT" sz="32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50V ment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n condizioni particolari U</a:t>
            </a:r>
            <a:r>
              <a:rPr b="1" lang="it-IT" sz="32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=25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(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mbienti bagnati, strutture adibite ad uso zootecnico, ecc.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CE38-5B8D-47A5-82DD-42BA2B33166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c123"/>
            </a:gs>
            <a:gs pos="50000">
              <a:srgbClr val="e6f0dc"/>
            </a:gs>
            <a:gs pos="100000">
              <a:srgbClr val="27c12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Times New Roman"/>
              </a:rPr>
              <a:t>LA RESISTENZA DI T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0" y="9907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terreno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olge la funzione di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duttore elettric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tte le volte che tra due suoi punti viene applicata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mite 2 elettrodi una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i elettrodi prendono il nome di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ersor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nsideriamo un dispersore di forma emisfer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 sufficientemente lontano dall’elettrodo di ritorn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er considerare il campo di corrente radi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9AF2-3011-45A6-AA6E-CB1888243A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c123"/>
            </a:gs>
            <a:gs pos="50000">
              <a:srgbClr val="e6f0dc"/>
            </a:gs>
            <a:gs pos="100000">
              <a:srgbClr val="27c12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7632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78000" indent="-37800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00"/>
                </a:solidFill>
                <a:uFillTx/>
                <a:latin typeface="Times New Roman"/>
              </a:rPr>
              <a:t>Ogni porzione elementare del terreno offre una </a:t>
            </a:r>
            <a:br>
              <a:rPr sz="3200"/>
            </a:br>
            <a:r>
              <a:rPr b="0" lang="it-IT" sz="3200" spc="-1" strike="noStrike" u="sng">
                <a:solidFill>
                  <a:srgbClr val="000000"/>
                </a:solidFill>
                <a:uFillTx/>
                <a:latin typeface="Times New Roman"/>
              </a:rPr>
              <a:t>R tanto più piccola quanto più </a:t>
            </a:r>
            <a:br>
              <a:rPr sz="3200"/>
            </a:br>
            <a:r>
              <a:rPr b="0" lang="it-IT" sz="3200" spc="-1" strike="noStrike" u="sng">
                <a:solidFill>
                  <a:srgbClr val="000000"/>
                </a:solidFill>
                <a:uFillTx/>
                <a:latin typeface="Times New Roman"/>
              </a:rPr>
              <a:t>è lontana dal dispersore</a:t>
            </a:r>
            <a:br>
              <a:rPr sz="3200"/>
            </a:b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0" y="1905120"/>
            <a:ext cx="91440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stenza di terra Rt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ma delle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ettriche elementar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 queste porzioni di terren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 studio dell’elettrodo emisferico in terr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ogeneo è utile poiché, qualunque sia la form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dispersore, a una distanza sufficientemente gra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uperfici equipotenziali divengono emisferich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D088-A7F9-4924-93DC-6876CAD235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c123"/>
            </a:gs>
            <a:gs pos="50000">
              <a:srgbClr val="e6f0dc"/>
            </a:gs>
            <a:gs pos="100000">
              <a:srgbClr val="27c12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I POTENZIALI DEL TERR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75960" y="76212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ndamento del potenziale nel terreno percorso da corr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5768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image002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7696080" cy="525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A1DA-B264-49A3-86C0-462FC8EE17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c123"/>
            </a:gs>
            <a:gs pos="50000">
              <a:srgbClr val="e6f0dc"/>
            </a:gs>
            <a:gs pos="100000">
              <a:srgbClr val="27c12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19720" y="380520"/>
            <a:ext cx="44193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Nel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bipolo equivalent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alla R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un polo è rappresentato dalla parte metallica (fig.b)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el dispersore vero e proprio, l’altro polo da un punto all’infinito a potenziale zero (fig.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81160" y="17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image004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4038840" cy="533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D63D-02D7-4D4C-8AB6-96EC5FFE4E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c123"/>
            </a:gs>
            <a:gs pos="50000">
              <a:srgbClr val="e6f0dc"/>
            </a:gs>
            <a:gs pos="100000">
              <a:srgbClr val="27c12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ispersori in parall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0" y="12193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Due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dispersor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possono essere considerat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n parallelo quando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è zero il potenziale prodotto dall’uno sull’altr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n teoria i dispersori non sono mai in parallel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(solo all’infinito l’influenza reciproca è nulla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anche se in pratica è sufficiente che siano distant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circa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d&gt;10r</a:t>
            </a:r>
            <a:r>
              <a:rPr b="1" lang="en-GB" sz="32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per poter essere considerati in parall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(r</a:t>
            </a:r>
            <a:r>
              <a:rPr b="0" lang="en-GB" sz="32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raggio dell’equivalente emisferico del dispersor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9B57-B494-48B5-BC4B-C14425D0DF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c123"/>
            </a:gs>
            <a:gs pos="50000">
              <a:srgbClr val="e6f0dc"/>
            </a:gs>
            <a:gs pos="100000">
              <a:srgbClr val="27c12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RESISTENZA VERSO TERRA</a:t>
            </a:r>
            <a:br>
              <a:rPr sz="3200"/>
            </a:b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 DI UNA PERS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15235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n un contatto mano-piedi la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I fluisc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attravers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l terreno: i piedi sono due dispersor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 valutazione della R verso terra è uti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er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ricostruire il circuito di guasto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nel quale la persona si trova inseri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4F80-1F99-4D6C-8865-F34724AABF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7c123"/>
            </a:gs>
            <a:gs pos="50000">
              <a:srgbClr val="e6f0dc"/>
            </a:gs>
            <a:gs pos="100000">
              <a:srgbClr val="27c12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 piedi possono essere assimilati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due piastre circolari di raggio r</a:t>
            </a:r>
            <a:r>
              <a:rPr b="1" lang="en-GB" sz="32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en-GB" sz="32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la resistenza di terra di un tale dispersore v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lang="it-IT" sz="3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=2</a:t>
            </a:r>
            <a:r>
              <a:rPr b="0" lang="it-IT" sz="3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/5r</a:t>
            </a:r>
            <a:r>
              <a:rPr b="0" lang="it-IT" sz="3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ove </a:t>
            </a:r>
            <a:r>
              <a:rPr b="0" lang="it-IT" sz="3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è la resistività del terr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sum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end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la piastra di raggio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lang="en-GB" sz="3200" spc="-1" strike="noStrike" baseline="-30000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0,13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i ottiene un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resistenza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ari a 3 </a:t>
            </a:r>
            <a:r>
              <a:rPr b="0" lang="it-IT" sz="3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 piedi possono essere considerati co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due dispersori in parallelo e la R</a:t>
            </a:r>
            <a:r>
              <a:rPr b="1" lang="it-IT" sz="3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EB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è circa 1,5 </a:t>
            </a:r>
            <a:r>
              <a:rPr b="0" lang="it-IT" sz="3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30FA-9D77-4DF1-A353-A51BEB5D2D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6T05:29:49Z</dcterms:created>
  <dc:creator>Mariacristina Roscia</dc:creator>
  <dc:description/>
  <dc:language>en-US</dc:language>
  <cp:lastModifiedBy>Politecnico di Milano</cp:lastModifiedBy>
  <dcterms:modified xsi:type="dcterms:W3CDTF">2003-12-15T21:05:15Z</dcterms:modified>
  <cp:revision>43</cp:revision>
  <dc:subject/>
  <dc:title>IL TERRENO  CONDUTTORE ELETTRICO</dc:title>
</cp:coreProperties>
</file>