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6FF-B541-418A-80AC-26341323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30C-479F-47BB-9F96-2FA6DE6E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5ED-ED2E-4EAC-B167-84AC725D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754-F52A-4E88-B1F2-2E57ED75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C89-AC11-4CA7-A475-596CAFCA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D2D-3167-491C-AF16-83BDCE8F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7F2-4E2B-4422-A6FF-5C1FCED5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01A-CF47-4433-A598-AA0CC15F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402-698A-415A-95FA-3936AB2F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78B-B83C-4F1E-8716-4C9A849A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C37-B44F-4ED4-96B6-653677E5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50E-72E8-4232-AE43-D884B5B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D6DA-99C3-46A3-A878-08D803C60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cc"/>
                </a:solidFill>
                <a:latin typeface="Times New Roman"/>
              </a:rPr>
              <a:t>IL TERRENO </a:t>
            </a:r>
            <a:br>
              <a:rPr sz="4400"/>
            </a:br>
            <a:r>
              <a:rPr b="1" lang="it-IT" sz="4400" spc="-1" strike="noStrike">
                <a:solidFill>
                  <a:srgbClr val="3333cc"/>
                </a:solidFill>
                <a:latin typeface="Times New Roman"/>
              </a:rPr>
              <a:t>CONDUTTORE ELET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g.Mariacristina Ros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litecnico di Mi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9D5-7F23-4A28-AD34-B1FEAE1898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NSIONE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TALE 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 CONTATT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arcass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messa a terra) di un apparecch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è collegata a un dispersore di resistenza 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disper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orrente di guasto I, essa assume la tensi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detta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ensione totale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 te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tensione alla quale è sogget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corpo umano durante un guasto d’isolam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nde il nome d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ensione di contatto U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tensione di contatto è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lla tensione tot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8CD-8B95-4A7B-82D6-59BB4BBFC7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nsione di contatto, la persona è i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rossimità del dispersor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la tensione applicata al corpo umano è solo una parte della tensione totale 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9080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44600" y="1752480"/>
            <a:ext cx="8394480" cy="4724640"/>
            <a:chOff x="444600" y="1752480"/>
            <a:chExt cx="8394480" cy="4724640"/>
          </a:xfrm>
        </p:grpSpPr>
        <p:pic>
          <p:nvPicPr>
            <p:cNvPr id="98" name="image008" descr=""/>
            <p:cNvPicPr/>
            <p:nvPr/>
          </p:nvPicPr>
          <p:blipFill>
            <a:blip r:embed="rId1"/>
            <a:stretch/>
          </p:blipFill>
          <p:spPr>
            <a:xfrm>
              <a:off x="444600" y="1752480"/>
              <a:ext cx="456696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image010" descr=""/>
            <p:cNvPicPr/>
            <p:nvPr/>
          </p:nvPicPr>
          <p:blipFill>
            <a:blip r:embed="rId2"/>
            <a:stretch/>
          </p:blipFill>
          <p:spPr>
            <a:xfrm>
              <a:off x="4800600" y="1752480"/>
              <a:ext cx="403848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77240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 Black"/>
                </a:rPr>
                <a:t>U</a:t>
              </a:r>
              <a:r>
                <a:rPr b="0" lang="it-IT" sz="2800" spc="-1" strike="noStrike" baseline="-25000"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38188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2400" y="48769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U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9A7-0DA6-4917-83D2-0C7B2E4AFD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tensione preesistente al contatto tra la carcas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il punto del terreno occupato dalla perso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è denominato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ensione di contatto a vuoto U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spesso a favore della sicurezza si confon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 la tensione di contatto 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Os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 così come è definita la tensione di contatt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ipende dalla resistenza del corpo uman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quindi non indicativa della pericolosità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nsioni di contatto diverse corrisponden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 resistenze diverse, ma alla stessa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E57-CC32-4BF0-AB4B-CD3F8766A9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tuazion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ù pericolos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ha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ntatto avvien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tan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l dispers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un punto del terreno in cu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otenziale è prossimo allo zer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ltre se il punto di contatto avven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mite una conduttura idrica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di contatto verso terra della persona 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ebbe molto piccola aumenta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nsione di contatto U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farla coincid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odo sensibile alla tensione totale di terra U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FD2-980E-4CB7-8E05-5F90D5CF9A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tensione di contatto deve essere valut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un metodo standar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riferita 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un valore convenzional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resistenz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l corpo u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i fini della sicurezza se fosse infini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misurerebbe la tensione di contatto a vuo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a pur essendo cautelativo sarebbe troppo ristret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sede normativa è stata assunta una resist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venzionale del corpo umano pari a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9CD-787E-402A-9B44-3E17BF443D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effettuare le misure si devono utilizzar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ue elettrod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muti sul terren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 una forza di 250N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ascu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 un voltmetro con R di 1000 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ser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ra la parte in esame e i due elettrodi in parall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ti alla distanza d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1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alla stessa pa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823-BD02-4169-8640-C323E87876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nsione di contatto dipende essenzial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la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corpo uma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l limite la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se infinit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ttraverso il corp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no non passerebbe alcuna corrente pur av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a la U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la sicurezza sarebbe la più elev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e. Purtroppo la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n solo non  è infini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anche di difficile valutazione poiché dipen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versi fattori ma soprattutto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l percorso della corrent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lle condizioni ambiental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lla sup. di contatto degli elettrodi con la pel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 dalla tensi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3A2-6E58-4996-9329-B60CC2226A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 la corrente fluisce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rcorso mani-mani o mani-pied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è elevata la probabilità che il percor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corrente sia diverso si config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uogo conduttore ristretto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l qu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rendono particolari misure di sicurezza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ercorso mano-mano è meno pericolo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ercorso mani-piedi 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babilità di innescare la fibrillazione cardia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minore rispetto al percorso vertic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4D0-DA55-4BB6-967A-8FB039A6FA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tavia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 percorso vertic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 in ser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verso terra della persona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è a favore della sicurezza, tanto che per valo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vati diventa più pericoloso in certi cas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ercorso trasversale mano-ma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a queste considerazioni per tracci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a curva di sicurezz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i si è riferiti 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ercorso mani-piedi di una perso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he afferra un apparecchio elettrico con le due m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 con i due piedi appoggiati al suol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15A-8FE4-45D4-A0DE-021A487A4E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no stati esaminati diversi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ipi di paviment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 secco e a umido ed è stato assunto un valore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1" lang="it-IT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E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i 1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largamente cautelativo) per i luoghi ordinari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di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 condizioni particola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l’aperto, in mancanza del paviment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R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EB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quivale a circ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olte la resistività del terren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dentificata c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resistenza di una piastra metallica appoggi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ul terreno di area equivalente a quella dei pied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quindi è prudenziale per resistività del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&gt;1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rascurando, a favore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icurezza,  la resistenza delle calz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AFA-73D8-47F9-A0A5-97BC706F62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LA RESISTENZA DI 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rente che fluisce attraverso il corpo uma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hiud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e tramite il terre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vo il caso particolare di una persona isolata da 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n contatto simultaneo con due pun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ircuito elettrico a diverso potenzi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81080" y="4038480"/>
            <a:ext cx="2210040" cy="2514600"/>
            <a:chOff x="1981080" y="4038480"/>
            <a:chExt cx="2210040" cy="2514600"/>
          </a:xfrm>
        </p:grpSpPr>
        <p:grpSp>
          <p:nvGrpSpPr>
            <p:cNvPr id="46" name=""/>
            <p:cNvGrpSpPr/>
            <p:nvPr/>
          </p:nvGrpSpPr>
          <p:grpSpPr>
            <a:xfrm>
              <a:off x="1981080" y="4038480"/>
              <a:ext cx="2210040" cy="2514240"/>
              <a:chOff x="1981080" y="4038480"/>
              <a:chExt cx="2210040" cy="2514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1981080" y="4325760"/>
                <a:ext cx="2210040" cy="2226960"/>
                <a:chOff x="1981080" y="4325760"/>
                <a:chExt cx="2210040" cy="22269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643840" y="4325760"/>
                  <a:ext cx="442080" cy="556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864880" y="4882320"/>
                  <a:ext cx="0" cy="83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>
                  <a:off x="2422800" y="4882320"/>
                  <a:ext cx="441720" cy="2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864880" y="4882320"/>
                  <a:ext cx="442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306960" y="4325760"/>
                  <a:ext cx="220680" cy="83484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>
                  <a:off x="2643840" y="5717520"/>
                  <a:ext cx="221040" cy="83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864880" y="5717520"/>
                  <a:ext cx="221040" cy="83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981080" y="6552720"/>
                  <a:ext cx="221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10886400">
                  <a:off x="2860920" y="4651200"/>
                  <a:ext cx="401400" cy="1861560"/>
                </a:xfrm>
                <a:custGeom>
                  <a:avLst/>
                  <a:gdLst/>
                  <a:ahLst/>
                  <a:rect l="l" t="t" r="r" b="b"/>
                  <a:pathLst>
                    <a:path w="327" h="1204">
                      <a:moveTo>
                        <a:pt x="0" y="0"/>
                      </a:moveTo>
                      <a:cubicBezTo>
                        <a:pt x="125" y="28"/>
                        <a:pt x="238" y="19"/>
                        <a:pt x="300" y="160"/>
                      </a:cubicBezTo>
                      <a:cubicBezTo>
                        <a:pt x="327" y="221"/>
                        <a:pt x="313" y="293"/>
                        <a:pt x="320" y="360"/>
                      </a:cubicBezTo>
                      <a:cubicBezTo>
                        <a:pt x="313" y="487"/>
                        <a:pt x="311" y="614"/>
                        <a:pt x="300" y="740"/>
                      </a:cubicBezTo>
                      <a:cubicBezTo>
                        <a:pt x="296" y="789"/>
                        <a:pt x="249" y="905"/>
                        <a:pt x="240" y="940"/>
                      </a:cubicBezTo>
                      <a:cubicBezTo>
                        <a:pt x="233" y="968"/>
                        <a:pt x="193" y="1137"/>
                        <a:pt x="180" y="1140"/>
                      </a:cubicBezTo>
                      <a:cubicBezTo>
                        <a:pt x="153" y="1147"/>
                        <a:pt x="127" y="1153"/>
                        <a:pt x="100" y="1160"/>
                      </a:cubicBezTo>
                      <a:cubicBezTo>
                        <a:pt x="34" y="1204"/>
                        <a:pt x="64" y="1200"/>
                        <a:pt x="20" y="1200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2590920" y="4110120"/>
                <a:ext cx="15228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95480" y="403848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3047760" y="4110120"/>
                <a:ext cx="15228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743200" y="4110120"/>
                <a:ext cx="7632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2971800" y="4110120"/>
                <a:ext cx="7632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3505320" y="4343400"/>
              <a:ext cx="4572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34120" y="4267080"/>
            <a:ext cx="2057400" cy="2361960"/>
            <a:chOff x="5334120" y="4267080"/>
            <a:chExt cx="2057400" cy="2361960"/>
          </a:xfrm>
        </p:grpSpPr>
        <p:grpSp>
          <p:nvGrpSpPr>
            <p:cNvPr id="64" name=""/>
            <p:cNvGrpSpPr/>
            <p:nvPr/>
          </p:nvGrpSpPr>
          <p:grpSpPr>
            <a:xfrm>
              <a:off x="5334120" y="4267080"/>
              <a:ext cx="2057400" cy="2361960"/>
              <a:chOff x="5334120" y="4267080"/>
              <a:chExt cx="2057400" cy="2361960"/>
            </a:xfrm>
          </p:grpSpPr>
          <p:sp>
            <p:nvSpPr>
              <p:cNvPr id="65" name=""/>
              <p:cNvSpPr/>
              <p:nvPr/>
            </p:nvSpPr>
            <p:spPr>
              <a:xfrm>
                <a:off x="5951160" y="4267080"/>
                <a:ext cx="411120" cy="59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157080" y="4857120"/>
                <a:ext cx="0" cy="88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6157080" y="4857120"/>
                <a:ext cx="41112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157080" y="4857120"/>
                <a:ext cx="4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568560" y="4267080"/>
                <a:ext cx="205560" cy="885600"/>
              </a:xfrm>
              <a:prstGeom prst="flowChartSummingJunct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5950800" y="5743440"/>
                <a:ext cx="205560" cy="88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157080" y="5743440"/>
                <a:ext cx="205560" cy="88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334120" y="662904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0886400">
                <a:off x="6361200" y="4619520"/>
                <a:ext cx="424080" cy="536400"/>
              </a:xfrm>
              <a:custGeom>
                <a:avLst/>
                <a:gdLst/>
                <a:ahLst/>
                <a:rect l="l" t="t" r="r" b="b"/>
                <a:pathLst>
                  <a:path w="327" h="1204">
                    <a:moveTo>
                      <a:pt x="0" y="0"/>
                    </a:moveTo>
                    <a:cubicBezTo>
                      <a:pt x="125" y="28"/>
                      <a:pt x="238" y="19"/>
                      <a:pt x="300" y="160"/>
                    </a:cubicBezTo>
                    <a:cubicBezTo>
                      <a:pt x="327" y="221"/>
                      <a:pt x="313" y="293"/>
                      <a:pt x="320" y="360"/>
                    </a:cubicBezTo>
                    <a:cubicBezTo>
                      <a:pt x="313" y="487"/>
                      <a:pt x="311" y="614"/>
                      <a:pt x="300" y="740"/>
                    </a:cubicBezTo>
                    <a:cubicBezTo>
                      <a:pt x="296" y="789"/>
                      <a:pt x="249" y="905"/>
                      <a:pt x="240" y="940"/>
                    </a:cubicBezTo>
                    <a:cubicBezTo>
                      <a:pt x="233" y="968"/>
                      <a:pt x="193" y="1137"/>
                      <a:pt x="180" y="1140"/>
                    </a:cubicBezTo>
                    <a:cubicBezTo>
                      <a:pt x="153" y="1147"/>
                      <a:pt x="127" y="1153"/>
                      <a:pt x="100" y="1160"/>
                    </a:cubicBezTo>
                    <a:cubicBezTo>
                      <a:pt x="34" y="1204"/>
                      <a:pt x="64" y="1200"/>
                      <a:pt x="20" y="12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745240" y="6333840"/>
                <a:ext cx="822960" cy="295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781680" y="4343400"/>
              <a:ext cx="4572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BC5-CB84-4672-8A1B-8990F720FE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ella t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sono riportati i valori d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 funzione della tensione nel percor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ani-piedi  (CEI 1335 P, art.5)  dalla qu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i ricava per ogni valore di tension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la corren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he fluisce attraverso  la resistenza R</a:t>
            </a:r>
            <a:r>
              <a:rPr b="0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R</a:t>
            </a:r>
            <a:r>
              <a:rPr b="0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E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8080" y="3200400"/>
            <a:ext cx="7314480" cy="3276360"/>
            <a:chOff x="838080" y="3200400"/>
            <a:chExt cx="7314480" cy="3276360"/>
          </a:xfrm>
        </p:grpSpPr>
        <p:grpSp>
          <p:nvGrpSpPr>
            <p:cNvPr id="113" name=""/>
            <p:cNvGrpSpPr/>
            <p:nvPr/>
          </p:nvGrpSpPr>
          <p:grpSpPr>
            <a:xfrm>
              <a:off x="850680" y="3205800"/>
              <a:ext cx="7287120" cy="3264480"/>
              <a:chOff x="850680" y="3205800"/>
              <a:chExt cx="7287120" cy="32644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850680" y="3205800"/>
                <a:ext cx="2180880" cy="1158840"/>
                <a:chOff x="850680" y="3205800"/>
                <a:chExt cx="2180880" cy="11588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850680" y="3205800"/>
                  <a:ext cx="2180880" cy="115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nsione di contatto</a:t>
                  </a:r>
                  <a:r>
                    <a:rPr b="0" i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50680" y="3205800"/>
                  <a:ext cx="2180880" cy="115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032280" y="3205800"/>
                <a:ext cx="5105520" cy="1158840"/>
                <a:chOff x="3032280" y="3205800"/>
                <a:chExt cx="5105520" cy="11588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032280" y="3205800"/>
                  <a:ext cx="5105520" cy="115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900"/>
                  </a:b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i di R</a:t>
                  </a:r>
                  <a:r>
                    <a:rPr b="1" lang="en-GB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che non sono superati dal 5% della popolazione  </a:t>
                  </a:r>
                  <a:br>
                    <a:rPr sz="2400"/>
                  </a:b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ercorso mani - piedi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32280" y="3205800"/>
                  <a:ext cx="5105520" cy="115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850680" y="4365000"/>
                <a:ext cx="2180880" cy="2105280"/>
                <a:chOff x="850680" y="4365000"/>
                <a:chExt cx="2180880" cy="2105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50680" y="4365000"/>
                  <a:ext cx="2180880" cy="21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     V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     V 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5     V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   V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5   V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0   V 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00   V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0 V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. asintotic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50680" y="4365000"/>
                  <a:ext cx="2180880" cy="210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032280" y="4365000"/>
                <a:ext cx="5105520" cy="2105280"/>
                <a:chOff x="3032280" y="4365000"/>
                <a:chExt cx="5105520" cy="2105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032280" y="4365000"/>
                  <a:ext cx="5105520" cy="21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5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5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25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00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62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0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5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0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5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032280" y="4365000"/>
                  <a:ext cx="5105520" cy="210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838080" y="3200400"/>
              <a:ext cx="7314480" cy="3276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325-D0DF-4CE4-A671-92253BC723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valore di corrente così calcolato va riport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ulla curva di sicurezza tempo-corrente dalla qu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è facile ricavare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il temp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per cui può essere toller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uel valore di tens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questi valori sono raccol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ella tabella e vengono utilizzati per tracci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curva di sicurezza  tensione/tem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3079800"/>
            <a:ext cx="7924320" cy="3854520"/>
            <a:chOff x="609480" y="3079800"/>
            <a:chExt cx="7924320" cy="3854520"/>
          </a:xfrm>
        </p:grpSpPr>
        <p:grpSp>
          <p:nvGrpSpPr>
            <p:cNvPr id="129" name=""/>
            <p:cNvGrpSpPr/>
            <p:nvPr/>
          </p:nvGrpSpPr>
          <p:grpSpPr>
            <a:xfrm>
              <a:off x="619200" y="3083760"/>
              <a:ext cx="7903440" cy="3845880"/>
              <a:chOff x="619200" y="3083760"/>
              <a:chExt cx="7903440" cy="38458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619200" y="3083760"/>
                <a:ext cx="1150560" cy="1329120"/>
                <a:chOff x="619200" y="3083760"/>
                <a:chExt cx="1150560" cy="1329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19200" y="3083760"/>
                  <a:ext cx="1150560" cy="13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nsione di contat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19200" y="3083760"/>
                  <a:ext cx="1150560" cy="13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1770480" y="3083760"/>
                <a:ext cx="2976120" cy="512280"/>
                <a:chOff x="1770480" y="3083760"/>
                <a:chExt cx="2976120" cy="512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770480" y="3083760"/>
                  <a:ext cx="2976120" cy="51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dizioni ordinarie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770480" y="3083760"/>
                  <a:ext cx="2976120" cy="51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4747320" y="3083760"/>
                <a:ext cx="3775320" cy="512280"/>
                <a:chOff x="4747320" y="3083760"/>
                <a:chExt cx="3775320" cy="512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747320" y="3083760"/>
                  <a:ext cx="3775320" cy="51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dizioni particolari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747320" y="3083760"/>
                  <a:ext cx="3775320" cy="51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770480" y="3596040"/>
                <a:ext cx="902160" cy="816840"/>
                <a:chOff x="1770480" y="3596040"/>
                <a:chExt cx="902160" cy="816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770480" y="3596040"/>
                  <a:ext cx="902160" cy="81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0" i="1" lang="fr-FR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R</a:t>
                  </a:r>
                  <a:r>
                    <a:rPr b="0" i="1" lang="fr-FR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70480" y="3596040"/>
                  <a:ext cx="902160" cy="81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673360" y="3596040"/>
                <a:ext cx="1054080" cy="816840"/>
                <a:chOff x="2673360" y="3596040"/>
                <a:chExt cx="1054080" cy="816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673360" y="3596040"/>
                  <a:ext cx="1054080" cy="81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673360" y="3596040"/>
                  <a:ext cx="1054080" cy="81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728520" y="3596040"/>
                <a:ext cx="1018080" cy="816840"/>
                <a:chOff x="3728520" y="3596040"/>
                <a:chExt cx="1018080" cy="816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728520" y="3596040"/>
                  <a:ext cx="1018080" cy="81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728520" y="3596040"/>
                  <a:ext cx="1018080" cy="81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747320" y="3596040"/>
                <a:ext cx="1644840" cy="816840"/>
                <a:chOff x="4747320" y="3596040"/>
                <a:chExt cx="1644840" cy="816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747320" y="3596040"/>
                  <a:ext cx="1644840" cy="81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0" i="1" lang="fr-FR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R</a:t>
                  </a:r>
                  <a:r>
                    <a:rPr b="0" i="1" lang="fr-FR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747320" y="3596040"/>
                  <a:ext cx="1644840" cy="81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393240" y="3596040"/>
                <a:ext cx="1230120" cy="816840"/>
                <a:chOff x="6393240" y="3596040"/>
                <a:chExt cx="1230120" cy="8168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393240" y="3596040"/>
                  <a:ext cx="1230120" cy="81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393240" y="3596040"/>
                  <a:ext cx="1230120" cy="81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7624080" y="3596040"/>
                <a:ext cx="898200" cy="816840"/>
                <a:chOff x="7624080" y="3596040"/>
                <a:chExt cx="898200" cy="8168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7624080" y="3596040"/>
                  <a:ext cx="898200" cy="81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24080" y="3596040"/>
                  <a:ext cx="898200" cy="81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19200" y="4412880"/>
                <a:ext cx="1150560" cy="2516760"/>
                <a:chOff x="619200" y="4412880"/>
                <a:chExt cx="1150560" cy="2516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19200" y="4412880"/>
                  <a:ext cx="115056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 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 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5 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0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0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0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0  V </a:t>
                  </a:r>
                  <a:r>
                    <a:rPr b="0" lang="fr-FR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19200" y="4412880"/>
                  <a:ext cx="115056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770480" y="4412880"/>
                <a:ext cx="902160" cy="2516760"/>
                <a:chOff x="1770480" y="4412880"/>
                <a:chExt cx="902160" cy="2516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770480" y="4412880"/>
                  <a:ext cx="90216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----- 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25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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25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00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1535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75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75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70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60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GB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770480" y="4412880"/>
                  <a:ext cx="90216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673360" y="4412880"/>
                <a:ext cx="1054080" cy="2516760"/>
                <a:chOff x="2673360" y="4412880"/>
                <a:chExt cx="1054080" cy="25167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673360" y="4412880"/>
                  <a:ext cx="105408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----- 29   mA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6   mA    56   mA    72   mA    102mA     167mA     204mA     368 mA</a:t>
                  </a:r>
                  <a:r>
                    <a:rPr b="0" lang="en-GB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73360" y="4412880"/>
                  <a:ext cx="105408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728520" y="4412880"/>
                <a:ext cx="1018080" cy="2516760"/>
                <a:chOff x="3728520" y="4412880"/>
                <a:chExt cx="1018080" cy="25167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728520" y="4412880"/>
                  <a:ext cx="101808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-----  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     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0  s     0,45  s     0,36  s     0,27  s     0,17  s     0,12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4  s   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728520" y="4412880"/>
                  <a:ext cx="101808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747320" y="4412880"/>
                <a:ext cx="1644840" cy="2516760"/>
                <a:chOff x="4747320" y="4412880"/>
                <a:chExt cx="1644840" cy="25167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747320" y="4412880"/>
                  <a:ext cx="164484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75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5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5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0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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30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0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75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70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------  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747320" y="4412880"/>
                  <a:ext cx="164484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393240" y="4412880"/>
                <a:ext cx="1230120" cy="2516760"/>
                <a:chOff x="6393240" y="4412880"/>
                <a:chExt cx="1230120" cy="25167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393240" y="4412880"/>
                  <a:ext cx="123012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  m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  mA 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1  mA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5mA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1mA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7mA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 m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91mA     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-----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393240" y="4412880"/>
                  <a:ext cx="123012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7624080" y="4412880"/>
                <a:ext cx="898200" cy="2516760"/>
                <a:chOff x="7624080" y="4412880"/>
                <a:chExt cx="898200" cy="25167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624080" y="4412880"/>
                  <a:ext cx="89820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      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47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0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5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8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0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3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2   s</a:t>
                  </a:r>
                  <a:br>
                    <a:rPr sz="16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------  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624080" y="4412880"/>
                  <a:ext cx="89820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609480" y="3079800"/>
              <a:ext cx="7924320" cy="3854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175-188E-49B1-A0D6-4A6551BCDA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6200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image025" descr=""/>
          <p:cNvPicPr/>
          <p:nvPr/>
        </p:nvPicPr>
        <p:blipFill>
          <a:blip r:embed="rId1"/>
          <a:stretch/>
        </p:blipFill>
        <p:spPr>
          <a:xfrm>
            <a:off x="914400" y="876240"/>
            <a:ext cx="7238880" cy="5600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urve di sicurezza tensione-tempo in condizioni ambientali particolari e ordin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97C-09BF-45DE-A8AC-A817FFD4ED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iché i valori di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varia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 seconda del percorso della corrente nel corpo 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er semplificare l’individuazione delle tensio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ericolose si sono stabiliti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 modo convenz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valori prudenziali di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e di R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E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tali da otten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valori massimi delle tensioni di contatto a vu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opportabili dal corpo umano in funzione del temp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a tensione che 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uò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ermanere su una massa 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un tempo indefinito senza pericolo per le pers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è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 condizioni normali  U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50V ment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 condizioni particolari U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=25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mbienti bagnati, strutture adibite ad uso zootecnico, ecc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679-3219-4F44-B42C-72B8E81D9A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LA RESISTENZA DI 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terreno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olge la funzione d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uttore elettr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te le volte che tra due suoi punti viene applicat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mite 2 elettrodi un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i elettrodi prendono il nome di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o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sideriamo un dispersore di forma emisfe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sufficientemente lontano dall’elettrodo di ritor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considerare il campo di corrente rad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F76-365F-46FE-97A5-D45D4CC41C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7632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8000" indent="-3780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Ogni porzione elementare del terreno offre una </a:t>
            </a:r>
            <a:br>
              <a:rPr sz="3200"/>
            </a:b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R tanto più piccola quanto più </a:t>
            </a:r>
            <a:br>
              <a:rPr sz="3200"/>
            </a:b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è lontana dal dispersore</a:t>
            </a:r>
            <a:br>
              <a:rPr sz="3200"/>
            </a:b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stenza di terra R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ma dell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ttriche elementa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queste porzioni di terre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studio dell’elettrodo emisferico in ter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geneo è utile poiché, qualunque sia la for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dispersore, a una distanza sufficientemente 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uperfici equipotenziali divengono emisferi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BC1-5E63-41A4-B1D4-18C40A88D3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I POTENZIALI DEL TER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960" y="76212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damento del potenziale nel terreno percorso da cor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5768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00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696080" cy="525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83C-29ED-48E4-998F-83246612B8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19720" y="380520"/>
            <a:ext cx="44193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l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ipolo equivalent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lla 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 polo è rappresentato dalla parte metallica (fig.b)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l dispersore vero e proprio, l’altro polo da un punto all’infinito a potenziale zero (fig.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8116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image00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03884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DEE-D24C-42DD-8866-31D6118896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spersori in parall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u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ispersor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possono essere considera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 parallelo quand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è zero il potenziale prodotto dall’uno sull’altr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 teoria i dispersori non sono mai in paralle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solo all’infinito l’influenza reciproca è null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nche se in pratica è sufficiente che siano distan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irc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&gt;10r</a:t>
            </a:r>
            <a:r>
              <a:rPr b="1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per poter essere considerati in parall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r</a:t>
            </a:r>
            <a:r>
              <a:rPr b="0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raggio dell’equivalente emisferico del dispersor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BC6-1E7E-40EA-A191-ECF5C85A9D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RESISTENZA VERSO TERRA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 DI UNA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1523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un contatto mano-piedi la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 fluisc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ttraver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terreno: i piedi sono due dispersor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valutazione della R verso terra è u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ricostruire il circuito di guas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l quale la persona si trova inser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573-AFE5-4F9C-9D08-454A4A0F60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piedi possono essere assimilati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ue piastre circolari di raggio r</a:t>
            </a:r>
            <a:r>
              <a:rPr b="1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a resistenza di terra di un tale dispersore v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2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/5r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ove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è la resistività del terr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su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nd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la piastra di raggi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0,1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i ottiene un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resistenz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ari a 3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piedi possono essere considerati c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ue dispersori in parallelo e la R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EB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è circa 1,5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929-3E9D-4A9C-AF45-3AACBB715E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05:29:49Z</dcterms:created>
  <dc:creator>Mariacristina Roscia</dc:creator>
  <dc:description/>
  <dc:language>en-US</dc:language>
  <cp:lastModifiedBy>Politecnico di Milano</cp:lastModifiedBy>
  <dcterms:modified xsi:type="dcterms:W3CDTF">2003-12-15T21:05:15Z</dcterms:modified>
  <cp:revision>43</cp:revision>
  <dc:subject/>
  <dc:title>IL TERRENO  CONDUTTORE ELETTRICO</dc:title>
</cp:coreProperties>
</file>