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8DD-85D8-4D19-8F55-07D2DBE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A26-40B1-4DF4-A52C-2FB0E466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19B-8B4A-4EF7-8500-3D8C75B5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2DB-9735-4D3F-A07E-69FF0349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2CA5-F64C-4761-8F38-21C89BF6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BF9D-BF9E-46D2-A8A4-A051A94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B6F9-D746-4BCD-AAE7-322B44D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740-4B14-4EC9-8E11-8F341DDB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98B2-4A93-44D4-AEC3-D50B952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43AB-C470-4D97-87FE-0F642585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C3AD-93A2-47BA-A31A-B4FC928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BE2-7AFF-40F4-BC81-1B791550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AA28-A3CC-4D17-AE2A-079AA8C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205F-4CBF-4056-A0E9-0946B05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108D-BBD6-492D-8952-019229BA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8574-BAF1-4422-A9B5-045797D7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8A12-E5FC-4F01-AF4D-1ED3DD79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975-170D-4A26-9FA9-C9257F5D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E0F-8BC4-4568-80C6-7071EED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10A-D2F5-422D-9E34-29C94E22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362-7EF1-4812-82D2-EB1A922D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BD5-4BDF-4417-BF1B-E44B695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1BE-C341-4EC6-9301-C6D6BD7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019-2655-4BF7-8EAF-45DFB63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E03-ADAA-4F4D-ACD1-7F503246B554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B79-07CB-44C8-8B3D-5DEDC5373930}" type="slidenum">
              <a:rPr b="0" lang="it-IT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5240" y="298080"/>
            <a:ext cx="7540560" cy="1436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Struttura del cor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3960" y="1596960"/>
            <a:ext cx="82216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Cosa è Scil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Perché utilizzare Scil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ntroduzione a Scilab: struttura e funzioni principa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Studio di circuiti elettri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Applicazioni con numeri comples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Studio di sistemi dinami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Elaborazione dati misure sulle macchine elettric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300720" y="5229360"/>
            <a:ext cx="936720" cy="215640"/>
          </a:xfrm>
          <a:prstGeom prst="leftArrow">
            <a:avLst>
              <a:gd name="adj1" fmla="val 50000"/>
              <a:gd name="adj2" fmla="val 108598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3924360" y="170028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AutoShape 17"/>
          <p:cNvSpPr/>
          <p:nvPr/>
        </p:nvSpPr>
        <p:spPr>
          <a:xfrm>
            <a:off x="5724360" y="2349360"/>
            <a:ext cx="28908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372360" y="328464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AutoShape 20"/>
          <p:cNvSpPr/>
          <p:nvPr/>
        </p:nvSpPr>
        <p:spPr>
          <a:xfrm>
            <a:off x="5219640" y="6165720"/>
            <a:ext cx="28908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utoShape 21"/>
          <p:cNvSpPr/>
          <p:nvPr/>
        </p:nvSpPr>
        <p:spPr>
          <a:xfrm>
            <a:off x="6372360" y="393372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4" descr="RLC_serie neg"/>
          <p:cNvPicPr/>
          <p:nvPr/>
        </p:nvPicPr>
        <p:blipFill>
          <a:blip r:embed="rId1"/>
          <a:stretch/>
        </p:blipFill>
        <p:spPr>
          <a:xfrm>
            <a:off x="4896000" y="155736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468360" y="2492280"/>
            <a:ext cx="41749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In Scilab il sistema va impostato così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function [yprim] = diffeq(t,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prim(1)= -y(2)-y(1)-1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prim(2)=y(1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t0 = 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0 = [10; -10]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t=0:0.1:5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=ode(y0,t0,t,diffeq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plot(t,y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scf(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plot(y(1,:),y(2,:)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 flipV="1">
            <a:off x="2484000" y="3573000"/>
            <a:ext cx="259236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179280" y="2924280"/>
            <a:ext cx="2521080" cy="10094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219640" y="371628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mpostazione del sistema mediante una funzione che chiamiamo diffeq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H="1" flipV="1">
            <a:off x="1116000" y="4076640"/>
            <a:ext cx="396072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5148360" y="43657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stante inizi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H="1" flipV="1">
            <a:off x="1547640" y="4292280"/>
            <a:ext cx="3600720" cy="64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5219640" y="4797360"/>
            <a:ext cx="20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Valori di corrente e tensione sul condensatore all’istante inizi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 flipV="1">
            <a:off x="2124000" y="4869000"/>
            <a:ext cx="2952720" cy="79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5292720" y="558972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l sistema viene risolto (tramite funzione ODE) e i risultati vengono attribuiti alla matrice y costituita da due colonne: la prima con tutti i valori di corrente e la seconda con tutti i valori di tension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Picture 4" descr="RLC_serie neg"/>
          <p:cNvPicPr/>
          <p:nvPr/>
        </p:nvPicPr>
        <p:blipFill>
          <a:blip r:embed="rId1"/>
          <a:stretch/>
        </p:blipFill>
        <p:spPr>
          <a:xfrm>
            <a:off x="4572000" y="350028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468360" y="2492280"/>
            <a:ext cx="41749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Impostate il sistem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rovate a modificare le condizioni iniziali e/o il tempo di integrazione (t=0:0.1:50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rappresenta il secondo plo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rovate ad azzerare la resistenz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vuol dire il risultato ottenut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9640" y="2637000"/>
            <a:ext cx="79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istemi dinamici lineari possono essere studiati mediante la loro funzione di trasferiment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La trasformata di Laplace permette di trasformare un sistema differenziale in uno algebri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Scilab è possibile anche studiare un sistema differenziale mediante la sua funzione di trasferimento ottenuta mediante trasformata di Laplac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637000"/>
            <a:ext cx="799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Vediamo, per iniziare, come si traccia il diagramma di Bode di un sistema dinamico linear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upponiamo di avere un semplice sistema con funzione di trasferimento priva di zeri e con un solo polo, del tip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3203640" y="4653000"/>
                <a:ext cx="18730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9640" y="2276640"/>
            <a:ext cx="79930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iniziare comunichiamo a Scilab che tratteremo una funzione della variabile complessa s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 = %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oi definiamo la funzione g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g = syslin(‘c’, 1/(1+s)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Quanto appena scritto significa: g rappresenta un sistema lineare (syslin) studiato nel campo dei numeri complessi (‘c’) e con funzione di trasferimento 1/(1+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39640" y="2133720"/>
            <a:ext cx="7993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tracciare i diagrammi di Bode della funzione è sufficiente digitar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bode(g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e vogliamo la risposta al gradino del nostro sistema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t=0:0.1:1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=csim(‘step’, t, g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lot(t,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significa tutto ciò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mmentare, pleas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39640" y="2133720"/>
            <a:ext cx="799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Esercizi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Dato un circuito RLC serie, impostare l’equazione differenziale risolutiva, trasformarla con Laplace, determinare la funzione di trasferimento e studiarne il diagramma di Bode e la risposta al gradin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Azzerare, quindi, la resistenza ed effettuare nuovamente l’analis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9640" y="213372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A questo punto digitate scicos nella riga di comando di Scilab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succed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2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Un sistema dinamico è un sistema il cui stato varia nel temp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o stato di un sistema è rappresentato dal numero minimo di variabili la cui conoscenza permette di determinare qualsiasi altra variabile del sistem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2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Un sistema dinamico può essere rappresentato mediante un sistema di equazioni differenziali (ODE-Ordinary Differential Equation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cilab permette di risolvere equazioni differenziali in modo agevole sfruttando metodi numerici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17360" y="2372760"/>
            <a:ext cx="7102440" cy="337356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Ordinary differential equations (ODEs) are used Throughout physics, engineering,mathematics, biology to describe how quantities change with tim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Arial"/>
              </a:rPr>
              <a:t>G. Sall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Arial"/>
              </a:rPr>
              <a:t>Université De Metz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8" descr="RLC_serie neg"/>
          <p:cNvPicPr/>
          <p:nvPr/>
        </p:nvPicPr>
        <p:blipFill>
          <a:blip r:embed="rId1"/>
          <a:stretch/>
        </p:blipFill>
        <p:spPr>
          <a:xfrm>
            <a:off x="684360" y="1916280"/>
            <a:ext cx="73450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68360" y="2492280"/>
            <a:ext cx="417492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Un circuito RLC serie costituisce un tipico esempio di circuito dinami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appiamo ch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R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e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e con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3059280" y="3860640"/>
                <a:ext cx="7920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89120" y="4691160"/>
                <a:ext cx="1011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68360" y="2492280"/>
            <a:ext cx="4174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alcuni passaggi si ottien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R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2556000" y="3178080"/>
                <a:ext cx="792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116000" y="3970440"/>
                <a:ext cx="1011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468360" y="2492280"/>
            <a:ext cx="4174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siderando tutti i parametri pari ad 1 e ordinando il tutto, si ottien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= -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-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= 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714240" y="3429000"/>
                <a:ext cx="617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611280" y="4259160"/>
                <a:ext cx="7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RLC_serie neg"/>
          <p:cNvPicPr/>
          <p:nvPr/>
        </p:nvPicPr>
        <p:blipFill>
          <a:blip r:embed="rId1"/>
          <a:stretch/>
        </p:blipFill>
        <p:spPr>
          <a:xfrm>
            <a:off x="4572000" y="328464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468360" y="2492280"/>
            <a:ext cx="417492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e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costituiscono lo stato del nostro sistema. Per semplicità poniam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(1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(2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indicare la derivata rispetto al tempo di una variabile y scriviamo semplicemente y’. Il nostro sistema diventa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’(1) = -y(2) – y(1) – e(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’(2) =  y(1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53:58Z</dcterms:created>
  <dc:creator>Sergio De Nisi</dc:creator>
  <dc:description/>
  <dc:language>en-US</dc:language>
  <cp:lastModifiedBy>jk</cp:lastModifiedBy>
  <dcterms:modified xsi:type="dcterms:W3CDTF">2014-08-09T21:35:06Z</dcterms:modified>
  <cp:revision>42</cp:revision>
  <dc:subject/>
  <dc:title>Struttura del corso</dc:title>
</cp:coreProperties>
</file>