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4B6-55E9-4FC4-A4BD-CC8928E9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7D1-0AB1-4A22-954E-4510A17F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282-E3A2-4D98-9319-A1B63153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4F3-0D3B-4718-A7A8-FEF1FEED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01E6-42D3-4B36-9D41-4AC0A13F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8B62-EE8E-4E42-84CF-249FB0C7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AE8D-AFC1-47CC-B4C1-570AFD5A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9EE3-53EC-4896-8951-E58A291E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8A2F-876B-43E4-A47F-A93628AF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D6D3-4719-4AE4-9679-F9D6D66B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6404-109B-4675-AA11-0179FA60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9819-9CFA-428B-8A51-D8ADB8A4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5457-7695-4DDB-9E57-4D1BA30A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3437-103B-4A20-B6A9-11C6A421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9D29-A43E-416D-B8FC-3CCC5CCD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8523-53A5-4F4B-AF15-0FA67557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E930-EFC5-44C2-9EC9-4D63A837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7633-8668-4DC1-8E13-46A7E4B0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32D2-665E-4D41-9907-E9E96915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0C23-2000-4CC6-A629-D90BE855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36D8-8A60-44E6-93EA-733E57DC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F5B-1214-4B01-B4EA-AEA10048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3AFC-6D9A-4C65-A5F1-8F102EF4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8F51-5E90-440A-903A-E5F21881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FA76-E8B8-45A7-9A69-8ECD96DC6660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7FE5-E591-4231-8E4D-8BE1AC0BE0AB}" type="slidenum">
              <a:rPr b="0" lang="it-IT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5240" y="298080"/>
            <a:ext cx="7540560" cy="1436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ecff"/>
                </a:solidFill>
                <a:latin typeface="Arial"/>
              </a:rPr>
              <a:t>Struttura del cors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3960" y="1596960"/>
            <a:ext cx="82216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Cosa è Scila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Perché utilizzare Scila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Introduzione a Scilab: struttura e funzioni principal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Studio di circuiti elettric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Applicazioni con numeri comples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Studio di sistemi dinamic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Arial"/>
              </a:rPr>
              <a:t>Elaborazione dati misure sulle macchine elettrich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AutoShape 15"/>
          <p:cNvSpPr/>
          <p:nvPr/>
        </p:nvSpPr>
        <p:spPr>
          <a:xfrm>
            <a:off x="6300720" y="5229360"/>
            <a:ext cx="936720" cy="215640"/>
          </a:xfrm>
          <a:prstGeom prst="leftArrow">
            <a:avLst>
              <a:gd name="adj1" fmla="val 50000"/>
              <a:gd name="adj2" fmla="val 108598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AutoShape 16"/>
          <p:cNvSpPr/>
          <p:nvPr/>
        </p:nvSpPr>
        <p:spPr>
          <a:xfrm>
            <a:off x="3924360" y="1700280"/>
            <a:ext cx="288720" cy="360360"/>
          </a:xfrm>
          <a:prstGeom prst="irregularSeal1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AutoShape 17"/>
          <p:cNvSpPr/>
          <p:nvPr/>
        </p:nvSpPr>
        <p:spPr>
          <a:xfrm>
            <a:off x="5724360" y="2349360"/>
            <a:ext cx="289080" cy="360360"/>
          </a:xfrm>
          <a:prstGeom prst="irregularSeal1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AutoShape 18"/>
          <p:cNvSpPr/>
          <p:nvPr/>
        </p:nvSpPr>
        <p:spPr>
          <a:xfrm>
            <a:off x="6372360" y="3284640"/>
            <a:ext cx="288720" cy="360360"/>
          </a:xfrm>
          <a:prstGeom prst="irregularSeal1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AutoShape 20"/>
          <p:cNvSpPr/>
          <p:nvPr/>
        </p:nvSpPr>
        <p:spPr>
          <a:xfrm>
            <a:off x="5219640" y="6165720"/>
            <a:ext cx="289080" cy="360360"/>
          </a:xfrm>
          <a:prstGeom prst="irregularSeal1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AutoShape 21"/>
          <p:cNvSpPr/>
          <p:nvPr/>
        </p:nvSpPr>
        <p:spPr>
          <a:xfrm>
            <a:off x="6372360" y="3933720"/>
            <a:ext cx="288720" cy="360360"/>
          </a:xfrm>
          <a:prstGeom prst="irregularSeal1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6" name="Picture 4" descr="RLC_serie neg"/>
          <p:cNvPicPr/>
          <p:nvPr/>
        </p:nvPicPr>
        <p:blipFill>
          <a:blip r:embed="rId1"/>
          <a:stretch/>
        </p:blipFill>
        <p:spPr>
          <a:xfrm>
            <a:off x="4896000" y="1557360"/>
            <a:ext cx="4248000" cy="20764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468360" y="2492280"/>
            <a:ext cx="417492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In Scilab il sistema va impostato così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Arial"/>
              </a:rPr>
              <a:t>function [yprim] = diffeq(t,y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eaeaea"/>
                </a:solidFill>
                <a:latin typeface="Arial"/>
              </a:rPr>
              <a:t>yprim(1)= -y(2)-y(1)-10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eaeaea"/>
                </a:solidFill>
                <a:latin typeface="Arial"/>
              </a:rPr>
              <a:t>yprim(2)=y(1)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Arial"/>
              </a:rPr>
              <a:t>endfun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Arial"/>
              </a:rPr>
              <a:t>t0 = 0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Arial"/>
              </a:rPr>
              <a:t>y0 = [10; -10]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Arial"/>
              </a:rPr>
              <a:t>t=0:0.1:50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Arial"/>
              </a:rPr>
              <a:t>y=ode(y0,t0,t,diffeq)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Arial"/>
              </a:rPr>
              <a:t>plot(t,y)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Arial"/>
              </a:rPr>
              <a:t>scf()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eaeaea"/>
                </a:solidFill>
                <a:latin typeface="Arial"/>
              </a:rPr>
              <a:t>plot(y(1,:),y(2,:));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 flipH="1" flipV="1">
            <a:off x="2484000" y="3573000"/>
            <a:ext cx="259236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179280" y="2924280"/>
            <a:ext cx="2521080" cy="100944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5219640" y="3716280"/>
            <a:ext cx="288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Arial"/>
              </a:rPr>
              <a:t>Impostazione del sistema mediante una funzione che chiamiamo diffeq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 flipH="1" flipV="1">
            <a:off x="1116000" y="4076640"/>
            <a:ext cx="3960720" cy="432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5148360" y="436572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Arial"/>
              </a:rPr>
              <a:t>Istante inizia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Line 11"/>
          <p:cNvSpPr/>
          <p:nvPr/>
        </p:nvSpPr>
        <p:spPr>
          <a:xfrm flipH="1" flipV="1">
            <a:off x="1547640" y="4292280"/>
            <a:ext cx="3600720" cy="64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5219640" y="4797360"/>
            <a:ext cx="208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Arial"/>
              </a:rPr>
              <a:t>Valori di corrente e tensione sul condensatore all’istante inizia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 flipH="1" flipV="1">
            <a:off x="2124000" y="4869000"/>
            <a:ext cx="2952720" cy="792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5292720" y="5589720"/>
            <a:ext cx="36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Arial"/>
              </a:rPr>
              <a:t>Il sistema viene risolto (tramite funzione ODE) e i risultati vengono attribuiti alla matrice y costituita da due colonne: la prima con tutti i valori di corrente e la seconda con tutti i valori di tension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9" name="Picture 4" descr="RLC_serie neg"/>
          <p:cNvPicPr/>
          <p:nvPr/>
        </p:nvPicPr>
        <p:blipFill>
          <a:blip r:embed="rId1"/>
          <a:stretch/>
        </p:blipFill>
        <p:spPr>
          <a:xfrm>
            <a:off x="4572000" y="3500280"/>
            <a:ext cx="4248000" cy="20764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468360" y="2492280"/>
            <a:ext cx="417492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Impostate il sistema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Provate a modificare le condizioni iniziali e/o il tempo di integrazione (t=0:0.1:50)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Cosa rappresenta il secondo plot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Provate ad azzerare la resistenza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Cosa vuol dire il risultato ottenuto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 lineari mediante funzione di trasferiment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539640" y="2637000"/>
            <a:ext cx="7993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Sistemi dinamici lineari possono essere studiati mediante la loro funzione di trasferimento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La trasformata di Laplace permette di trasformare un sistema differenziale in uno algebrico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Con Scilab è possibile anche studiare un sistema differenziale mediante la sua funzione di trasferimento ottenuta mediante trasformata di Laplac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 lineari mediante funzione di trasferiment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539640" y="2637000"/>
            <a:ext cx="7993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Vediamo, per iniziare, come si traccia il diagramma di Bode di un sistema dinamico linear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Supponiamo di avere un semplice sistema con funzione di trasferimento priva di zeri e con un solo polo, del tipo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5"/>
              <p:cNvSpPr txBox="1"/>
              <p:nvPr/>
            </p:nvSpPr>
            <p:spPr>
              <a:xfrm>
                <a:off x="3203640" y="4653000"/>
                <a:ext cx="18730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 lineari mediante funzione di trasferiment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9640" y="2276640"/>
            <a:ext cx="799308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Per iniziare comunichiamo a Scilab che tratteremo una funzione della variabile complessa s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s = %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Poi definiamo la funzione g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g = syslin(‘c’, 1/(1+s)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Quanto appena scritto significa: g rappresenta un sistema lineare (syslin) studiato nel campo dei numeri complessi (‘c’) e con funzione di trasferimento 1/(1+s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 lineari mediante funzione di trasferiment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539640" y="2133720"/>
            <a:ext cx="79930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Per tracciare i diagrammi di Bode della funzione è sufficiente digitare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bode(g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Se vogliamo la risposta al gradino del nostro sistema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t=0:0.1:1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y=csim(‘step’, t, g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plot(t,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Cosa significa tutto ciò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Commentare, please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 lineari mediante funzione di trasferiment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39640" y="2133720"/>
            <a:ext cx="7993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Esercizio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Dato un circuito RLC serie, impostare l’equazione differenziale risolutiva, trasformarla con Laplace, determinare la funzione di trasferimento e studiarne il diagramma di Bode e la risposta al gradino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Azzerare, quindi, la resistenza ed effettuare nuovamente l’analisi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 lineari mediante funzione di trasferiment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539640" y="2133720"/>
            <a:ext cx="799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A questo punto digitate scicos nella riga di comando di Scilab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Cosa succede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000" y="2421000"/>
            <a:ext cx="8226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Un sistema dinamico è un sistema il cui stato varia nel temp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Lo stato di un sistema è rappresentato dal numero minimo di variabili la cui conoscenza permette di determinare qualsiasi altra variabile del sistem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000" y="2421000"/>
            <a:ext cx="8226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Un sistema dinamico può essere rappresentato mediante un sistema di equazioni differenziali (ODE-Ordinary Differential Equations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Scilab permette di risolvere equazioni differenziali in modo agevole sfruttando metodi numerici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017360" y="2372760"/>
            <a:ext cx="7102440" cy="337356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round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Ordinary differential equations (ODEs) are used Throughout physics, engineering,mathematics, biology to describe how quantities change with tim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Arial"/>
              </a:rPr>
              <a:t>G. Sallet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Arial"/>
              </a:rPr>
              <a:t>Université De Metz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Picture 8" descr="RLC_serie neg"/>
          <p:cNvPicPr/>
          <p:nvPr/>
        </p:nvPicPr>
        <p:blipFill>
          <a:blip r:embed="rId1"/>
          <a:stretch/>
        </p:blipFill>
        <p:spPr>
          <a:xfrm>
            <a:off x="684360" y="1916280"/>
            <a:ext cx="734508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Picture 4" descr="RLC_serie neg"/>
          <p:cNvPicPr/>
          <p:nvPr/>
        </p:nvPicPr>
        <p:blipFill>
          <a:blip r:embed="rId1"/>
          <a:stretch/>
        </p:blipFill>
        <p:spPr>
          <a:xfrm>
            <a:off x="5364000" y="1700280"/>
            <a:ext cx="3311640" cy="16192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468360" y="2492280"/>
            <a:ext cx="4174920" cy="28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Un circuito RLC serie costituisce un tipico esempio di circuito dinamico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Sappiamo che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=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eaeaea"/>
                </a:solidFill>
                <a:latin typeface="Arial"/>
              </a:rPr>
              <a:t>R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+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eaeaea"/>
                </a:solidFill>
                <a:latin typeface="Arial"/>
              </a:rPr>
              <a:t>C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+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eaeaea"/>
                </a:solidFill>
                <a:latin typeface="Arial"/>
              </a:rPr>
              <a:t>L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con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eaeaea"/>
                </a:solidFill>
                <a:latin typeface="Arial"/>
              </a:rPr>
              <a:t>R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=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Ri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e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eaeaea"/>
                </a:solidFill>
                <a:latin typeface="Arial"/>
              </a:rPr>
              <a:t>L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=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e con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=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6"/>
              <p:cNvSpPr txBox="1"/>
              <p:nvPr/>
            </p:nvSpPr>
            <p:spPr>
              <a:xfrm>
                <a:off x="3059280" y="3860640"/>
                <a:ext cx="79200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1689120" y="4691160"/>
                <a:ext cx="10112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4" descr="RLC_serie neg"/>
          <p:cNvPicPr/>
          <p:nvPr/>
        </p:nvPicPr>
        <p:blipFill>
          <a:blip r:embed="rId1"/>
          <a:stretch/>
        </p:blipFill>
        <p:spPr>
          <a:xfrm>
            <a:off x="5364000" y="1700280"/>
            <a:ext cx="3311640" cy="16192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468360" y="2492280"/>
            <a:ext cx="41749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Con alcuni passaggi si ottiene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=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Ri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+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eaeaea"/>
                </a:solidFill>
                <a:latin typeface="Arial"/>
              </a:rPr>
              <a:t>C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+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=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2556000" y="3178080"/>
                <a:ext cx="792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7"/>
              <p:cNvSpPr txBox="1"/>
              <p:nvPr/>
            </p:nvSpPr>
            <p:spPr>
              <a:xfrm>
                <a:off x="1116000" y="3970440"/>
                <a:ext cx="10112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4" descr="RLC_serie neg"/>
          <p:cNvPicPr/>
          <p:nvPr/>
        </p:nvPicPr>
        <p:blipFill>
          <a:blip r:embed="rId1"/>
          <a:stretch/>
        </p:blipFill>
        <p:spPr>
          <a:xfrm>
            <a:off x="5364000" y="1700280"/>
            <a:ext cx="3311640" cy="1619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5"/>
          <p:cNvSpPr/>
          <p:nvPr/>
        </p:nvSpPr>
        <p:spPr>
          <a:xfrm>
            <a:off x="468360" y="2492280"/>
            <a:ext cx="41749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Considerando tutti i parametri pari ad 1 e ordinando il tutto, si ottiene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= -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eaeaea"/>
                </a:solidFill>
                <a:latin typeface="Arial"/>
              </a:rPr>
              <a:t>C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-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+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= i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6"/>
              <p:cNvSpPr txBox="1"/>
              <p:nvPr/>
            </p:nvSpPr>
            <p:spPr>
              <a:xfrm>
                <a:off x="714240" y="3429000"/>
                <a:ext cx="6177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7"/>
              <p:cNvSpPr txBox="1"/>
              <p:nvPr/>
            </p:nvSpPr>
            <p:spPr>
              <a:xfrm>
                <a:off x="611280" y="4259160"/>
                <a:ext cx="790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701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Studio di sistemi dinam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539640" y="18900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815652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Corso di Scilab: Studio di sistemi dinamici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eaeaea"/>
                </a:solidFill>
                <a:latin typeface="Arial"/>
              </a:rPr>
              <a:t>Prof. Sergio De Nisi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Picture 4" descr="RLC_serie neg"/>
          <p:cNvPicPr/>
          <p:nvPr/>
        </p:nvPicPr>
        <p:blipFill>
          <a:blip r:embed="rId1"/>
          <a:stretch/>
        </p:blipFill>
        <p:spPr>
          <a:xfrm>
            <a:off x="4572000" y="3284640"/>
            <a:ext cx="4248000" cy="20764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5"/>
          <p:cNvSpPr/>
          <p:nvPr/>
        </p:nvSpPr>
        <p:spPr>
          <a:xfrm>
            <a:off x="468360" y="2492280"/>
            <a:ext cx="4174920" cy="43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e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eaeaea"/>
                </a:solidFill>
                <a:latin typeface="Arial"/>
              </a:rPr>
              <a:t>C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 costituiscono lo stato del nostro sistema. Per semplicità poniamo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y(1) =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i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y(2) = 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v</a:t>
            </a:r>
            <a:r>
              <a:rPr b="0" i="1" lang="it-IT" sz="1800" spc="-1" strike="noStrike" baseline="-25000">
                <a:solidFill>
                  <a:srgbClr val="eaeaea"/>
                </a:solidFill>
                <a:latin typeface="Arial"/>
              </a:rPr>
              <a:t>C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Per indicare la derivata rispetto al tempo di una variabile y scriviamo semplicemente y’. Il nostro sistema diventa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y’(1) = -y(2) – y(1) – e(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y’(2) =  y(1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6:53:58Z</dcterms:created>
  <dc:creator>Sergio De Nisi</dc:creator>
  <dc:description/>
  <dc:language>en-US</dc:language>
  <cp:lastModifiedBy>jk</cp:lastModifiedBy>
  <dcterms:modified xsi:type="dcterms:W3CDTF">2014-08-09T21:35:06Z</dcterms:modified>
  <cp:revision>42</cp:revision>
  <dc:subject/>
  <dc:title>Struttura del corso</dc:title>
</cp:coreProperties>
</file>