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48E3-35DB-4A08-85AE-42C7033753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D830-9ACB-44B7-A90B-3258FB0F78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7A3-9415-4BE5-B0A5-D467B954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D70E-617F-44CB-8AC7-613D5F3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D48-685E-46C3-B5A9-6EE5ED6B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38D-A513-4090-AF94-E798D1FD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661-C0C4-47A9-92BA-BA3A4D5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BD2-E0C2-4125-9F48-F40D4297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256-6DFC-4253-B80B-E9EE626D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226-BFE3-4937-A7A7-F80A910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C0B-BB77-4463-96DD-D19CDF9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401-9F36-4494-9261-90231C70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2B4-E40E-4E21-A524-143C448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FE2-CE5B-44C7-BD85-F89990C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1FAF-B338-4B02-86D4-A8CC68A16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66"/>
                </a:solidFill>
                <a:latin typeface="Times New Roman"/>
              </a:rPr>
              <a:t>CORRENTE ELETTRICA E CORPO UM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0" y="33336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intensità minim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ll’impulso di durat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apace di produrre l’eccitamento è data d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492360" y="1341360"/>
                <a:ext cx="17272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7"/>
          <p:cNvSpPr/>
          <p:nvPr/>
        </p:nvSpPr>
        <p:spPr>
          <a:xfrm>
            <a:off x="0" y="2492280"/>
            <a:ext cx="8610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rmin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ppresent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ima intens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o stimolo capace di produrre l’eccitamento della cellula se applicato per un tempo indefinito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OB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RONASSIA: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mpo minimo per cui deve essere applicato uno stimolo di ampiezz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produrre l’eccitamen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79440" y="5157720"/>
            <a:ext cx="8097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urva è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ile ad un’iperbole equilater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dunque la cellula è sensibile approssimativamente alla carica I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http://www.elektro.it/elektro_sicurel_html/elektro_sicurel/reboase.gif"/>
          <p:cNvPicPr/>
          <p:nvPr/>
        </p:nvPicPr>
        <p:blipFill>
          <a:blip r:embed="rId1"/>
          <a:stretch/>
        </p:blipFill>
        <p:spPr>
          <a:xfrm>
            <a:off x="971640" y="2492280"/>
            <a:ext cx="746748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ampiezza minima dell’impulso di corrente necessario ad  eccitare la cellula e a determinarne l’inversione del potenziale decresce con l’aumentare della durata per tendere ad un valore costante secondo una curva  denominat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urva di eccitabilit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0920" y="2602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iodo di refrattarietà assolu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vallo di tempo susseguente all’inizio dell’eccitamento cellul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uno stimolo successivo non può produrre eccitamento indipendentemente dall’intensità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0920" y="234936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iodo di refrattarietà relativ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tervallo di tempo susseguente alla refrattarietà assolu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uno stimolo può produrre nuovamente eccitamento ma secondo una curva di eccitabilità superior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50920" y="4365720"/>
            <a:ext cx="889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omodazion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enomeno che si verifica se lo stimolo dura ininterrottamente per tempi più lunghi del periodo refrattario: lo stimolo produce l’eccitamento all’inizio ma poi dopo il periodo refrattario non produce un nuovo eccitamento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canismo elettrico della conduzione nervos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42920" y="113076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omportamento della cellula ha come scopo quello di generare segnali che poi vengano trasportati attraverso il sistema nervoso in tutto il corpo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variazione del potenziale di riposo sta alla base di questo meccanismo.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50920" y="2637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 normale conduzione non avviene nei tessut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nducibilità dei tessuti viventi è solo lontanamente confrontabile con quella di un buon conduttore (la resistenza elettrica di un composto biologico come il citoplasma, che è contenuto nelle fibre nervose è circa 10^8 volte maggiore della resistenza di un metallo come il rame o l’argento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conducibilità sarebbe 100 milioni di volte meno efficace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sezione di un nervo piccola →  resistenza grande →  potenziali elevatissimi, i quali provocherebbero inevitabilmente la disintegrazione dei materiali conduttiv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42920" y="508536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per questo che l’evoluzione ha trovato un’altra strada, un metodo molto simile a quello utilizzato oggigiorno anche per le comunicazioni a lunga distanza realizzate dall’uom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142920" y="825840"/>
            <a:ext cx="88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base del processo sta nell’utilizzare i conduttori più grandi (fibre mieliche nei vertebrati), e a distanze precise collocare dei ripetitori di segnali (nodi di Ranvier), capaci di rigenerare i segnali dando cosi origine ad una “conduzione saltatoria”. In sostanza non è l’energia che si propaga, ma è l’informazione che poi viene codificata e ritrasmessa in tutto il corp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0"/>
            <a:ext cx="7772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canismo elettrico della conduzione nervos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1908000" y="2751120"/>
            <a:ext cx="5185080" cy="2333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79280" y="5374080"/>
            <a:ext cx="889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 impulso nervoso è una variazione fisico-chimica che viene trasmessa dalle fibre nervose → alterazione dello stato elettrico e delle reazioni chimiche (consumo di ossigeno, produzione di anidride carbonica e calore)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oglia di 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sibil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egnali elettrici connessi con l’attività bi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lano il funzionamento dei vari org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vengono trasmessi dai neuroni del sistema nerv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imoli elettrici 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era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soglia di eccit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vengo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ll’esterno  possono risu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 e influire sulle funzioni vi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i questi stimoli può variare a seco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’intensità e della natura d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durata del contat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costituzione fisica della persona col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freque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orrente a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ta frequen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è meno pericolosa della corrente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assa frequenz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 crescere della frequenza, aumenta l’intensità dello stim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ario per produrre l’eccit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191628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orrent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inu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è meno pericolosa della corrent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lternata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razie al fenomeno di accomodazion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1417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corrente percepibile da una persona è individuale e dipende da diversi fattori: non è facile determinare i minimi  valori di corrente che superano la soglia di percezione e quindi si ricorre a criteri statistici e a metodi sperimentali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515772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cuni numer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oglia di percezion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45 µA (elettrodi su lingua a 1 cm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 mA a 50÷100 Hz e 2 mA in cc (sui polpastrelli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ffetti dell’elettricità sul corpo um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una corrente elettrica attraversa un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ò produr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azione dirett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si sanguigni e cellule nerv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e un’alterazione perman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sistema cardia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l’attività cerebral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stema nervos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entr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può arrecare dann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uditi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siv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epidermide ecc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45760" y="203040"/>
            <a:ext cx="51948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enomeni principali: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Tetanizzazion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rresto della respirazion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Fibrillazione ventricolar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Ustion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.  Tetanizzazion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uscolo"/>
          <p:cNvPicPr/>
          <p:nvPr/>
        </p:nvPicPr>
        <p:blipFill>
          <a:blip r:embed="rId1"/>
          <a:stretch/>
        </p:blipFill>
        <p:spPr>
          <a:xfrm>
            <a:off x="4788000" y="1327320"/>
            <a:ext cx="4356000" cy="5530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473000" y="7650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timolo elettrico applicato ad una fibra nervosa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1197000"/>
            <a:ext cx="46432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imolo con intensità e durata appropria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duce potenziale d’azione lungo fibra nervosa fino al muscolo che si contrae 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orna a ripos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-12960" y="2781360"/>
            <a:ext cx="4872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condo stimolo dopo periodo refrattari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 prima dello stato di riposo (somma effetti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-10800" y="3789360"/>
            <a:ext cx="43794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iù stimoli opportunamente intervallati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aggono ripetutamente il muscolo i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do progressivo (contrazione tetanic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-10800" y="5084640"/>
            <a:ext cx="47970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equenza degli stimoli sorpassa un cer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imite, gli effetti si fondono (tetano fuso) e 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uscolo ha una contrazione completa finché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li stimoli non cessan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GALVANI"/>
          <p:cNvPicPr/>
          <p:nvPr/>
        </p:nvPicPr>
        <p:blipFill>
          <a:blip r:embed="rId1"/>
          <a:stretch/>
        </p:blipFill>
        <p:spPr>
          <a:xfrm>
            <a:off x="324000" y="1773360"/>
            <a:ext cx="2847960" cy="345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78200" y="189000"/>
            <a:ext cx="8463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790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Luigi Galvani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onduce i suoi celebri esperiment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ulla contrazione del muscolo di ran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er mezzo di un bimetall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564000" y="1773360"/>
            <a:ext cx="287280" cy="576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066200" y="191628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icità anim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344760" y="278136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lessandro Vol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approfondis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3780000" y="3429000"/>
            <a:ext cx="287280" cy="576360"/>
          </a:xfrm>
          <a:custGeom>
            <a:avLst/>
            <a:gdLst>
              <a:gd name="textAreaLeft" fmla="*/ 38520 w 287280"/>
              <a:gd name="textAreaRight" fmla="*/ 248760 w 28728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4281840" y="3573360"/>
            <a:ext cx="347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onduttore elettrolit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417920" y="4221000"/>
            <a:ext cx="45028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ofisiologi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(studio tra elettricità e organismo viv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3635280" y="4437000"/>
            <a:ext cx="720720" cy="21600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1"/>
          <p:cNvSpPr/>
          <p:nvPr/>
        </p:nvSpPr>
        <p:spPr>
          <a:xfrm>
            <a:off x="0" y="5373720"/>
            <a:ext cx="9067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variazioni di potenzi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prodotte dall’attività biologica, all’interno del corpo umano sono indicati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el funzionamento normale o anormale di alcuni organi (elettrocardiogramma, elettroencefalogramma, elettromiogramma, retinogramm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t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più grande di corrente per cui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ncora in grado di staccarsi della sorg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am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di rilasc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med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na corrente di 50/100Hz 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irca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0mA</a:t>
            </a:r>
            <a:r>
              <a:rPr b="1" lang="it-IT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i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5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gli uo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rrenti molto elevate non producono solit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tanizzazione perché quando il corpo entra in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se, l’eccitazione muscolare é talmente ele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 movimenti muscolari involontari general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c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soggetto della sorgent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tanizzazion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19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fatica_miogramma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4695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246240" y="566028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sul muscolo di più stimoli elettrici applicati al nerv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  Arresto della respir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mplicanza dovuta alla tetanizzazione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paralisi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controllano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zion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corrente elettrica attraversa i muscoli che controll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vimento dei polmoni, la contrazione involon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i muscoli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ra il normale funzionam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respiratorio e il soggetto può morire soffocato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ire le conseguenze di traumi dovuti all’asfiss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sti casi il fenomeno è reversibi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  provvede  con prontez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con l’ausi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espirazione artificiale, al soccorso dell’infortun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evitare danni al tessuto cereb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3.  Fibrillazione ventricol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5435640" y="907920"/>
          <a:ext cx="34290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907920"/>
                    <a:ext cx="3429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4"/>
          <p:cNvSpPr/>
          <p:nvPr/>
        </p:nvSpPr>
        <p:spPr>
          <a:xfrm>
            <a:off x="179280" y="1197000"/>
            <a:ext cx="53643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muscolo cardiaco (miocardio) si contrae ritmicamente 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100 volte al minuto. La contrazione delle fibre muscolari è prodotta da impulsi elettrici provenienti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do senoatri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 flipH="1" flipV="1">
            <a:off x="1116000" y="3860640"/>
            <a:ext cx="287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437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neratore biologico  di impulsi elettrici che comandano il cu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95280" y="4869000"/>
            <a:ext cx="268164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otenziali d’azione emessi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l nodo senoatriale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nel cuore di un coniglio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4"/>
          <p:cNvGraphicFramePr/>
          <p:nvPr/>
        </p:nvGraphicFramePr>
        <p:xfrm>
          <a:off x="4716360" y="981000"/>
          <a:ext cx="419112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981000"/>
                    <a:ext cx="4191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79280" y="765000"/>
            <a:ext cx="4753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nodo senoatriale parte l’impulso elettrico che genera la contrazione del cuore. Il nodo  atrioventricolare raccoglie l’impulso e lo trasmette, tramite il fascio di His, ai ventricoli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6588000" y="3716280"/>
            <a:ext cx="14464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8"/>
          <p:cNvSpPr/>
          <p:nvPr/>
        </p:nvSpPr>
        <p:spPr>
          <a:xfrm>
            <a:off x="250920" y="4508640"/>
            <a:ext cx="6337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’attività del cuore corrisponde un campo elettr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651640" y="836640"/>
            <a:ext cx="3168360" cy="2249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765000"/>
            <a:ext cx="5329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può misurare direttamente la differenza di potenziale che si stabilisce tra parti diverse del corpo durante il ciclo cardia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539640" y="29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126080" y="2708280"/>
            <a:ext cx="44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LETTROCARDIOGRAMM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24000" y="3645000"/>
            <a:ext cx="84960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il generatore biologico di impulsi viene meno alla sua funzione, può essere sostituito da 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generatore artificiale di impulsi elettric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3492000" y="5373720"/>
            <a:ext cx="3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558160" y="57340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Pacema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rrente esterna che attraversa il cuore potreb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e effetti molto gravi perché potrebbero alte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cronizzazione e il coordinamento nei mov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uore con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isi dell'operazione di pomp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angu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’effetto più pericoloso, dovuto a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vrapposi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correnti provenienti dall’esterno con quelle fisiologich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generando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zioni scoordin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erdere il giusto ritmo al cu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3280" y="5905440"/>
            <a:ext cx="864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RIALE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versi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NTRICOLARE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versibile solo con l’ausilio di un defibrillat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77120" y="530064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a fibrillazione può essere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 ricercano le minime correnti capaci di innescare la fibrillazione, in relazione al tempo in cui fluiscono attraverso il corpo umano , 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91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3"/>
          <p:cNvSpPr/>
          <p:nvPr/>
        </p:nvSpPr>
        <p:spPr>
          <a:xfrm>
            <a:off x="243000" y="2133720"/>
            <a:ext cx="8558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mpossibilità di sperimentare direttamente sull’uom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e difficoltà di estrapolare al corpo umano i risultat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ottenuti su animal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4"/>
          <p:cNvSpPr/>
          <p:nvPr/>
        </p:nvSpPr>
        <p:spPr>
          <a:xfrm>
            <a:off x="-139320" y="3933720"/>
            <a:ext cx="9413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che va ad interessare il cuore, causa diretta del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ibrillazione, è solo una frazione della I totale che fluis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ttraverso il corpo uman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5"/>
          <p:cNvSpPr/>
          <p:nvPr/>
        </p:nvSpPr>
        <p:spPr>
          <a:xfrm>
            <a:off x="250920" y="5589720"/>
            <a:ext cx="889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gni individuo reagisce in  modo diverso al passagg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quantità necessari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 innescare  la fibrillazione varia da caso a ca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50920" y="620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oltre  di fondamentale importanza è i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CORSO DELLA CORREN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in quanto, oltre ad influire sull’intensità della corrente, determina anche la direzione del campo elettrico che agisce sul cuor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1042920" y="1844640"/>
            <a:ext cx="433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01720" y="20606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FATTORE DI PERCORS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5940360" y="1773360"/>
                <a:ext cx="12956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f</m:t>
                            </m:r>
                          </m:sub>
                        </m:sSub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Text Box 11"/>
          <p:cNvSpPr/>
          <p:nvPr/>
        </p:nvSpPr>
        <p:spPr>
          <a:xfrm>
            <a:off x="179280" y="2852640"/>
            <a:ext cx="87678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ic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ericolosità dei diversi percorsi seguiti da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nsiderando come riferimento il percorso mano sinistra-piedi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2"/>
          <p:cNvSpPr/>
          <p:nvPr/>
        </p:nvSpPr>
        <p:spPr>
          <a:xfrm flipH="1">
            <a:off x="5651640" y="256536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79280" y="4076640"/>
            <a:ext cx="409752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ani - Piedi 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 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Piede sini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Piede de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Entrambi i pie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- Mano destr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4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sinistra –Dor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7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Mano sinistra –Torace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1,5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4632840" y="4270320"/>
            <a:ext cx="41601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Piede sinist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Piede destr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Entrambi i pie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8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Mano destra - Dorso </a:t>
            </a: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                    0</a:t>
            </a:r>
            <a:r>
              <a:rPr b="1" lang="en-GB" sz="2000" spc="-1" strike="noStrike">
                <a:solidFill>
                  <a:srgbClr val="008000"/>
                </a:solidFill>
                <a:latin typeface="Times New Roman"/>
              </a:rPr>
              <a:t>,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o destra - Torac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,3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utei - Mani 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,7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79280" y="620640"/>
            <a:ext cx="8964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siste un breve intervallo di tempo in cui il ventricol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è elettricamente instabile per cui, se lo shock  coincide c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uesto istante, esiste un'elevatissima probabilità di innes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lla fibrillazione (Periodo vulnerabile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9280" y="2852640"/>
            <a:ext cx="8964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rrenti di durata maggiore del ciclo cardiaco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(0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1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ono più pericolose di quelle di durata inferiore. Se la I dur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iù cicli cardiaci, p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uò produrre nei primi cicli un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ontrazione del ventricolo fuori tempo (extrasistole) ch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ndendo disomogeneo il funzionamento elettrico del cu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179280" y="5445000"/>
            <a:ext cx="8964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Times New Roman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levati valori di corrente nonprovocano in genere 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ibrillazione ventricola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105000" cy="3973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825120" y="62064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lessandro Volt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con la pil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Times New Roman"/>
              </a:rPr>
              <a:t>Fibrillazione ventricolar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42920" y="1200240"/>
            <a:ext cx="8893080" cy="2182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311120" y="3647880"/>
            <a:ext cx="66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lettrocardiogramma prima e dopo l’innesc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a fibrillazione ventricolare.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. Ust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0" y="69228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prodotte dal calore che si sviluppa per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fe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fluisce attraverso il corp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79280" y="1844640"/>
            <a:ext cx="8964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ustioni peggiori si hanno sulla pel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CHI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oiché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senta una resistività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i tessuti interni,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densità di I è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ei punti di “entrata e uscita”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79280" y="4149720"/>
            <a:ext cx="8964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nsità di I di 50 mA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rovocano la carbonizzazion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lla pelle in pochi second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alle AT provoca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ruzione di tessuti superficiali e profond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ottura di arterie quindi  emorragi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istruzione dei centri nervos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http://www.elektro.it/elektro_sicurel_html/elektro_sicurel/curva_pericolosa_ca.gif"/>
          <p:cNvPicPr/>
          <p:nvPr/>
        </p:nvPicPr>
        <p:blipFill>
          <a:blip r:embed="rId1"/>
          <a:stretch/>
        </p:blipFill>
        <p:spPr>
          <a:xfrm>
            <a:off x="179280" y="54936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icolosità della corrente in funzione del tempo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69560" y="6237360"/>
            <a:ext cx="85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rrente elettrica alternata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(15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1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00 Hz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" descr="http://www.elektro.it/elektro_sicurel_html/elektro_sicurel/curva_pericolosa_ca.gif"/>
          <p:cNvPicPr/>
          <p:nvPr/>
        </p:nvPicPr>
        <p:blipFill>
          <a:blip r:embed="rId1"/>
          <a:stretch/>
        </p:blipFill>
        <p:spPr>
          <a:xfrm>
            <a:off x="1692360" y="189000"/>
            <a:ext cx="5775120" cy="3716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700360" y="2060640"/>
            <a:ext cx="1473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 perce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427640" y="1916280"/>
            <a:ext cx="1625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etanizz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123640" y="38606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.   Assenza di reaz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547640" y="479736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.   Nessun effetto fisiologico pericolo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692360" y="558972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3.   Effetti patofisiologici  (reversibili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195640" y="429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perce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ita mani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908000" y="5229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tetanizz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961920" y="640080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4.   Probabile fibrillazione ventricolare e gravi bruciatu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716360" y="549360"/>
            <a:ext cx="1422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brill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476360" y="6093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fibrillazione 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pericolosita_corrente_elettrica_alternata"/>
          <p:cNvPicPr/>
          <p:nvPr/>
        </p:nvPicPr>
        <p:blipFill>
          <a:blip r:embed="rId1"/>
          <a:stretch/>
        </p:blipFill>
        <p:spPr>
          <a:xfrm>
            <a:off x="900000" y="1058760"/>
            <a:ext cx="72723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4" descr="http://www.elektro.it/elektro_sicurel_html/elektro_sicurel/curva_pericolosa_cc.gif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542600" y="6237360"/>
            <a:ext cx="56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rrente continu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123640" y="386064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1.   Assenza di reaz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619280" y="465300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2.   Nessun effetto fisiologico pericolo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4000" y="5084640"/>
            <a:ext cx="882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trazioni muscolari e perturbazioni reversibili nella formazion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trasmissione degli impulsi elettrici cardi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2195640" y="4292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perce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dita mani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177920" y="64008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4.   Probabile fibrillazione ventricolare e gravi ust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http://www.elektro.it/elektro_sicurel_html/elektro_sicurel/curva_pericolosa_cc.gif"/>
          <p:cNvPicPr/>
          <p:nvPr/>
        </p:nvPicPr>
        <p:blipFill>
          <a:blip r:embed="rId1"/>
          <a:stretch/>
        </p:blipFill>
        <p:spPr>
          <a:xfrm>
            <a:off x="1763640" y="260280"/>
            <a:ext cx="5759640" cy="3672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4"/>
          <p:cNvSpPr/>
          <p:nvPr/>
        </p:nvSpPr>
        <p:spPr>
          <a:xfrm>
            <a:off x="3419640" y="2349360"/>
            <a:ext cx="1473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 perce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5435640" y="692280"/>
            <a:ext cx="1422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ibrillazion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1476360" y="6021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oglia di fibrillazione ventricolar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CORRENTI AD ALTA FREQU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743200" y="1125360"/>
            <a:ext cx="6400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ericolosità della 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minuisce all’aumentare della 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l’ampiezza dello stimolo deve essere tanto più grande quanto più breve è la dur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oltre ad alte f la I tende  a passare all’esterno del corp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ffetto pelle,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tal modo non interesserà gli organi vi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duce comunque effetti termici pericolosi, anche in relazione alla disuniforme distribuzione della I nell’elettrodo di contatto e nel corpo st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http://www.elektro.it/elektro_sicurel_html/elektro_sicurel/pericolosita_corrente.gif"/>
          <p:cNvPicPr/>
          <p:nvPr/>
        </p:nvPicPr>
        <p:blipFill>
          <a:blip r:embed="rId1"/>
          <a:stretch/>
        </p:blipFill>
        <p:spPr>
          <a:xfrm>
            <a:off x="0" y="685800"/>
            <a:ext cx="2847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39080" cy="2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la I al variare della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http://www.elektro.it/elektro_sicurel_html/elektro_sicurel/tetanizza_pecezione.gif"/>
          <p:cNvPicPr/>
          <p:nvPr/>
        </p:nvPicPr>
        <p:blipFill>
          <a:blip r:embed="rId1"/>
          <a:stretch/>
        </p:blipFill>
        <p:spPr>
          <a:xfrm>
            <a:off x="826920" y="476280"/>
            <a:ext cx="7210440" cy="45878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6"/>
          <p:cNvSpPr/>
          <p:nvPr/>
        </p:nvSpPr>
        <p:spPr>
          <a:xfrm>
            <a:off x="826920" y="5057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frequenza di 50 o 60 Hz di uso comune è tra le più pericolo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10.000 Hz si ha una soglia di rilascio pari alla corrente continu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prima approssimazione si può assumere che frequenze superiori a 1 kHz sono pericolose proporzionalmente alla frequenz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IMITE(di pericolosità a f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I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IMITE(di pericolosità a f=50Hz)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*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F:\TESI USB\I PIU' UTILI\Effetti biologici della corrente elettrica_file\Protezione13.jpg"/>
          <p:cNvPicPr/>
          <p:nvPr/>
        </p:nvPicPr>
        <p:blipFill>
          <a:blip r:embed="rId1"/>
          <a:stretch/>
        </p:blipFill>
        <p:spPr>
          <a:xfrm>
            <a:off x="1619280" y="674640"/>
            <a:ext cx="5713560" cy="2970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08000" y="3604320"/>
            <a:ext cx="8928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) limite sotto il quale non si ha alcuna reazione nel corpo al passaggio della corrente.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) valore della corrente per il quale la probabilità di percezione è del 50%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) valore per il quale la probabilità di percezione è del 99.5%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) valore della corrente per il quale il 99.5% degli esaminati è riuscito a staccarsi; lo 0.5% quindi non è riuscito a staccars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) valore della corrente per il quale il 50% degli esaminati è riuscito a staccars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) valore della corrente per il quale solo lo 0.5% degli esaminati è riuscito a staccarsi; il 99.5% non è riuscito a staccarsi dalla parte in tension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0"/>
            <a:ext cx="883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lie dovute al cambiamento della frequenz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i ri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23920" y="974880"/>
            <a:ext cx="73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Corpo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umano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= sacco d’acqua pieno di ioni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 flipV="1">
            <a:off x="6659640" y="148392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7092720" y="14839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652360" y="18446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cell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091640" y="1773360"/>
            <a:ext cx="1861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liquid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interstizi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76760" y="4149720"/>
            <a:ext cx="30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Ioni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K+, Na+…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3276720" y="38602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3276720" y="4724280"/>
            <a:ext cx="431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49840" y="3213000"/>
            <a:ext cx="4892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i muovono secondo il gradient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i concentrazion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709440" y="4797360"/>
            <a:ext cx="54385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ono soggetti al campo elettric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generato dall’insieme degli altri ion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0" y="0"/>
            <a:ext cx="883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zioni mediche: </a:t>
            </a:r>
            <a:r>
              <a:rPr b="0" lang="it-IT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lettrochirurgi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79280" y="787320"/>
            <a:ext cx="878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189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d’Arsonval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mostrò che la corrente alternata ad alta frequenza applicata ai tessuti viventi determinava effetti termici senza causare la stimolazione muscolo-nervosa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79280" y="1989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lettrochirurgia divenne popolare grazie al fisico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Bovi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d al chirurg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ushin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 quali misero a punto una macchina in grado sia di tagliare sia di coagulare i tessut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79280" y="2924280"/>
            <a:ext cx="878544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‘ </a:t>
            </a: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elettrobistur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è un'apparecchiatura che ha lo scopo di eseguire alcune funzioni nell'ambito chirurgico, quali il taglio e la coagulazione di tessuti biologici, mediante correnti ad alta frequenz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so utilizza il riscaldamento prodotto per effetto Joule dal passaggio di tali correnti, provocando un  aumento di temperatura che è  funzione della densità di potenza e del tempo di applicazione, ed il suo livello può essere tale da surriscaldare il tessuto fino a determinare l'effetto di coagulazione o tagli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usano solitamente correnti con frequenze maggiori di 0,3 MHz, per evitare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ffetto collaterale di stimolazione di nervi e muscoli, ed inferiori a 5 MHz per minimizzare i problemi legati alle correnti di dispersione ad alta frequenz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</a:rPr>
              <a:t>CORRENTI IMPUL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ono considerate pericolose quelle che fluiscono attraverso il corpo umano per un tempo &lt; 10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impulsi compresi tra 0.1 – 10 ms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percezione e di dolore dipendono da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quantità di carica elettrica                    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el picco d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fibrillazione ventricolare dipende da: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cor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a d’on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c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i picco della 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d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tante in cui è applicato in relazione al ciclo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tà d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mpul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durata dell'impul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0 m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ni asciutte e elettrodi amp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1003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http://www.elektro.it/elektro_sicurel_html/elektro_sicurel/curva_tensione_dolore.gif"/>
          <p:cNvPicPr/>
          <p:nvPr/>
        </p:nvPicPr>
        <p:blipFill>
          <a:blip r:embed="rId1"/>
          <a:stretch/>
        </p:blipFill>
        <p:spPr>
          <a:xfrm>
            <a:off x="900000" y="907920"/>
            <a:ext cx="7239240" cy="50547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530640" y="5962680"/>
            <a:ext cx="8149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icco di corrente, &gt; carica elettrica richiesta per raggiunger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glia di percezione o di dolo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mpedenz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68800" cy="4680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5367240" y="112536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di Ohm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V=Z*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6874920" y="1916280"/>
            <a:ext cx="20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hmico-capaci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7740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427640" y="2565360"/>
            <a:ext cx="1512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 flipV="1">
            <a:off x="4427640" y="3068280"/>
            <a:ext cx="1512720" cy="18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5861160" y="2565360"/>
            <a:ext cx="2779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unti di ingresso e uscit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a corr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3851280" y="3645000"/>
            <a:ext cx="216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6297840" y="411156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sistenza degli art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mpedenz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rmini circuitali il corpo umano corrisponde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impedenza capac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pacità 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iede principalmente n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interpone come isolante tra l’elettr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tessuto sotto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si pone una resistenz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ta ai pori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ie ad entrambe la resistenza in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-31320" y="5805360"/>
            <a:ext cx="918756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lla frequenza di 50 Hz è lecito trascurare la piccola capacità della pel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si parla comunemente di capacità del corpo umano R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e dei valori precisi alla resistenza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isulta piuttosto difficolto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do questa influenzata da molte variabi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corso della corr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o d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sione di contat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ale è possibile  valutarla solo statist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indi le norme CEI fanno riferimento a  val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zionali riferiti ad un campione medio di popo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 corpo umano è una grandez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emamente variabile anche con le condizioni ambien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aria nella stessa persona al variare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fisiolog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 la resistenza varia prima,durante e d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iodo di intensa concentrazione ment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1835280" y="3924360"/>
            <a:ext cx="5486400" cy="2933640"/>
            <a:chOff x="1835280" y="3924360"/>
            <a:chExt cx="5486400" cy="2933640"/>
          </a:xfrm>
        </p:grpSpPr>
        <p:sp>
          <p:nvSpPr>
            <p:cNvPr id="255" name="Line 5"/>
            <p:cNvSpPr/>
            <p:nvPr/>
          </p:nvSpPr>
          <p:spPr>
            <a:xfrm flipV="1">
              <a:off x="244476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2444760" y="647532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>
              <a:off x="2444760" y="4434480"/>
              <a:ext cx="4199400" cy="17996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335916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>
              <a:off x="4883040" y="392436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>
              <a:off x="2444760" y="45619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>
              <a:off x="2444760" y="583776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2"/>
            <p:cNvSpPr/>
            <p:nvPr/>
          </p:nvSpPr>
          <p:spPr>
            <a:xfrm>
              <a:off x="2444760" y="519984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2444760" y="4051800"/>
              <a:ext cx="9140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4"/>
            <p:cNvSpPr/>
            <p:nvPr/>
          </p:nvSpPr>
          <p:spPr>
            <a:xfrm>
              <a:off x="3511440" y="4051800"/>
              <a:ext cx="1371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URANTE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5035320" y="4051800"/>
              <a:ext cx="914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OPO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1835280" y="3924360"/>
              <a:ext cx="914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6407280" y="6475320"/>
              <a:ext cx="9144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96720" y="259920"/>
            <a:ext cx="95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intern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dip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rattutto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gi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I e in misura minore da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 degli elettro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è concentrata soprattutto negl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, sup.ed in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ezione ridotta e costituiti di muscoli ed o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n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 grossa sezione e costituito da acqu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 una resistenza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tronco viene considerato un cortocircuito lo schema equivalente del corpo umano diventa un quadrip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resistenza della pelle si intende la somm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 di contatto elettrodo-pelle e la resistenza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le vera e prop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5280" y="404640"/>
            <a:ext cx="9144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nsione di conta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la pelle diminuisce all’aumentare della V applicata a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&gt;100V la R della pelle è trascurab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200V 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cortocircuitata dalla C e la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403280" y="3500280"/>
          <a:ext cx="6264360" cy="3097440"/>
        </p:xfrm>
        <a:graphic>
          <a:graphicData uri="http://schemas.openxmlformats.org/drawingml/2006/table">
            <a:tbl>
              <a:tblPr/>
              <a:tblGrid>
                <a:gridCol w="1567080"/>
                <a:gridCol w="1565280"/>
                <a:gridCol w="1566720"/>
                <a:gridCol w="156528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SIONE DI CONTATTO (V)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ORI NON SUPERATI DALLA PERCENTUALE INDICATA DI PERSONE (Ω)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7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5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. asintotic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95280" y="40428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0066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tato della p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midità diminuisce la R della pelle. Il sudore (essendo una soluzione di cloruro di sodi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ggiora la situazione fino a dimezzare i val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 corrispondente a condizioni asci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pelle è tagliat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ita o contusa la R sc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lori molto bass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ntrario se la pe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spess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../I%20PIU'%20UTILI/Effetti%20biologici%20della%20corrente%20elettrica_file/Protezione21.jpg"/>
          <p:cNvPicPr/>
          <p:nvPr/>
        </p:nvPicPr>
        <p:blipFill>
          <a:blip r:embed="rId1"/>
          <a:stretch/>
        </p:blipFill>
        <p:spPr>
          <a:xfrm>
            <a:off x="4716360" y="3284640"/>
            <a:ext cx="4176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la cellula ha verso gli ioni un comporta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tip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etti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li ioni non si diffondon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 stesso modo dentro e fuori la cellula: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llula è molto permeabi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iuttosto che a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28195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ione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trasportato all’interno della cellula mentre lo ione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espulso con la tipica azi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ggio biochimico a spese dell’organismo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ompa metabolica”.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llula viene quindi a possedere un potenziale negativo all’interno rispetto all’esterno </a:t>
            </a:r>
            <a:br>
              <a:rPr sz="3200"/>
            </a:b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i riposo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0" y="40464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superficie di contatto diminuisce la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p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è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o più influente quanto minore è la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una maggiore pressione corrisponde una maggior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a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rolungarsi del contatto diminuisce la R, ma s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à di calore è tale da carbonizzare la pelle, la R ris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a valori eleva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za dell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frequenza l’imped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riduce gradualmente fino a ridursi alla sol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0" y="40464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tà di cor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=I/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 = densità di corrente (µA/cm2); I = corrente circolante (µA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 = superficie di contatto (cm2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0066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ività neur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a attività cerebrale aumenta la resistenza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2200320"/>
          <a:ext cx="8686800" cy="2468520"/>
        </p:xfrm>
        <a:graphic>
          <a:graphicData uri="http://schemas.openxmlformats.org/drawingml/2006/table">
            <a:tbl>
              <a:tblPr/>
              <a:tblGrid>
                <a:gridCol w="1004760"/>
                <a:gridCol w="1195560"/>
                <a:gridCol w="2085840"/>
                <a:gridCol w="1424160"/>
                <a:gridCol w="1084320"/>
                <a:gridCol w="1892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A D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E CONTA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À D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TT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i percezio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i percezion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olo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olo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glia di eccitabilità muscola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glia di eccitabilità muscola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t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.0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ioni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t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.00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ioni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endo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brillazione ventricolar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  endo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brillazione ventricolare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i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 endocardio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0 µA/cm</a:t>
                      </a:r>
                      <a:r>
                        <a:rPr b="0" lang="it-IT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ioni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pi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  endocardio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 µA/cm</a:t>
                      </a:r>
                      <a:r>
                        <a:rPr b="0" lang="it-IT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ioni</a:t>
                      </a:r>
                      <a:endParaRPr b="0" i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pacità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nente capacitiva del corpo che si colloca in parallelo alla resistenza dello strato epider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pacità è dovuta alla capacità della membrana cellulare di separare l’ambiente intra ed extra cellulare e ponendo tra di essi una differenza di potenziale oscillante tra i -70mV e i +40m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ratteristica importante che contraddistingue la capacità è la sua dipendenza dal valore di frequenza della corrente che la attraversa (Xc=1/ωC, con ω=2*pi*frequenza); il suo valore è nullo in continua (circuito aperto), ed è possibile considerarla pressochè nulla al valore della frequenza industriale, questo fa in modo che si consideri per comodità un’unica resistenza Rb totale del co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’opposto, alle alte frequenze agirà come un corto circuito il quale andrà a bypassare la resistenza dello strato epidermico della pel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4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bioimpedenza rappresenta l’unione dei valori di resistenza e reattanz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4" descr="Immagine1"/>
          <p:cNvPicPr/>
          <p:nvPr/>
        </p:nvPicPr>
        <p:blipFill>
          <a:blip r:embed="rId1"/>
          <a:stretch/>
        </p:blipFill>
        <p:spPr>
          <a:xfrm>
            <a:off x="1187280" y="1757520"/>
            <a:ext cx="5042160" cy="354312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5794200" y="3844800"/>
            <a:ext cx="3241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iezione di una c.a. a 50 kHz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5867280" y="3773520"/>
            <a:ext cx="433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6372360" y="3557520"/>
            <a:ext cx="11872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iniettor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5578560" y="47815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6083280" y="4565520"/>
            <a:ext cx="11876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nsor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36360" y="5603760"/>
            <a:ext cx="9144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posizione al passaggio di corrente: Impedenz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Z=R+j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1"/>
          <p:cNvSpPr/>
          <p:nvPr/>
        </p:nvSpPr>
        <p:spPr>
          <a:xfrm>
            <a:off x="250920" y="626040"/>
            <a:ext cx="8642160" cy="57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suti privi di grasso: buoni conduttor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chi di fluidi corporei che oppongono al passaggio della corrente alternata una bassa resistenz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suti adiposi e le ossa: cattivi conduttori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veri di fluidi ed elettroliti, divenendo così una via elettrica fortemente resistiv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reattanza è una misura indiretta delle membrane cellulari integre ed è proporzionale alla massa cellulare corpore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nalisi BIA tradizionale: ottenimento dei compartimenti massa magra / massa grass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250920" y="467280"/>
            <a:ext cx="8713800" cy="59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edicina di ba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heck up del soggetto sovrappeso o obeso, relative scelte nutrizional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ostazione ed ottimizzazione di programmi d'allenamento tramite il controllo dello stato d'idratazione e delle modificazioni della massa muscolare e della massa grassa a livello amatoriale ed agonistico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stetricia e Ginecologi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llow up della gestante per l'identificazione delle variazioni fisiologiche non collegate allo sviluppo del nascituro (aumento di peso, ritenzione idrica...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utrizione: Centri Dietologici, Centri Auxologici, Nutrizione Clinica, DCA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o delle variazioni dei compartimenti corporei nei programmi alimentari speciali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ioimpedenza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250920" y="934560"/>
            <a:ext cx="87138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ardiologia, Assistenza domiciliare integrata (ADI)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pplicazione nella prevenzione e nella diagnosi precoce dello scompenso cardiaco tramite l'individuazione delle gravi alterazioni idroelettrolitiche di possibile origine patologica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erapia intensiva e Rianimazion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ndamentale per la prevenzione e controllo degli stati catabolici e squilibri idroelettrolitici a cui sono frequentemente esposti i pazienti CCU/ICU, impostazione e controllo terapie nutrizione artificial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ncologia , HIV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l'identificazione degli stati depletivi della massa cellulare o situazioni di bilancio idrico alterato generati da terapie d'urto, controllo spazi ECM/ICM, angolo di fase come indice prognostico di sopravvivenza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icolosità del percor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stesso valore di V applicato tra punti diversi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a I diverse, perché ad ogn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un valore diverso di resist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la probabilità di innesco della fibrill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 dal percorso a parità di cor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quant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ù è piccola la resistenza R</a:t>
            </a:r>
            <a:r>
              <a:rPr b="0" lang="it-IT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to maggi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l valore della I e tanto maggiore è il fattore di percorso tanto maggiore è la probabilità di fibrillazione ventric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so più pericoloso corrisponde al max valore di F/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324000" y="5300640"/>
            <a:ext cx="8534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corpo"/>
          <p:cNvPicPr/>
          <p:nvPr/>
        </p:nvPicPr>
        <p:blipFill>
          <a:blip r:embed="rId1"/>
          <a:stretch/>
        </p:blipFill>
        <p:spPr>
          <a:xfrm>
            <a:off x="54000" y="404640"/>
            <a:ext cx="4816440" cy="604692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5056560" y="374760"/>
            <a:ext cx="36187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ragitti più pericolosi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sinistra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destra-tora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 pied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03480" y="2997360"/>
            <a:ext cx="4344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ause: bassa resistenz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levato fattore di percor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004360" y="3860640"/>
            <a:ext cx="3952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ragitti meno pericolosi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destra-dors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o sinistra-dors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ni mani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971640" y="1700280"/>
            <a:ext cx="7345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uona giornata</a:t>
            </a:r>
            <a:endParaRPr b="0" i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i mammiferi le cellule del sistema nervoso centrale presentano un potenziale di riposo d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0 m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otevole se si considerano le piccol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ensioni della cellul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http://www.elektro.it/elektro_sicurel_html/elektro_sicurel/cellula.gif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però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 è perfettamente isola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è attraversata da un certo numero di ioni perciò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d un valore di capacità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à anche una resistenza elettr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839160" y="30312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cellulare separando cariche elettrich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omporta com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ensato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30492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mplificato delle cellule uman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à perciò rappresentato da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ondensatore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con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a resistenza 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a </a:t>
            </a:r>
            <a:br>
              <a:rPr sz="2800"/>
            </a:b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generat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rappresent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di riposo determinat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diversa concentrazione di ioni nella cellula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modello_cellula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lip_image004"/>
          <p:cNvPicPr/>
          <p:nvPr/>
        </p:nvPicPr>
        <p:blipFill>
          <a:blip r:embed="rId1"/>
          <a:stretch/>
        </p:blipFill>
        <p:spPr>
          <a:xfrm>
            <a:off x="1332000" y="961920"/>
            <a:ext cx="6192720" cy="3979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540800" y="30240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randimento del tessuto cellular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50920" y="51264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ue canali (uno in funzione con la cellula a riposo mentre l’altro solo con la cellula eccitata) permettono il passaggio preferenziale del potassi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terzo permette il passaggio del sodio (in seguito all’eccitamento della cellul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9280" y="6092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o passaggio continuo di ioni carica positivamente l’ambiente extracellulare, mentre l’ambiente intracellulare perde cariche positive e quindi si carica negativamente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si applica ad una cellula un impulso di corrent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larità invers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 quella della cellula stes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otenziale da neg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viene positivo per ritorn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 nuovo al valore inizi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’andamento del potenzi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nde il nome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</a:t>
            </a:r>
            <a:r>
              <a:rPr b="0" i="1" lang="it-IT" sz="2800" spc="-1" strike="noStrike">
                <a:solidFill>
                  <a:srgbClr val="ff0066"/>
                </a:solidFill>
                <a:latin typeface="Times New Roman"/>
                <a:ea typeface="Arial"/>
              </a:rPr>
              <a:t>potenziale d’azione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250920" y="2349360"/>
          <a:ext cx="4032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349360"/>
                    <a:ext cx="4032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7:09:43Z</dcterms:created>
  <dc:creator>Mariacristina Roscia</dc:creator>
  <dc:description/>
  <dc:language>en-US</dc:language>
  <cp:lastModifiedBy>jk</cp:lastModifiedBy>
  <dcterms:modified xsi:type="dcterms:W3CDTF">2009-02-11T08:17:50Z</dcterms:modified>
  <cp:revision>124</cp:revision>
  <dc:subject/>
  <dc:title>CORRENTE ELETTRICA E CORPO UMANO</dc:title>
</cp:coreProperties>
</file>