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418-ACCC-4E75-A524-DF76EFCE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BED-FA10-467A-ABD7-A4EA05B6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9A8-9E8F-4530-85CB-8CBEA30B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453-6944-4ECA-8FEA-739CBFC0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C17-EC21-4232-B877-54D2AA21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99C-1DA5-45FC-9DE6-C5D8676E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74F-5EA1-4CFB-8853-EC44E128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FCF-BDE2-4012-8A77-CA23ED79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46F-9992-482B-BDF1-87C2B8FA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245-BEFA-492E-9FBA-057695C9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3FA-9F34-4B2B-BC9A-84395E8B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129-0D18-46E1-AB3C-69FD0FE0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58D3-6E96-4F8B-BEA0-320461C7E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3333cc"/>
                </a:solidFill>
                <a:latin typeface="Monotype Corsiva"/>
              </a:rPr>
              <a:t>CORRENTE ELETTRICA E CORPO UMAN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4080" y="4800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Times New Roman"/>
              </a:rPr>
              <a:t>Ing. Mariacristina Roscia             Università di Napoli “Federico II” Dipartimento Ingegneria Elet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2F0-A1C9-48FD-8DC8-9019BD2275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lia d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ibi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segnali elettrici connessi con l’attività biolog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lano il funzionamento dei vari orga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vengono trasmessi dai neuroni del sistema nervo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timoli elettrici  c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uperan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soglia di eccitabilit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c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rovengo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all’esterno  possono risul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ericolosi e influire sulle funzioni vita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pericolosità di questi stimoli può variare a secon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ll’intensità e della natura d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durata del contatt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costituzione fisica della persona colp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massa corporea e stato di salute) 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frequen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69D-D4A3-4E57-864F-DE986BC778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rrenti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aggior frequenz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sono meglio sopporta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durata dell’impulso necessario ad eccitare la cellu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versamente proporzionale alla frequenz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minuisce all’aumentare della frequenza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uindi è necessario aumentare l’intensità dello stimo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er provocare la modificazione del potenziale di ripo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6576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oltre la pericolosità della corrente elettrica diminuis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erché questa tende a passare attraverso la pel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fenomeno descritto si chiama appunt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“effetto pel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oiché i danni provocati dal passaggio della corrente elet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teressano solo la pelle e non gli organi vital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8EB-C005-4D6F-BB39-5BE66C998D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nche la 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  <a:ea typeface="Arial"/>
              </a:rPr>
              <a:t>c</a:t>
            </a:r>
            <a:r>
              <a:rPr b="1" lang="it-IT" sz="3200" spc="-1" strike="noStrike">
                <a:solidFill>
                  <a:srgbClr val="009900"/>
                </a:solidFill>
                <a:latin typeface="Times New Roman"/>
                <a:ea typeface="Arial"/>
              </a:rPr>
              <a:t>.c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può essere pericolo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a è necessaria un’intensità maggiore di quella alter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0 H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a causa di un fenomeno che avviene nella cellu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ttoposta ad uno stimolo continuo detto di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ccomodazione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 presenza di un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imolo ininterrot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la cellula si adat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la nuova situazione aumentando la sua soglia di eccitabilità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valore di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rrente percepibi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a una persona 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dividuale e dipende da diversi fattor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on è facile determinare i minimi  valori di corr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he superano la soglia di percezione e quindi si ricor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 criteri statistici e a metodi sperimenta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FBE-E0C6-4A0D-A128-DA9C888A34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fetti dell’elettricità sul corpo 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do una corrente elettrica attraversa un corpo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ò produrr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’azione dirett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si sanguigni e cellule nervo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e un’alterazione perman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 sistema cardia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l’attività cerebrale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stema nervoso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centra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ne può arrecare dann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’apparato uditiv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’apara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sivo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’epidermide ecc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7EE-1F85-46A6-A79E-D251BF2821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an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stimolo elettrico applicato ad una fibra nervos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nsità e durat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ropria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 u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iale d’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si propaga lungo la fibra nervosa fino al musco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raendos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poi ritornare allo stato di ripos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uccessivi, gli effetti possono sommarsi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uscolo si contrae in modo progres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zione teta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n questa posizione permangono fin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cessano gli stimo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EBB-053C-4653-A8D8-2BEBEE8372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a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più grande di corrente per cui una pers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ancora in grado di staccarsi della sorgente elet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hiam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nte di rilasc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medi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una corrente di 50/100Hz  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circa </a:t>
            </a:r>
            <a:r>
              <a:rPr b="1" lang="it-IT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0mA</a:t>
            </a:r>
            <a:r>
              <a:rPr b="1" lang="it-IT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e do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i </a:t>
            </a:r>
            <a:r>
              <a:rPr b="1" lang="it-IT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5m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gli uomi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rrenti molto elevate non producono solit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tanizzazione perché quando il corpo entra in conta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se, l’eccitazione muscolare é talmente elev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i movimenti muscolari involontari general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ca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 soggetto della sorgent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0ED-A2BF-4AB1-8B61-DEB75FD42A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rresto della respi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mplicanza dovuta alla tetanizzazione 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 paralisi dei centri nervos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controllano l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zion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a corrente elettrica attraversa i muscoli che controll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ovimento dei polmoni, la contrazione involonta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questi muscoli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era il normale funzionamen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respiratorio e il soggetto può morire soffocato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ire le conseguenze di traumi dovuti all’asfiss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questi casi il fenomeno è reversibil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o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  provvede  con prontezz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che con l’ausil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respirazione artificiale, al soccorso dell’infortun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evitare danni al tessuto cerebr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275-BA0A-4CE1-B310-3B65351011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ibrillazione ventrico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uore ha 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pompare il sangue lungo le v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le arterie del corpo, perciò i muscoli del cuore 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ggono e si espandono ritmicamente a cir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/100 volte al minuto (sistole e diasto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 movimenti son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ordinat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un vero e prop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e d’impulsi elettric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ocando le contrazi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danno luogo al battito cardia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uore, proprio a causa della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 elettric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su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zionamento,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è  particolarmente sensibi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qualun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nte elettrica che proviene dall’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ter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a essa caus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uno shock elettrico o  introdotta volontari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nel caso del pace-mak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348-66A2-431E-A880-4F7E041B67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llazione ventri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rrente esterna che attraversa il cuore potreb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e effetti molto gravi perché potrebbero alter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cronizzazione e il coordinamento nei movime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uore con la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isi dell'operazione di pompagg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sangu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llazi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l’effetto più pericoloso, dovuto all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vrapposi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e correnti provenienti dall’esterno con quelle fisiologich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, generando delle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azioni scoordina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no perdere il giusto ritmo al cu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articolarmente pericolosa nella zona ventricol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hé fenomeno non reversibile in quanto persis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e se lo stimolo é cess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414-DCA8-4FBD-9769-24A798C23C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llazione ventri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fattor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he possono rendere probabile l’innes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lla fibrillazione ventricolare so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’intensità dell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he attraversa il corpo di cui una picco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arte passa attraverso il cuore e causa la fibrilla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gni individu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eagisce in  modo diver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l passaggio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ll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quantità necessari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d innesc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fibrillazione varia da caso a cas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ondamental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percorso seguito da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su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obabilità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’innes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attore di percors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he indic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pericolosità dei diversi percorsi segu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onsiderando come riferi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percorso mano sinistra-pie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6E6-5A8B-4617-9C6D-61F227F8FF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assaggio di una corrente attraverso il corpo umano, può determinare conseguenze anche </a:t>
            </a:r>
            <a:br>
              <a:rPr sz="3200"/>
            </a:b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mortali!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agli effetti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FISIOPATOLOGICI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odotti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alla corrente elettrica sul corpo uman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pendono i limiti di sicurezza.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sicurezza può essere conseguita sia limitando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orrent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e riducendo il tempo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per cui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esta può fluire attraverso il corpo u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85B-792C-451F-BB70-E25E9EA4B1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5256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tore di per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256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 - Piedi 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sinistra - Piede sinist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sinistra - Piede dest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sinistra - Entrambi i pied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sinistra - Mano destr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sinistra –Dors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o sinistra –Torace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destra - Piede sinist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destra - Piede destr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destra - Entrambi i pied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no destra - Dorso  </a:t>
            </a:r>
            <a:r>
              <a:rPr b="1" lang="it-IT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               0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destra - Torace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tei - Mani  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8A6-3930-4A3B-B800-944C9B6C35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llazione ventri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i ha un istante di tempo in cui il ciclo cardiaco n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é molto instabile per cui, se lo shock  coinc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 questo istante esiste un'elevatissima probabilit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 innesco della fibrillazi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uesto periodo d'instabilità si chiama “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eriodo vulnerabile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probabilità d’innesco della fibrillazione aumenta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 l’infortunato é in contatto con la corrente este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er una durata maggiore del ciclo cardiaco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(0.5/1s)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uò produrre nei primi cicli una contrazione del ventrico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uori tempo che rendendo disomogeneo il funz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ettrico del cuore lo rende maggiormente vulnera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8E5-7F77-4522-AB8E-90EB335A81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i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no prodotte dal calore che si sviluppa p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fet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oule da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he fluisce attraverso il corp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e ustioni peggiori si hanno sulla pel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ARCHIO ELETTRIC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poich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 una resistività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ei tessuti inter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densità di I è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 punti di “entrata e uscit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nsità di I di 50 mA/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provocano la carbonizz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lla pelle in pochi second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alle AT provo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struzione di tessuti superficiali e profo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ottura di arterie quindi  emorra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struzione dei centri nervos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530-83AE-48AC-B811-B8B4BAFCF7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I DI PERICOLOSITÀ D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E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di pericolosità della I alternata 15/100 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urva_pericolosa_ca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8DF-9C2B-48D6-986F-F51D0F0879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76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Zone di pericolosità della I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urva_pericolosa_cc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C7B-92E5-448C-856F-7185E952D0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RRENTI AD ALTA FREQU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520" y="609480"/>
            <a:ext cx="6400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pericolosità della 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minuisce all’aumentare della 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: l’ampiezza dello stimolo deve essere tanto più grande quanto più breve è la dur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oltre ad alte f la I tende  a passare all’esterno del corpo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ffetto pel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            in tal modo non interesserà gli organi vita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munque produce effetti termici pericolosi anche in relazione alla disuniforme distribuzione della I nell’elettrodo di contatto e nel corpo st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ericolosita_corrente" descr=""/>
          <p:cNvPicPr/>
          <p:nvPr/>
        </p:nvPicPr>
        <p:blipFill>
          <a:blip r:embed="rId1"/>
          <a:stretch/>
        </p:blipFill>
        <p:spPr>
          <a:xfrm>
            <a:off x="0" y="685800"/>
            <a:ext cx="2847960" cy="617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8E8-2F80-43F6-988C-44C8A6B56D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960" y="151920"/>
            <a:ext cx="883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olosità della I al variare della 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86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etanizza_pecezione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DE8-A456-466A-AA36-C072E2D2FD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5960" y="151920"/>
            <a:ext cx="883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CORRENTI IMPUL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ono considerate pericolose quelle che fluiscono attraverso il corpo umano per un tempo &lt;10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impulsi compresi tra 0.1 – 10 ms si h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soglia di percezione e di dolore dipendono da             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a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quantità di carica elettrica                                             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valore del picco d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soglia di fibrillazione v. dipende da:                         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a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ercors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forma d’ond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c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valore di picco della 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d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tante in cui è applicato in rel.al ciclo card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6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565-CB95-4456-8377-9FAF24912A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960" y="763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ericolosità del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mpul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urata dell'impul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0 m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mani asciutte e elettrodi amp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86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003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urva_tensione_dolore" descr=""/>
          <p:cNvPicPr/>
          <p:nvPr/>
        </p:nvPicPr>
        <p:blipFill>
          <a:blip r:embed="rId1"/>
          <a:stretch/>
        </p:blipFill>
        <p:spPr>
          <a:xfrm>
            <a:off x="914400" y="134604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1F0-18AB-4AD0-A942-0A056898A6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e dei valori precisi alla resistenza elet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orpo umano risulta piuttosto difficolto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endo questa influenzata da molte variabil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corso della corren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to della pel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ficie di contatt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nsione di contat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tale è possibile  valutarla solo statistic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quindi le norme CEI fanno riferimento a  val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zionali riferiti ad un campione medio di popolazi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362-20CA-4CDD-89E3-8262C2C5A6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9068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n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ot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gli esperimenti ch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</a:t>
            </a:r>
            <a:r>
              <a:rPr b="1" i="1" lang="en-GB" sz="3200" spc="-1" strike="noStrike">
                <a:solidFill>
                  <a:srgbClr val="33cc33"/>
                </a:solidFill>
                <a:latin typeface="Times New Roman"/>
                <a:ea typeface="Arial"/>
              </a:rPr>
              <a:t>Galvani</a:t>
            </a:r>
            <a:r>
              <a:rPr b="1" i="1" lang="en-GB" sz="3200" spc="-1" strike="noStrike">
                <a:solidFill>
                  <a:srgbClr val="33cc33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ece alla fin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del XVII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c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ulla contrazion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l muscolo di una rana per 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l’applicazione di una 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d.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lettrofisiologi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br>
              <a:rPr sz="32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GALVANI" descr=""/>
          <p:cNvPicPr/>
          <p:nvPr/>
        </p:nvPicPr>
        <p:blipFill>
          <a:blip r:embed="rId1"/>
          <a:stretch/>
        </p:blipFill>
        <p:spPr>
          <a:xfrm>
            <a:off x="276120" y="76320"/>
            <a:ext cx="2847960" cy="3886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320" y="3581280"/>
            <a:ext cx="90676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variazioni di potenzia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prodotte dall’attività biologica, all’interno del corpo umano sono indicativ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el funzionamento normale o anormale di alcuni organi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elettrocardiogramma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elettroencefalogramma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ettromiogramma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retinogra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CCB-D9A6-4F3F-8CE7-2825EDE2EE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ermini circuitali il corpo umano corrisponde 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’impedenza capac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pacità C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siede principalmente nella pel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si interpone come isolante tra l’elettr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l tessuto sotto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allelo si pone una resistenza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ta ai pori della pe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ie ad entrambe la resistenza inte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orpo umano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45F-9792-4185-9DA2-9A41DC1F36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del corpo umano è una grandez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emamente variabile anche con le condizioni ambienta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varia nella stessa persona al variare delle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zioni fisiologich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esempio la resistenza varia prima,durante e do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riodo di intensa concentrazione menta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28800" y="3733920"/>
            <a:ext cx="5486400" cy="2933640"/>
            <a:chOff x="1828800" y="3733920"/>
            <a:chExt cx="5486400" cy="2933640"/>
          </a:xfrm>
        </p:grpSpPr>
        <p:sp>
          <p:nvSpPr>
            <p:cNvPr id="110" name=""/>
            <p:cNvSpPr/>
            <p:nvPr/>
          </p:nvSpPr>
          <p:spPr>
            <a:xfrm flipV="1">
              <a:off x="2438280" y="3733920"/>
              <a:ext cx="0" cy="25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62848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8280" y="4244040"/>
              <a:ext cx="4199400" cy="1799640"/>
            </a:xfrm>
            <a:custGeom>
              <a:avLst/>
              <a:gdLst/>
              <a:ahLst/>
              <a:rect l="l" t="t" r="r" b="b"/>
              <a:pathLst>
                <a:path w="4960" h="2540">
                  <a:moveTo>
                    <a:pt x="0" y="2540"/>
                  </a:moveTo>
                  <a:cubicBezTo>
                    <a:pt x="20" y="2527"/>
                    <a:pt x="36" y="2504"/>
                    <a:pt x="60" y="2500"/>
                  </a:cubicBezTo>
                  <a:cubicBezTo>
                    <a:pt x="81" y="2497"/>
                    <a:pt x="101" y="2529"/>
                    <a:pt x="120" y="2520"/>
                  </a:cubicBezTo>
                  <a:cubicBezTo>
                    <a:pt x="139" y="2511"/>
                    <a:pt x="122" y="2470"/>
                    <a:pt x="140" y="2460"/>
                  </a:cubicBezTo>
                  <a:cubicBezTo>
                    <a:pt x="193" y="2430"/>
                    <a:pt x="262" y="2439"/>
                    <a:pt x="320" y="2420"/>
                  </a:cubicBezTo>
                  <a:cubicBezTo>
                    <a:pt x="373" y="2341"/>
                    <a:pt x="340" y="2350"/>
                    <a:pt x="440" y="2380"/>
                  </a:cubicBezTo>
                  <a:cubicBezTo>
                    <a:pt x="480" y="2392"/>
                    <a:pt x="560" y="2420"/>
                    <a:pt x="560" y="2420"/>
                  </a:cubicBezTo>
                  <a:cubicBezTo>
                    <a:pt x="703" y="2372"/>
                    <a:pt x="645" y="2403"/>
                    <a:pt x="740" y="2340"/>
                  </a:cubicBezTo>
                  <a:cubicBezTo>
                    <a:pt x="758" y="2313"/>
                    <a:pt x="796" y="2240"/>
                    <a:pt x="840" y="2240"/>
                  </a:cubicBezTo>
                  <a:cubicBezTo>
                    <a:pt x="864" y="2240"/>
                    <a:pt x="880" y="2267"/>
                    <a:pt x="900" y="2280"/>
                  </a:cubicBezTo>
                  <a:cubicBezTo>
                    <a:pt x="927" y="2267"/>
                    <a:pt x="959" y="2261"/>
                    <a:pt x="980" y="2240"/>
                  </a:cubicBezTo>
                  <a:cubicBezTo>
                    <a:pt x="1014" y="2206"/>
                    <a:pt x="1060" y="2120"/>
                    <a:pt x="1060" y="2120"/>
                  </a:cubicBezTo>
                  <a:cubicBezTo>
                    <a:pt x="1190" y="1599"/>
                    <a:pt x="1001" y="2329"/>
                    <a:pt x="1160" y="1800"/>
                  </a:cubicBezTo>
                  <a:cubicBezTo>
                    <a:pt x="1184" y="1721"/>
                    <a:pt x="1200" y="1640"/>
                    <a:pt x="1220" y="1560"/>
                  </a:cubicBezTo>
                  <a:cubicBezTo>
                    <a:pt x="1230" y="1519"/>
                    <a:pt x="1247" y="1480"/>
                    <a:pt x="1260" y="1440"/>
                  </a:cubicBezTo>
                  <a:cubicBezTo>
                    <a:pt x="1272" y="1297"/>
                    <a:pt x="1231" y="1150"/>
                    <a:pt x="1380" y="1100"/>
                  </a:cubicBezTo>
                  <a:cubicBezTo>
                    <a:pt x="1387" y="1120"/>
                    <a:pt x="1380" y="1153"/>
                    <a:pt x="1400" y="1160"/>
                  </a:cubicBezTo>
                  <a:cubicBezTo>
                    <a:pt x="1482" y="1187"/>
                    <a:pt x="1537" y="1103"/>
                    <a:pt x="1580" y="1060"/>
                  </a:cubicBezTo>
                  <a:cubicBezTo>
                    <a:pt x="1593" y="1020"/>
                    <a:pt x="1601" y="978"/>
                    <a:pt x="1620" y="940"/>
                  </a:cubicBezTo>
                  <a:cubicBezTo>
                    <a:pt x="1635" y="910"/>
                    <a:pt x="1667" y="891"/>
                    <a:pt x="1680" y="860"/>
                  </a:cubicBezTo>
                  <a:cubicBezTo>
                    <a:pt x="1847" y="478"/>
                    <a:pt x="1691" y="724"/>
                    <a:pt x="1800" y="560"/>
                  </a:cubicBezTo>
                  <a:cubicBezTo>
                    <a:pt x="1830" y="412"/>
                    <a:pt x="1806" y="336"/>
                    <a:pt x="1920" y="260"/>
                  </a:cubicBezTo>
                  <a:cubicBezTo>
                    <a:pt x="1940" y="273"/>
                    <a:pt x="1956" y="304"/>
                    <a:pt x="1980" y="300"/>
                  </a:cubicBezTo>
                  <a:cubicBezTo>
                    <a:pt x="2008" y="295"/>
                    <a:pt x="2022" y="262"/>
                    <a:pt x="2040" y="240"/>
                  </a:cubicBezTo>
                  <a:cubicBezTo>
                    <a:pt x="2055" y="222"/>
                    <a:pt x="2065" y="198"/>
                    <a:pt x="2080" y="180"/>
                  </a:cubicBezTo>
                  <a:cubicBezTo>
                    <a:pt x="2135" y="114"/>
                    <a:pt x="2172" y="83"/>
                    <a:pt x="2200" y="0"/>
                  </a:cubicBezTo>
                  <a:cubicBezTo>
                    <a:pt x="2227" y="7"/>
                    <a:pt x="2255" y="9"/>
                    <a:pt x="2280" y="20"/>
                  </a:cubicBezTo>
                  <a:cubicBezTo>
                    <a:pt x="2358" y="53"/>
                    <a:pt x="2371" y="107"/>
                    <a:pt x="2420" y="180"/>
                  </a:cubicBezTo>
                  <a:cubicBezTo>
                    <a:pt x="2490" y="284"/>
                    <a:pt x="2510" y="399"/>
                    <a:pt x="2540" y="520"/>
                  </a:cubicBezTo>
                  <a:cubicBezTo>
                    <a:pt x="2563" y="613"/>
                    <a:pt x="2577" y="708"/>
                    <a:pt x="2600" y="800"/>
                  </a:cubicBezTo>
                  <a:cubicBezTo>
                    <a:pt x="2620" y="882"/>
                    <a:pt x="2660" y="958"/>
                    <a:pt x="2680" y="1040"/>
                  </a:cubicBezTo>
                  <a:cubicBezTo>
                    <a:pt x="2686" y="1066"/>
                    <a:pt x="2706" y="1151"/>
                    <a:pt x="2720" y="1180"/>
                  </a:cubicBezTo>
                  <a:cubicBezTo>
                    <a:pt x="2731" y="1201"/>
                    <a:pt x="2749" y="1219"/>
                    <a:pt x="2760" y="1240"/>
                  </a:cubicBezTo>
                  <a:cubicBezTo>
                    <a:pt x="2814" y="1347"/>
                    <a:pt x="2821" y="1394"/>
                    <a:pt x="2920" y="1460"/>
                  </a:cubicBezTo>
                  <a:cubicBezTo>
                    <a:pt x="2973" y="1540"/>
                    <a:pt x="3027" y="1620"/>
                    <a:pt x="3080" y="1700"/>
                  </a:cubicBezTo>
                  <a:cubicBezTo>
                    <a:pt x="3093" y="1720"/>
                    <a:pt x="3107" y="1740"/>
                    <a:pt x="3120" y="1760"/>
                  </a:cubicBezTo>
                  <a:cubicBezTo>
                    <a:pt x="3133" y="1780"/>
                    <a:pt x="3160" y="1820"/>
                    <a:pt x="3160" y="1820"/>
                  </a:cubicBezTo>
                  <a:cubicBezTo>
                    <a:pt x="3221" y="1728"/>
                    <a:pt x="3223" y="1676"/>
                    <a:pt x="3240" y="1560"/>
                  </a:cubicBezTo>
                  <a:cubicBezTo>
                    <a:pt x="3262" y="1625"/>
                    <a:pt x="3298" y="1675"/>
                    <a:pt x="3320" y="1740"/>
                  </a:cubicBezTo>
                  <a:cubicBezTo>
                    <a:pt x="3403" y="1615"/>
                    <a:pt x="3362" y="1699"/>
                    <a:pt x="3380" y="1440"/>
                  </a:cubicBezTo>
                  <a:cubicBezTo>
                    <a:pt x="3393" y="1252"/>
                    <a:pt x="3396" y="1097"/>
                    <a:pt x="3440" y="920"/>
                  </a:cubicBezTo>
                  <a:cubicBezTo>
                    <a:pt x="3551" y="957"/>
                    <a:pt x="3543" y="1008"/>
                    <a:pt x="3580" y="1120"/>
                  </a:cubicBezTo>
                  <a:cubicBezTo>
                    <a:pt x="3648" y="1325"/>
                    <a:pt x="3692" y="1536"/>
                    <a:pt x="3760" y="1740"/>
                  </a:cubicBezTo>
                  <a:cubicBezTo>
                    <a:pt x="3787" y="1820"/>
                    <a:pt x="3813" y="1900"/>
                    <a:pt x="3840" y="1980"/>
                  </a:cubicBezTo>
                  <a:cubicBezTo>
                    <a:pt x="3847" y="2000"/>
                    <a:pt x="3880" y="1993"/>
                    <a:pt x="3900" y="2000"/>
                  </a:cubicBezTo>
                  <a:cubicBezTo>
                    <a:pt x="3963" y="2095"/>
                    <a:pt x="3932" y="2037"/>
                    <a:pt x="3980" y="2180"/>
                  </a:cubicBezTo>
                  <a:cubicBezTo>
                    <a:pt x="3987" y="2200"/>
                    <a:pt x="3980" y="2233"/>
                    <a:pt x="4000" y="2240"/>
                  </a:cubicBezTo>
                  <a:cubicBezTo>
                    <a:pt x="4020" y="2247"/>
                    <a:pt x="4040" y="2253"/>
                    <a:pt x="4060" y="2260"/>
                  </a:cubicBezTo>
                  <a:cubicBezTo>
                    <a:pt x="4080" y="2253"/>
                    <a:pt x="4103" y="2228"/>
                    <a:pt x="4120" y="2240"/>
                  </a:cubicBezTo>
                  <a:cubicBezTo>
                    <a:pt x="4159" y="2268"/>
                    <a:pt x="4154" y="2345"/>
                    <a:pt x="4200" y="2360"/>
                  </a:cubicBezTo>
                  <a:cubicBezTo>
                    <a:pt x="4220" y="2367"/>
                    <a:pt x="4240" y="2373"/>
                    <a:pt x="4260" y="2380"/>
                  </a:cubicBezTo>
                  <a:cubicBezTo>
                    <a:pt x="4280" y="2373"/>
                    <a:pt x="4299" y="2358"/>
                    <a:pt x="4320" y="2360"/>
                  </a:cubicBezTo>
                  <a:cubicBezTo>
                    <a:pt x="4415" y="2371"/>
                    <a:pt x="4474" y="2431"/>
                    <a:pt x="4560" y="2460"/>
                  </a:cubicBezTo>
                  <a:cubicBezTo>
                    <a:pt x="4587" y="2453"/>
                    <a:pt x="4614" y="2448"/>
                    <a:pt x="4640" y="2440"/>
                  </a:cubicBezTo>
                  <a:cubicBezTo>
                    <a:pt x="4680" y="2428"/>
                    <a:pt x="4760" y="2400"/>
                    <a:pt x="4760" y="2400"/>
                  </a:cubicBezTo>
                  <a:cubicBezTo>
                    <a:pt x="4780" y="2413"/>
                    <a:pt x="4796" y="2437"/>
                    <a:pt x="4820" y="2440"/>
                  </a:cubicBezTo>
                  <a:cubicBezTo>
                    <a:pt x="4918" y="2454"/>
                    <a:pt x="4928" y="2365"/>
                    <a:pt x="4960" y="23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3733920"/>
              <a:ext cx="0" cy="25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560" y="3733920"/>
              <a:ext cx="0" cy="25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8280" y="437148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56473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8280" y="50094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38280" y="3861360"/>
              <a:ext cx="91404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RI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4960" y="3861360"/>
              <a:ext cx="13716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DURA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28840" y="3861360"/>
              <a:ext cx="9144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DO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733920"/>
              <a:ext cx="9140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6284880"/>
              <a:ext cx="9144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920-560C-42E1-BACB-0976A97D5D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interna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orpo umano dipe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prattutto dal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git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a I e in misura minore da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ficie di contatto degli elettro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 è concentrata soprattutto negl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ti, sup.ed in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sezione ridotta e costituiti di muscoli ed os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on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i grossa sezione e costituito da acqu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 una resistenza trascura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l tronco viene considerato un cortocircui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schema equivalente del corpo u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nta un quadripo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601-E82C-4C79-96BF-6ADE5D8890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sione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della pelle diminuisce all’aument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V applicata al corpo um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&gt;100V la R della pelle è trascura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200V la R è cortocircuitata dalla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la R coincide con quella in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Stato della p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umidità diminuisce la R della pe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udore -essendo una soluzione di NaCl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ggiora la situazione fino a dimezzare i valori della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spondente a condizioni asciu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a pelle è tagliata, ferita o contusa la R scende a valo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to bassi, al contrario se la pelle è ispessi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B08-15BB-4E58-95F4-FDB7EE0E09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Superficie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’aumentare della superficie di conta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isce la R della pell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 è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to più influ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o minore è la 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Pressione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una maggiore pressione corrisponde una maggiore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Durata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l prolungarsi del contatto diminuisce la R, m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quantità di calore è tale da carbonizzare la pel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 risale anche a valori eleva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Frequenza della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’aumentare della frequenza l’impedenza del corpo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riduce gradualmente fino a ridursi alla sola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5D1-DBF4-4EFC-ADD8-B5D1EEFE77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olosità del per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o stesso valore di V applicato tra punti diversi del cor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sponde a I diverse, perché ad ogni per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sponde un percorso divers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e la probabilità di innesco della fibrill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ende dal percorso a parità di corr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ché quant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ù è piccola la resistenza R</a:t>
            </a:r>
            <a:r>
              <a:rPr b="0" lang="it-IT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nto maggi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il valore della I e tanto maggiore è il percorso tanto maggi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la probabilità di fibrillazione si h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orso più pericoloso corrisponde al max valore di F/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638680"/>
            <a:ext cx="85341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F2A-7B4D-489E-BDAA-39FB5DC7C7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Bookman Old Style"/>
                <a:ea typeface="Times New Roman"/>
              </a:rPr>
              <a:t>Potenziale di riposo</a:t>
            </a:r>
            <a:br>
              <a:rPr sz="3600"/>
            </a:br>
            <a:br>
              <a:rPr sz="1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rpo umano è per lo più composto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una </a:t>
            </a:r>
            <a:r>
              <a:rPr b="0" i="1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uzione salina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ttrice,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uò dire sia costituito da un </a:t>
            </a:r>
            <a:r>
              <a:rPr b="0" i="1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ieme di atom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, quando perdono o acquistano elettroni,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ntano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sono tali le cellul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l liquido interstiziale che le separa.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oni (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 muovono verso zon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minor concentrazione 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soggetti al campo elettrico generato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l’insieme degli altri ioni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9A7-3421-4512-8AD6-A1F0CE3C44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ché la cellula ha verso gli ioni un comportament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tip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lettiv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li ioni non si diffondono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 stesso modo dentro e fuori la cellula:</a:t>
            </a:r>
            <a:br>
              <a:rPr sz="3200"/>
            </a:b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esempi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ellula è molto permeabil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iuttosto che a N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1952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ione 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e trasportato all’interno della cellula mentre lo ione N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e espulso con la tipica azion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pompaggio biochimico a spese dell’organismo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pompa metabolica”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llula viene quindi a possedere un potenziale negativo all’interno rispetto all’esterno </a:t>
            </a:r>
            <a:br>
              <a:rPr sz="3200"/>
            </a:br>
            <a:r>
              <a:rPr b="1" lang="it-IT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otenziale di ripo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D90-889F-470F-A857-1EC0260279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ei mammiferi le cellule del sistema nervoso centrale presentano un potenziale di riposo di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70 m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notevole se si considerano le piccol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mensioni della cellul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ellula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968-E310-483A-9743-20D3B3AB47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mbrana però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n è perfettamente isolan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 è attraversata da un certo numero di ioni perciò,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tre ad un valore di capacità,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rà anche una resistenza elettr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160" y="303120"/>
            <a:ext cx="750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mbrana cellulare separando cariche elettriche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comporta come un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ensator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odello elettri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mplificato delle cellule umane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à perciò rappresentato da 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 condensatore 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allelo con 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a resistenza 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a </a:t>
            </a:r>
            <a:br>
              <a:rPr sz="2800"/>
            </a:b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 generatore di tens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rappresent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otenziale di riposo determinato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la diversa concentrazione di ioni nella cellu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odello_cellula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465-2DAB-4A06-B1FC-3893136D3E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tenziale d’azion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5331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e si applica ad una cellula un impulso di corrente di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olarità invers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a quella della cellula stess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l potenziale da negativo diviene posi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er ritornare di nuovo al valore inizia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’andamento del potenziale pr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l nome di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otenziale d’a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96252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’ampiezza minima dell’impulso di corr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ecessario ad  eccitare la cellula e a determinar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’inversione del potenziale decresce con l’aument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ella durata per tendere ad un valore costa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econdo una curva  denominat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urva di eccitabilit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F5F-83EB-442F-96E4-6E288A1253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2670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termin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rappresenta 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inima intensità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llo stimolo capace di produrre l’eccitamento della cellula se applicato per un tempo indefinito: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EOBAS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curva è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imile ad un’iperbole equilater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e dunque la cellula è sensibile approssimativamente alla caric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reboase" descr="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41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6B4-DB7C-4724-A248-C73555273F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7:09:43Z</dcterms:created>
  <dc:creator>Mariacristina Roscia</dc:creator>
  <dc:description/>
  <dc:language>en-US</dc:language>
  <cp:lastModifiedBy>Mariacristina Roscia</cp:lastModifiedBy>
  <dcterms:modified xsi:type="dcterms:W3CDTF">2002-10-01T10:47:27Z</dcterms:modified>
  <cp:revision>70</cp:revision>
  <dc:subject/>
  <dc:title>CORRENTE ELETTRICA E CORPO UMANO</dc:title>
</cp:coreProperties>
</file>