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klan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05D-2085-4A2A-8D3E-6DD7D41FFF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459-DE35-4C5D-B792-4E7A2E35CE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BBE1-7A63-436D-B006-758676AF36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8F5F-1398-4E5C-917D-AA744491D8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F4E0-3964-4BD5-89D6-16D48BE7F2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7AD-2D1D-4DC3-9708-0F25C343E5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ADE1-1521-4F37-9FD3-7FF36B02DC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BFAC-2A88-4DD8-BB69-364A0AE7A5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27BC-123D-4816-80B6-7CCD2647A1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015B-BA4E-4569-B839-D0860A2926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A114-A094-4B4C-9138-CF53706B39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352-51F1-4A57-9ABF-0B0C333944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6159-9F0E-4EE3-8A9D-22F66D838C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10B7-155D-48CA-98D6-7168BAD375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CD28-D617-449F-AA78-97A91F3FC1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BCC7-A420-40CC-B600-550143DFBA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A05-404B-4213-9A76-7134658E89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369B-6B63-4CCB-BFC8-A778967824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7EAD-9EDD-48B5-88DD-071E515E54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CCF-32FB-4757-B5C1-4771D2C5EEB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06CD-4B13-4A16-9571-F0A2040CB6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09B-5EBF-4EB8-9D94-06615C49B4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6B8D-664F-449E-B1A5-58FDE12502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617-4A57-4511-861D-C9373CADBA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962-336C-4236-95D3-5B3862E5B0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75D-BB71-419A-B3CA-EA92413CE9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534-9F8F-451E-8B0A-8D3F1DAD35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AF4F-1C06-4CD4-8D1E-1A6B16E280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539-0CE9-4A0F-94DA-3C642CA478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7268-F8FB-48F2-A808-E531B884A6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A902-73E9-405E-B890-5AC6FBFCAF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9B1-9935-4ECD-9D41-12C4B53729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FF65-85E7-410B-902E-AD3ACC1F99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A135-95A5-41BA-BB34-297B9D290A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650F-D2E2-49C7-94E8-BFA3EBD865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0E55-2734-4298-8BC8-4C2D942A81D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7B8-7899-4395-B196-3E9120CFD2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FBB9-85E0-4B26-BB8C-71F751AAAF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A394-E6EF-4A3F-B063-7A502B8424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67D-7F7F-48AE-8F20-CE93EE1D6E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382-0F5A-42D3-A5C3-FC9D7DAE71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81DA-FDC1-451C-A9E8-F6AF66A671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553-33E3-44AA-9B01-D686248E17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1302-F79F-4A90-9413-A195D6D91F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A5B6-E68F-4FC2-A424-C7BE503B2D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E50-08A0-40CC-8116-DB32AB2B6B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2A39-A344-471F-8FFE-2222B49311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BE8-ED12-429D-839F-9E47113F48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ED9-BCE9-4A8E-ACA6-1D21365C26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082-FB2A-4DDC-8F86-D5AAFF391D1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41BC-B07A-4697-ABD4-61FEBD62CA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282-53BB-4773-A89A-BD085139F62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EACE-30F6-4752-A652-E35E719CDE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BCC0-4845-4545-AEA9-B31AAC35C8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7FDE-4629-4C8A-B0D7-7800548D96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83DD-9E42-4EA3-A827-5472133B93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170-7374-4105-9EA4-58533CBA02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BEBF-D40D-42C9-9D5E-4C12093E4D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C5E-985F-4062-AB35-8E1AC1CD96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5358-95EB-41AD-841B-6C44FB4C5E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9AB1-13F1-4A53-93FF-9AE9E992F7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6D2A-975B-4499-97F1-5E5397160D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A32-716E-4FAF-9C38-565D572813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B5AE-F1D4-46EC-8EE6-7EB943B4A7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B1E-953C-405E-8132-DC4A54910C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7BFD-1414-42C7-BEE2-FAC2ADADB6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1144-A476-4026-9A9F-17A1EE6476B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E81-C8C8-4F6B-9738-B97367EF67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2EA-65DF-4502-B7CF-42C730A4E2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9D1-1C0F-46A3-AA32-CBB5A0B5EB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7936-1900-4D15-B3DA-8C1BAE1C4D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4F8C-C104-423E-8D33-6172050313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FB94-729D-410C-AE2E-697D3A7E26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9F7-64AD-4703-8C53-744974727A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C6F-0AFB-4222-83AB-D041C20DF3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755-4642-4540-9F32-3436DF64B5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2B1-D21B-409A-BCB6-E5780789BD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7650-11D0-48CE-A9B8-D1CC38CC316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E3C-6E91-40F4-A839-83A97D0D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A11-F632-4254-A4D3-3CDAE617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F6E-5EA6-434E-972A-E735E85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6FF-41A9-41F1-B7BF-40FF23E4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AE23-AFF3-410F-9322-9195B968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3F04-F3D7-4056-B812-E5CF111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870A-F88A-4658-A28E-2CA923D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1251-D2BB-477F-872B-A66FA7BC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E5DF-9334-4270-8192-1964E1A0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E442-06E7-4DD7-B35A-51ADF22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B27B-370C-4C87-A086-A054B15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C73-5622-4B93-B2B5-FFDB01DE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FA5A-1B1C-4084-94A9-FF2FD1E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CF63-53AD-436F-AD0C-A2FBFEA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B5A0-3116-41D3-8BA0-C2F01B2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609-A382-4573-BBAD-A843221F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BE62-4ACE-49B7-B17A-9E4E76AE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0C8-6CAB-4807-97B6-7E2BE7F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848-D1D9-4562-B4B2-841FAC5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A9D-614A-4A2E-9E9F-8C92022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DF2-D07B-4F20-B570-4B7D0D13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D3F-E64B-4489-99CE-B231391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388-E01D-4A9D-B948-FB092D0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41B-DD9E-4FC6-BD09-F1CE3C5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000099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57200"/>
            <a:ext cx="360360" cy="315288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C10-82AF-4A46-8560-5D71CC48C7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000099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5345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F7E-884E-404D-8993-6158BCB8E31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klank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file:///../Studio%20dei%20sistemi%20nel%20tempo%20ed%20in%20frequenza%20III%20parte.ppt#Le rappresentazioni grafiche" TargetMode="External"/><Relationship Id="rId3" Type="http://schemas.openxmlformats.org/officeDocument/2006/relationships/hyperlink" Target="file:///../Studio%20dei%20sistemi%20nel%20tempo%20ed%20in%20frequenza%20III%20parte.ppt#Slide 7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Tahoma"/>
              </a:rPr>
              <a:t>Strumenti per lo studio dei sistemi continui nel dominio della frequenz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kla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04920" y="13716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essere calcolata come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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tan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 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2514600" y="1981080"/>
            <a:ext cx="1676520" cy="1130400"/>
            <a:chOff x="2514600" y="1981080"/>
            <a:chExt cx="1676520" cy="1130400"/>
          </a:xfrm>
        </p:grpSpPr>
        <p:sp>
          <p:nvSpPr>
            <p:cNvPr id="216" name="Rectangle 6"/>
            <p:cNvSpPr/>
            <p:nvPr/>
          </p:nvSpPr>
          <p:spPr>
            <a:xfrm>
              <a:off x="2614680" y="198108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Im[G(s)]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2618640" y="2590920"/>
              <a:ext cx="14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Re[G(s)]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2514600" y="2514600"/>
              <a:ext cx="1676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219" name="Rectangle 9"/>
          <p:cNvSpPr/>
          <p:nvPr/>
        </p:nvSpPr>
        <p:spPr>
          <a:xfrm>
            <a:off x="304920" y="31240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essere espressa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grad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o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radianti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ricordi ch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° = 0 [rad]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90° =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/2 [rad]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80° =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[rad]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295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666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124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410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553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981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286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28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2286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28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6" name="AutoShape 18"/>
          <p:cNvSpPr/>
          <p:nvPr/>
        </p:nvSpPr>
        <p:spPr>
          <a:xfrm flipH="1">
            <a:off x="1599480" y="2590920"/>
            <a:ext cx="5257800" cy="990360"/>
          </a:xfrm>
          <a:prstGeom prst="wedgeRectCallout">
            <a:avLst>
              <a:gd name="adj1" fmla="val 49305"/>
              <a:gd name="adj2" fmla="val -13077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variabile sull’asse dell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rdinate è la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286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763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35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763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763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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135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286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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228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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245" name="Group 27"/>
          <p:cNvGrpSpPr/>
          <p:nvPr/>
        </p:nvGrpSpPr>
        <p:grpSpPr>
          <a:xfrm>
            <a:off x="457200" y="1523880"/>
            <a:ext cx="8686800" cy="4495680"/>
            <a:chOff x="457200" y="1523880"/>
            <a:chExt cx="8686800" cy="4495680"/>
          </a:xfrm>
        </p:grpSpPr>
        <p:grpSp>
          <p:nvGrpSpPr>
            <p:cNvPr id="246" name="Group 28"/>
            <p:cNvGrpSpPr/>
            <p:nvPr/>
          </p:nvGrpSpPr>
          <p:grpSpPr>
            <a:xfrm>
              <a:off x="457200" y="1523880"/>
              <a:ext cx="8305920" cy="4495680"/>
              <a:chOff x="457200" y="1523880"/>
              <a:chExt cx="8305920" cy="4495680"/>
            </a:xfrm>
          </p:grpSpPr>
          <p:grpSp>
            <p:nvGrpSpPr>
              <p:cNvPr id="247" name="Group 29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sp>
              <p:nvSpPr>
                <p:cNvPr id="248" name="Line 30"/>
                <p:cNvSpPr/>
                <p:nvPr/>
              </p:nvSpPr>
              <p:spPr>
                <a:xfrm>
                  <a:off x="1219320" y="1523880"/>
                  <a:ext cx="0" cy="4495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49" name="Line 31"/>
                <p:cNvSpPr/>
                <p:nvPr/>
              </p:nvSpPr>
              <p:spPr>
                <a:xfrm flipH="1">
                  <a:off x="457200" y="3885840"/>
                  <a:ext cx="83059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0" name="Line 32"/>
                <p:cNvSpPr/>
                <p:nvPr/>
              </p:nvSpPr>
              <p:spPr>
                <a:xfrm>
                  <a:off x="2362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1" name="Line 33"/>
                <p:cNvSpPr/>
                <p:nvPr/>
              </p:nvSpPr>
              <p:spPr>
                <a:xfrm>
                  <a:off x="3505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2" name="Line 34"/>
                <p:cNvSpPr/>
                <p:nvPr/>
              </p:nvSpPr>
              <p:spPr>
                <a:xfrm>
                  <a:off x="4648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3" name="Line 35"/>
                <p:cNvSpPr/>
                <p:nvPr/>
              </p:nvSpPr>
              <p:spPr>
                <a:xfrm>
                  <a:off x="5791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4" name="Line 36"/>
                <p:cNvSpPr/>
                <p:nvPr/>
              </p:nvSpPr>
              <p:spPr>
                <a:xfrm>
                  <a:off x="6934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5" name="Line 37"/>
                <p:cNvSpPr/>
                <p:nvPr/>
              </p:nvSpPr>
              <p:spPr>
                <a:xfrm>
                  <a:off x="8077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256" name="Line 38"/>
              <p:cNvSpPr/>
              <p:nvPr/>
            </p:nvSpPr>
            <p:spPr>
              <a:xfrm>
                <a:off x="990720" y="3429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57" name="Line 39"/>
              <p:cNvSpPr/>
              <p:nvPr/>
            </p:nvSpPr>
            <p:spPr>
              <a:xfrm>
                <a:off x="990720" y="2971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58" name="Line 40"/>
              <p:cNvSpPr/>
              <p:nvPr/>
            </p:nvSpPr>
            <p:spPr>
              <a:xfrm>
                <a:off x="990720" y="2514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59" name="Line 41"/>
              <p:cNvSpPr/>
              <p:nvPr/>
            </p:nvSpPr>
            <p:spPr>
              <a:xfrm>
                <a:off x="990720" y="2057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0" name="Line 42"/>
              <p:cNvSpPr/>
              <p:nvPr/>
            </p:nvSpPr>
            <p:spPr>
              <a:xfrm>
                <a:off x="990720" y="5715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1" name="Line 43"/>
              <p:cNvSpPr/>
              <p:nvPr/>
            </p:nvSpPr>
            <p:spPr>
              <a:xfrm>
                <a:off x="990720" y="5257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2" name="Line 44"/>
              <p:cNvSpPr/>
              <p:nvPr/>
            </p:nvSpPr>
            <p:spPr>
              <a:xfrm>
                <a:off x="990720" y="4800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>
                <a:off x="990720" y="4343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  <p:sp>
          <p:nvSpPr>
            <p:cNvPr id="264" name="Text Box 46"/>
            <p:cNvSpPr/>
            <p:nvPr/>
          </p:nvSpPr>
          <p:spPr>
            <a:xfrm>
              <a:off x="7696080" y="38862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1800" spc="-1" strike="noStrike">
                  <a:solidFill>
                    <a:srgbClr val="ff0000"/>
                  </a:solidFill>
                  <a:latin typeface="Tahoma"/>
                </a:rPr>
                <a:t>[rad/s]</a:t>
              </a:r>
              <a:endParaRPr b="0" lang="en-US" sz="18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265" name="Text Box 47"/>
          <p:cNvSpPr/>
          <p:nvPr/>
        </p:nvSpPr>
        <p:spPr>
          <a:xfrm>
            <a:off x="175248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[rad]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175248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[°]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imparare le regole per la costruzione di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artirà dall’illustrazione di alcuni esempi classici dai quali dedurre le regole fondamental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lustreremo di seguito la rappresentazione delle seguenti funzioni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k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(k=costante reale positiva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k•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1/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1+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•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1/(1+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•s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k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siamo senz’altro dire che il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3200" spc="-1" strike="noStrike" baseline="-14000">
                <a:solidFill>
                  <a:srgbClr val="ff0000"/>
                </a:solidFill>
                <a:latin typeface="Tahoma"/>
              </a:rPr>
              <a:t>dB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•log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 se k=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ositivo se k&gt;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egativo se k&lt;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in questo cas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[G(s)]=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coefficiente della parte immaginari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 per cu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tan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0 = 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274" name="Text Box 7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0" name="Text Box 13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1" name="Text Box 14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2" name="Text Box 15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5" name="Text Box 18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8" name="Text Box 21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289" name="Group 22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290" name="Group 23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291" name="Group 24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292" name="Line 25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3" name="Line 26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4" name="Line 27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5" name="Line 28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6" name="Line 29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7" name="Line 30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8" name="Line 31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9" name="Line 32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300" name="Line 33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1" name="Line 34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2" name="Line 35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3" name="Line 36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4" name="Line 37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5" name="Line 38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6" name="Line 39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7" name="Line 40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308" name="Text Box 41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309" name="Group 45"/>
          <p:cNvGrpSpPr/>
          <p:nvPr/>
        </p:nvGrpSpPr>
        <p:grpSpPr>
          <a:xfrm>
            <a:off x="380880" y="1523880"/>
            <a:ext cx="8382240" cy="2362320"/>
            <a:chOff x="380880" y="1523880"/>
            <a:chExt cx="8382240" cy="2362320"/>
          </a:xfrm>
        </p:grpSpPr>
        <p:sp>
          <p:nvSpPr>
            <p:cNvPr id="310" name="AutoShape 5"/>
            <p:cNvSpPr/>
            <p:nvPr/>
          </p:nvSpPr>
          <p:spPr>
            <a:xfrm flipH="1">
              <a:off x="3351960" y="1523880"/>
              <a:ext cx="4419720" cy="990720"/>
            </a:xfrm>
            <a:prstGeom prst="wedgeRectCallout">
              <a:avLst>
                <a:gd name="adj1" fmla="val 24027"/>
                <a:gd name="adj2" fmla="val 184453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k=1 </a:t>
              </a:r>
              <a:r>
                <a:rPr b="1" lang="it-IT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0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= 0</a:t>
              </a:r>
              <a:br>
                <a:rPr sz="2800"/>
              </a:br>
              <a:r>
                <a:rPr b="0" lang="it-IT" sz="2800" spc="-1" strike="noStrike">
                  <a:solidFill>
                    <a:srgbClr val="ffffff"/>
                  </a:solidFill>
                  <a:latin typeface="Tahoma"/>
                </a:rPr>
                <a:t>per ogni valore di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11" name="Line 42"/>
            <p:cNvSpPr/>
            <p:nvPr/>
          </p:nvSpPr>
          <p:spPr>
            <a:xfrm>
              <a:off x="380880" y="3886200"/>
              <a:ext cx="8382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312" name="Group 46"/>
          <p:cNvGrpSpPr/>
          <p:nvPr/>
        </p:nvGrpSpPr>
        <p:grpSpPr>
          <a:xfrm>
            <a:off x="380880" y="3200400"/>
            <a:ext cx="8382240" cy="2666880"/>
            <a:chOff x="380880" y="3200400"/>
            <a:chExt cx="8382240" cy="2666880"/>
          </a:xfrm>
        </p:grpSpPr>
        <p:sp>
          <p:nvSpPr>
            <p:cNvPr id="313" name="AutoShape 3"/>
            <p:cNvSpPr/>
            <p:nvPr/>
          </p:nvSpPr>
          <p:spPr>
            <a:xfrm flipH="1">
              <a:off x="2208960" y="4876920"/>
              <a:ext cx="4419720" cy="990360"/>
            </a:xfrm>
            <a:prstGeom prst="wedgeRectCallout">
              <a:avLst>
                <a:gd name="adj1" fmla="val 20865"/>
                <a:gd name="adj2" fmla="val -221958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k&gt;1 </a:t>
              </a:r>
              <a:r>
                <a:rPr b="1" lang="it-IT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0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&gt; 0</a:t>
              </a:r>
              <a:br>
                <a:rPr sz="2800"/>
              </a:br>
              <a:r>
                <a:rPr b="0" lang="it-IT" sz="2800" spc="-1" strike="noStrike">
                  <a:solidFill>
                    <a:srgbClr val="ffffff"/>
                  </a:solidFill>
                  <a:latin typeface="Tahoma"/>
                </a:rPr>
                <a:t>per ogni valore di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14" name="Line 43"/>
            <p:cNvSpPr/>
            <p:nvPr/>
          </p:nvSpPr>
          <p:spPr>
            <a:xfrm>
              <a:off x="380880" y="3200400"/>
              <a:ext cx="8382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315" name="Group 47"/>
          <p:cNvGrpSpPr/>
          <p:nvPr/>
        </p:nvGrpSpPr>
        <p:grpSpPr>
          <a:xfrm>
            <a:off x="380880" y="2362320"/>
            <a:ext cx="8382240" cy="2666880"/>
            <a:chOff x="380880" y="2362320"/>
            <a:chExt cx="8382240" cy="2666880"/>
          </a:xfrm>
        </p:grpSpPr>
        <p:sp>
          <p:nvSpPr>
            <p:cNvPr id="316" name="AutoShape 2"/>
            <p:cNvSpPr/>
            <p:nvPr/>
          </p:nvSpPr>
          <p:spPr>
            <a:xfrm flipH="1">
              <a:off x="1828080" y="2362320"/>
              <a:ext cx="4419720" cy="990360"/>
            </a:xfrm>
            <a:prstGeom prst="wedgeRectCallout">
              <a:avLst>
                <a:gd name="adj1" fmla="val -30893"/>
                <a:gd name="adj2" fmla="val 214259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k&lt;1 </a:t>
              </a:r>
              <a:r>
                <a:rPr b="1" lang="it-IT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0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&lt; 0</a:t>
              </a:r>
              <a:br>
                <a:rPr sz="2800"/>
              </a:br>
              <a:r>
                <a:rPr b="0" lang="it-IT" sz="2800" spc="-1" strike="noStrike">
                  <a:solidFill>
                    <a:srgbClr val="ffffff"/>
                  </a:solidFill>
                  <a:latin typeface="Tahoma"/>
                </a:rPr>
                <a:t>per ogni valore di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17" name="Line 44"/>
            <p:cNvSpPr/>
            <p:nvPr/>
          </p:nvSpPr>
          <p:spPr>
            <a:xfrm>
              <a:off x="380880" y="5029200"/>
              <a:ext cx="8382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6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320" name="Text Box 4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1" name="Text Box 5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3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335" name="Group 19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336" name="Group 20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337" name="Group 21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338" name="Line 22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39" name="Line 23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0" name="Line 24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1" name="Line 25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2" name="Line 26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3" name="Line 27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4" name="Line 28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5" name="Line 29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346" name="Line 30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47" name="Line 31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48" name="Line 32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49" name="Line 33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0" name="Line 34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1" name="Line 35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2" name="Line 36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3" name="Line 37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354" name="Text Box 38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355" name="AutoShape 39"/>
          <p:cNvSpPr/>
          <p:nvPr/>
        </p:nvSpPr>
        <p:spPr>
          <a:xfrm flipH="1">
            <a:off x="3048120" y="1523880"/>
            <a:ext cx="4952880" cy="990720"/>
          </a:xfrm>
          <a:prstGeom prst="wedgeRectCallout">
            <a:avLst>
              <a:gd name="adj1" fmla="val 26824"/>
              <a:gd name="adj2" fmla="val 18429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56" name="Line 40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costant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ale positiv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stante e pari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k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non introduce alc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ioè la su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costantemente nulla al variare de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ulsazion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i calcola facilmente che il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3200" spc="-1" strike="noStrike" baseline="-14000">
                <a:solidFill>
                  <a:srgbClr val="ff0000"/>
                </a:solidFill>
                <a:latin typeface="Tahoma"/>
              </a:rPr>
              <a:t>dB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 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quando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resce linearmente di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20 dB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ogni volta che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log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aumenta di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ioè per ogni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in questo cas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 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coef-ficiente della parte immaginari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cu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arctg (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0) = 90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trumenti per lo studio dei sistemi continui nel dominio del tempo e nel dominio della frequenza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ahoma"/>
              </a:rPr>
              <a:t>Gli argomenti di questa lezione sono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3124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adff9f"/>
                </a:solidFill>
                <a:uFillTx/>
                <a:latin typeface="Tahoma"/>
                <a:hlinkClick r:id="rId1" action="ppaction://hlinksldjump"/>
              </a:rPr>
              <a:t>I diagrammi di Bode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adff9f"/>
                </a:solidFill>
                <a:uFillTx/>
                <a:latin typeface="Tahoma"/>
                <a:hlinkClick r:id="rId2"/>
              </a:rPr>
              <a:t>La rappresentazione nel piano complesso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adff9f"/>
                </a:solidFill>
                <a:uFillTx/>
                <a:latin typeface="Tahoma"/>
                <a:hlinkClick r:id="rId3"/>
              </a:rPr>
              <a:t>Il diagramma polare (o di Nyquist)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8580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ahoma"/>
              </a:rPr>
              <a:t>Le rappresentazioni grafich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 flipH="1">
            <a:off x="1676520" y="5181480"/>
            <a:ext cx="2590560" cy="990720"/>
          </a:xfrm>
          <a:prstGeom prst="wedgeRectCallout">
            <a:avLst>
              <a:gd name="adj1" fmla="val 68194"/>
              <a:gd name="adj2" fmla="val -17836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ale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0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ando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1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291320" y="1981080"/>
            <a:ext cx="3630960" cy="52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d aument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2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365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366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68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1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2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80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381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382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383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384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5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6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7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8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9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0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1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392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3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4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5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6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7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8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9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400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401" name="Line 41"/>
          <p:cNvSpPr/>
          <p:nvPr/>
        </p:nvSpPr>
        <p:spPr>
          <a:xfrm flipV="1">
            <a:off x="1219320" y="3429000"/>
            <a:ext cx="11430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2362320" y="32767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3" name="Line 43"/>
          <p:cNvSpPr/>
          <p:nvPr/>
        </p:nvSpPr>
        <p:spPr>
          <a:xfrm>
            <a:off x="5791320" y="19051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4" name="Line 44"/>
          <p:cNvSpPr/>
          <p:nvPr/>
        </p:nvSpPr>
        <p:spPr>
          <a:xfrm>
            <a:off x="1219320" y="2057400"/>
            <a:ext cx="4724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5" name="Line 45"/>
          <p:cNvSpPr/>
          <p:nvPr/>
        </p:nvSpPr>
        <p:spPr>
          <a:xfrm>
            <a:off x="1219320" y="34290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6" name="Line 46"/>
          <p:cNvSpPr/>
          <p:nvPr/>
        </p:nvSpPr>
        <p:spPr>
          <a:xfrm>
            <a:off x="3505320" y="281952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7" name="Line 47"/>
          <p:cNvSpPr/>
          <p:nvPr/>
        </p:nvSpPr>
        <p:spPr>
          <a:xfrm>
            <a:off x="4648320" y="236232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8" name="Line 48"/>
          <p:cNvSpPr/>
          <p:nvPr/>
        </p:nvSpPr>
        <p:spPr>
          <a:xfrm>
            <a:off x="1219320" y="251460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1219320" y="297180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0" name="Line 50"/>
          <p:cNvSpPr/>
          <p:nvPr/>
        </p:nvSpPr>
        <p:spPr>
          <a:xfrm flipV="1">
            <a:off x="2362320" y="2971800"/>
            <a:ext cx="11430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1" name="Line 51"/>
          <p:cNvSpPr/>
          <p:nvPr/>
        </p:nvSpPr>
        <p:spPr>
          <a:xfrm flipV="1">
            <a:off x="3505320" y="2514600"/>
            <a:ext cx="11430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2" name="Line 52"/>
          <p:cNvSpPr/>
          <p:nvPr/>
        </p:nvSpPr>
        <p:spPr>
          <a:xfrm flipV="1">
            <a:off x="4648320" y="1630440"/>
            <a:ext cx="2209680" cy="884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4186440" y="4572000"/>
            <a:ext cx="2879640" cy="52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flipH="1">
            <a:off x="3505320" y="1371600"/>
            <a:ext cx="4952880" cy="990720"/>
          </a:xfrm>
          <a:prstGeom prst="wedgeRectCallout">
            <a:avLst>
              <a:gd name="adj1" fmla="val 34518"/>
              <a:gd name="adj2" fmla="val 10448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9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17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418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419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420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1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2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3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4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5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6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7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8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9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0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1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2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3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434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435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436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437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38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39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0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1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2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3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4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445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6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7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8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9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0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1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2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453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40120" indent="-2401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l’origine (cioè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h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40120" indent="-2401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 annulla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he 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40120" indent="-2401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essa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sta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k•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le proprietà dei logaritmi, si calcola facendo la somma dei logaritmi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br>
              <a:rPr sz="2800"/>
            </a:b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3200" spc="-1" strike="noStrike" baseline="-14000">
                <a:solidFill>
                  <a:srgbClr val="ff0000"/>
                </a:solidFill>
                <a:latin typeface="Tahoma"/>
              </a:rPr>
              <a:t>dB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•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(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•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 = 20•log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 +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me si vede, è la somma delle funzioni viste in precedenza; il grafico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sulta quindi uguale al grafico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traslato verticalmente del valor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•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diagramma de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identico a quello del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 quanto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nulla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arctg (k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0) = 90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2"/>
          <p:cNvSpPr/>
          <p:nvPr/>
        </p:nvSpPr>
        <p:spPr>
          <a:xfrm flipV="1">
            <a:off x="228600" y="2133720"/>
            <a:ext cx="7620120" cy="3030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2362320" y="5410080"/>
            <a:ext cx="4038480" cy="685800"/>
          </a:xfrm>
          <a:prstGeom prst="wedgeRectCallout">
            <a:avLst>
              <a:gd name="adj1" fmla="val 14856"/>
              <a:gd name="adj2" fmla="val -12916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+ 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•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62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463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4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5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6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9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1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2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3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4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5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6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7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479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480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481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2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3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4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5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6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7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8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489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0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1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2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3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4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5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6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497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498" name="Line 41"/>
          <p:cNvSpPr/>
          <p:nvPr/>
        </p:nvSpPr>
        <p:spPr>
          <a:xfrm flipV="1">
            <a:off x="228600" y="1235160"/>
            <a:ext cx="7620120" cy="30448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99" name="Line 42"/>
          <p:cNvSpPr/>
          <p:nvPr/>
        </p:nvSpPr>
        <p:spPr>
          <a:xfrm>
            <a:off x="304920" y="4800600"/>
            <a:ext cx="761976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0" name="AutoShape 43"/>
          <p:cNvSpPr/>
          <p:nvPr/>
        </p:nvSpPr>
        <p:spPr>
          <a:xfrm>
            <a:off x="4952880" y="2666880"/>
            <a:ext cx="3581640" cy="762120"/>
          </a:xfrm>
          <a:prstGeom prst="wedgeRectCallout">
            <a:avLst>
              <a:gd name="adj1" fmla="val -31203"/>
              <a:gd name="adj2" fmla="val -12583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1" name="AutoShape 44"/>
          <p:cNvSpPr/>
          <p:nvPr/>
        </p:nvSpPr>
        <p:spPr>
          <a:xfrm>
            <a:off x="1676520" y="1828800"/>
            <a:ext cx="4419360" cy="838080"/>
          </a:xfrm>
          <a:prstGeom prst="wedgeRectCallout">
            <a:avLst>
              <a:gd name="adj1" fmla="val 13291"/>
              <a:gd name="adj2" fmla="val 14034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= 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•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502" name="Group 45"/>
          <p:cNvGrpSpPr/>
          <p:nvPr/>
        </p:nvGrpSpPr>
        <p:grpSpPr>
          <a:xfrm>
            <a:off x="2361960" y="2743200"/>
            <a:ext cx="2210040" cy="1219320"/>
            <a:chOff x="2361960" y="2743200"/>
            <a:chExt cx="2210040" cy="1219320"/>
          </a:xfrm>
        </p:grpSpPr>
        <p:sp>
          <p:nvSpPr>
            <p:cNvPr id="503" name="AutoShape 46"/>
            <p:cNvSpPr/>
            <p:nvPr/>
          </p:nvSpPr>
          <p:spPr>
            <a:xfrm rot="5400000">
              <a:off x="2399760" y="3467160"/>
              <a:ext cx="457200" cy="5331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04" name="AutoShape 47"/>
            <p:cNvSpPr/>
            <p:nvPr/>
          </p:nvSpPr>
          <p:spPr>
            <a:xfrm rot="5400000">
              <a:off x="3238560" y="3085920"/>
              <a:ext cx="457200" cy="533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05" name="AutoShape 48"/>
            <p:cNvSpPr/>
            <p:nvPr/>
          </p:nvSpPr>
          <p:spPr>
            <a:xfrm rot="5400000">
              <a:off x="4076640" y="2705040"/>
              <a:ext cx="457200" cy="533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AutoShape 2"/>
          <p:cNvSpPr/>
          <p:nvPr/>
        </p:nvSpPr>
        <p:spPr>
          <a:xfrm flipH="1">
            <a:off x="3505320" y="1371600"/>
            <a:ext cx="4952880" cy="990720"/>
          </a:xfrm>
          <a:prstGeom prst="wedgeRectCallout">
            <a:avLst>
              <a:gd name="adj1" fmla="val 34518"/>
              <a:gd name="adj2" fmla="val 10448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9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•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510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512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4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5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6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7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8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9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0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1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2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3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4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5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526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527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528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529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0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1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2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3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4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5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6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537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8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9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0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1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2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3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4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545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a quanto visto sulle rappresentazioni di tale funzione è possibile ricavare una regola general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609480" y="2286000"/>
            <a:ext cx="792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Il prodotto di una costant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(reale e positiva) su una funzion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incide sui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nel seguente modo: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Il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a del modulo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risulta traslato verticalmente del valor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20•log|k|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Il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a della fase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rimane invariat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Annotazion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regola enunciata corrisponde al fatto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del prodotto di due numeri complessi è pari al prodotto dei modul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mentre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 di tale prodotto è pari alla somma delle fas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numero real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h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indi, n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la proprietà dei logaritmi, 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somma a 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, visto ch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,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•s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uguale a quell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ioè sempre 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u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deve fare un’altra fondamentale considerazion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assume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quand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20•(log|k|+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=0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 quindi, con qualche passaggio algebrico, quando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-log|k|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log|k|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|k|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k|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numero real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/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dunque l’intersezione con l’asse delle ascisse della curv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119700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on si entra, per ora, nel merito dell’uso delle rappresentazioni grafiche nello studio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istemi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ercherà, invece, di stabilire alcune regole di facile apprendimento per tracciare, nel più immediato dei modi ed almeno in prima approssimazione, due tipiche rappresentazioni grafiche per 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unzioni di trasferi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Tahoma"/>
              </a:rPr>
              <a:t>i diagammi di Bode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Tahoma"/>
              </a:rPr>
              <a:t>il diagramma polare (o di Nyquist)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Line 2"/>
          <p:cNvSpPr/>
          <p:nvPr/>
        </p:nvSpPr>
        <p:spPr>
          <a:xfrm flipV="1">
            <a:off x="1219320" y="2544840"/>
            <a:ext cx="5638680" cy="2255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2590920" y="5181480"/>
            <a:ext cx="3809880" cy="914400"/>
          </a:xfrm>
          <a:prstGeom prst="wedgeRectCallout">
            <a:avLst>
              <a:gd name="adj1" fmla="val -25833"/>
              <a:gd name="adj2" fmla="val -18368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tersezione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1/|k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•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556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557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58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59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0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1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2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3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4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5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6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7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8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9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70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71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573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574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575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6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7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8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9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0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1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2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583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4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5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6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7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8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9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90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591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592" name="AutoShape 41"/>
          <p:cNvSpPr/>
          <p:nvPr/>
        </p:nvSpPr>
        <p:spPr>
          <a:xfrm>
            <a:off x="3657600" y="1371600"/>
            <a:ext cx="4419720" cy="609480"/>
          </a:xfrm>
          <a:prstGeom prst="wedgeRectCallout">
            <a:avLst>
              <a:gd name="adj1" fmla="val -31537"/>
              <a:gd name="adj2" fmla="val 28671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•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93" name="Text Box 42"/>
          <p:cNvSpPr/>
          <p:nvPr/>
        </p:nvSpPr>
        <p:spPr>
          <a:xfrm>
            <a:off x="2983320" y="33526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|k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l’origine (cioè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h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 annulla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he 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su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comunque essere sempre calcolato come somm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sta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1/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22860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il valore in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per le proprietà dei logaritmi, si calcola mediante la differenza  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20•log(1/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=20•(log1-log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=-20•log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iché 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ha un modulo in dB che è pari a quello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col segno cambiato, il suo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iagramma del modu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risulta ribaltato verticalmente rispetto a quello di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Quanto alla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 fas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ricordando che la divisione di due numeri complessi ha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ari alla differenza delle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essa sarà</a:t>
            </a:r>
            <a:br>
              <a:rPr sz="2600"/>
            </a:b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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(1)-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(s) = 0°-90° = -90° = -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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/>
          <p:cNvSpPr/>
          <p:nvPr/>
        </p:nvSpPr>
        <p:spPr>
          <a:xfrm>
            <a:off x="4495680" y="2514600"/>
            <a:ext cx="4419720" cy="838080"/>
          </a:xfrm>
          <a:prstGeom prst="wedgeRectCallout">
            <a:avLst>
              <a:gd name="adj1" fmla="val -46587"/>
              <a:gd name="adj2" fmla="val 26420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1/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533520" y="3581280"/>
            <a:ext cx="7162560" cy="2867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02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603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4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5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6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7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8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9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0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618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619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620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621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2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3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4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5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6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7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8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629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0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1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2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3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4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5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6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637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638" name="Line 41"/>
          <p:cNvSpPr/>
          <p:nvPr/>
        </p:nvSpPr>
        <p:spPr>
          <a:xfrm flipV="1">
            <a:off x="457200" y="1295280"/>
            <a:ext cx="7162920" cy="28670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39" name="AutoShape 42"/>
          <p:cNvSpPr/>
          <p:nvPr/>
        </p:nvSpPr>
        <p:spPr>
          <a:xfrm>
            <a:off x="4419720" y="3581280"/>
            <a:ext cx="4039920" cy="914400"/>
          </a:xfrm>
          <a:prstGeom prst="wedgeRectCallout">
            <a:avLst>
              <a:gd name="adj1" fmla="val -20138"/>
              <a:gd name="adj2" fmla="val -213194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642" name="Text Box 4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643" name="Group 5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644" name="Text Box 6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5" name="Text Box 7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6" name="Text Box 8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7" name="Text Box 9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8" name="Text Box 10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9" name="Text Box 11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0" name="Text Box 12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1" name="Text Box 13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2" name="Text Box 14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3" name="Text Box 15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4" name="Text Box 16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5" name="Text Box 17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6" name="Text Box 18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7" name="Text Box 19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658" name="Group 20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659" name="Group 21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660" name="Group 22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661" name="Line 23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2" name="Line 24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3" name="Line 25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4" name="Line 26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5" name="Line 27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6" name="Line 28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7" name="Line 29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8" name="Line 30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669" name="Line 31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0" name="Line 32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1" name="Line 33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2" name="Line 34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3" name="Line 35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4" name="Line 36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5" name="Line 37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6" name="Line 38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677" name="Text Box 39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678" name="AutoShape 40"/>
          <p:cNvSpPr/>
          <p:nvPr/>
        </p:nvSpPr>
        <p:spPr>
          <a:xfrm flipH="1">
            <a:off x="3048120" y="2133720"/>
            <a:ext cx="4952880" cy="990360"/>
          </a:xfrm>
          <a:prstGeom prst="wedgeRectCallout">
            <a:avLst>
              <a:gd name="adj1" fmla="val 19935"/>
              <a:gd name="adj2" fmla="val 21281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-9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79" name="Line 41"/>
          <p:cNvSpPr/>
          <p:nvPr/>
        </p:nvSpPr>
        <p:spPr>
          <a:xfrm>
            <a:off x="380880" y="48006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6" dur="1" fill="hold"/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22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Tracciare i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G(s)=k/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22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Suggerimento: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noti che tale funzione è il prodotto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/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l’origine (cioè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ingolarit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 annulla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he de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su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comunque essere calcolato sempre come differenz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che è pari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sta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-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1+</a:t>
            </a:r>
            <a:r>
              <a:rPr b="1" lang="it-IT" sz="36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dato da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 =    1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+(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2514600" y="1523880"/>
            <a:ext cx="2057400" cy="609840"/>
            <a:chOff x="2514600" y="1523880"/>
            <a:chExt cx="2057400" cy="609840"/>
          </a:xfrm>
        </p:grpSpPr>
        <p:sp>
          <p:nvSpPr>
            <p:cNvPr id="688" name="Line 5"/>
            <p:cNvSpPr/>
            <p:nvPr/>
          </p:nvSpPr>
          <p:spPr>
            <a:xfrm>
              <a:off x="2514600" y="1828800"/>
              <a:ext cx="763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89" name="Line 6"/>
            <p:cNvSpPr/>
            <p:nvPr/>
          </p:nvSpPr>
          <p:spPr>
            <a:xfrm flipH="1">
              <a:off x="2590560" y="1523880"/>
              <a:ext cx="15228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2743200" y="152388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691" name="Rectangle 8"/>
          <p:cNvSpPr/>
          <p:nvPr/>
        </p:nvSpPr>
        <p:spPr>
          <a:xfrm>
            <a:off x="2286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 è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raticamente pari ad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quando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&lt;&lt; 1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raticamente pari a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quando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&gt;1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diagramm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quindi, assum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’andamento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valori di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rossim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’andamento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valori di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molto grandi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esti andamenti so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ic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, come si è già visto, il diagramm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erseca l’asse delle ascisse nel punt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a si può notare anche che 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nnulla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; esso è quindi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allora trarre la conclusione che l’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o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qua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molto grande, è proprio la retta che passa per il punt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valore che è proprio il valore assoluto dell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e 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95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696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7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8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9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0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1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2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3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4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5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6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7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8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9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711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712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713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714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5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6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7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8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9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20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21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722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3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4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5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6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7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8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9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730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731" name="Line 41"/>
          <p:cNvSpPr/>
          <p:nvPr/>
        </p:nvSpPr>
        <p:spPr>
          <a:xfrm flipV="1">
            <a:off x="152280" y="1828440"/>
            <a:ext cx="8534520" cy="3321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2" name="Line 42"/>
          <p:cNvSpPr/>
          <p:nvPr/>
        </p:nvSpPr>
        <p:spPr>
          <a:xfrm>
            <a:off x="152280" y="3886200"/>
            <a:ext cx="853452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1219320" y="5410080"/>
            <a:ext cx="4495680" cy="1143000"/>
          </a:xfrm>
          <a:prstGeom prst="wedgeRectCallout">
            <a:avLst>
              <a:gd name="adj1" fmla="val 45620"/>
              <a:gd name="adj2" fmla="val -18305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G(s)=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olto piccolo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4" name="AutoShape 43"/>
          <p:cNvSpPr/>
          <p:nvPr/>
        </p:nvSpPr>
        <p:spPr>
          <a:xfrm>
            <a:off x="3276720" y="1066680"/>
            <a:ext cx="4343400" cy="1067040"/>
          </a:xfrm>
          <a:prstGeom prst="wedgeRectCallout">
            <a:avLst>
              <a:gd name="adj1" fmla="val -9282"/>
              <a:gd name="adj2" fmla="val 15059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G(s)=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olto grande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735" name="Group 44"/>
          <p:cNvGrpSpPr/>
          <p:nvPr/>
        </p:nvGrpSpPr>
        <p:grpSpPr>
          <a:xfrm>
            <a:off x="304920" y="1752120"/>
            <a:ext cx="8534160" cy="2134080"/>
            <a:chOff x="304920" y="1752120"/>
            <a:chExt cx="8534160" cy="2134080"/>
          </a:xfrm>
        </p:grpSpPr>
        <p:sp>
          <p:nvSpPr>
            <p:cNvPr id="736" name="Line 45"/>
            <p:cNvSpPr/>
            <p:nvPr/>
          </p:nvSpPr>
          <p:spPr>
            <a:xfrm flipV="1">
              <a:off x="3429000" y="175212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37" name="Line 46"/>
            <p:cNvSpPr/>
            <p:nvPr/>
          </p:nvSpPr>
          <p:spPr>
            <a:xfrm>
              <a:off x="304920" y="388620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738" name="AutoShape 2"/>
          <p:cNvSpPr/>
          <p:nvPr/>
        </p:nvSpPr>
        <p:spPr>
          <a:xfrm>
            <a:off x="2819520" y="1066680"/>
            <a:ext cx="4647960" cy="1067040"/>
          </a:xfrm>
          <a:prstGeom prst="wedgeRectCallout">
            <a:avLst>
              <a:gd name="adj1" fmla="val -15981"/>
              <a:gd name="adj2" fmla="val 17366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risultante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 G(s)=1+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9" name="Text Box 47"/>
          <p:cNvSpPr/>
          <p:nvPr/>
        </p:nvSpPr>
        <p:spPr>
          <a:xfrm>
            <a:off x="3141000" y="32004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|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Annotazion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iù volte è stata usata l’espressione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ale espressione significa che il diagramma costruito è solo un’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approssimazione dell’andamento effettiv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ella funzione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Calcolare lo scostamento de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real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•s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rispetto a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nel punto 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ahoma"/>
              </a:rPr>
              <a:t>Soluzion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=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•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±j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 tal caso, il modulo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=1±j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pari alla radice di 2 cio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|=1,4142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in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dunqu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•log1,4142 = 3 dB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iché nel punt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modulo rappresentato n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ssume 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lo scostamento richiesto è proprio pari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3 dB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/>
          <p:cNvSpPr/>
          <p:nvPr/>
        </p:nvSpPr>
        <p:spPr>
          <a:xfrm>
            <a:off x="3276720" y="990720"/>
            <a:ext cx="4343400" cy="914400"/>
          </a:xfrm>
          <a:prstGeom prst="wedgeRectCallout">
            <a:avLst>
              <a:gd name="adj1" fmla="val 44810"/>
              <a:gd name="adj2" fmla="val 9114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47" name="AutoShape 3"/>
          <p:cNvSpPr/>
          <p:nvPr/>
        </p:nvSpPr>
        <p:spPr>
          <a:xfrm>
            <a:off x="1447920" y="2209680"/>
            <a:ext cx="2743200" cy="1067040"/>
          </a:xfrm>
          <a:prstGeom prst="wedgeRectCallout">
            <a:avLst>
              <a:gd name="adj1" fmla="val 14296"/>
              <a:gd name="adj2" fmla="val 9553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ndamento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ffettivo di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G(s)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: soluzione esercizi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749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750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2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3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4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5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6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7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8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9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0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1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2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3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4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765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766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767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768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9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0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1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2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3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4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5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776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77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78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79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0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1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2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3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784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85" name="Group 41"/>
          <p:cNvGrpSpPr/>
          <p:nvPr/>
        </p:nvGrpSpPr>
        <p:grpSpPr>
          <a:xfrm>
            <a:off x="304920" y="1752120"/>
            <a:ext cx="8534160" cy="2134080"/>
            <a:chOff x="304920" y="1752120"/>
            <a:chExt cx="8534160" cy="2134080"/>
          </a:xfrm>
        </p:grpSpPr>
        <p:sp>
          <p:nvSpPr>
            <p:cNvPr id="786" name="Line 42"/>
            <p:cNvSpPr/>
            <p:nvPr/>
          </p:nvSpPr>
          <p:spPr>
            <a:xfrm flipV="1">
              <a:off x="3429000" y="175212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87" name="Line 43"/>
            <p:cNvSpPr/>
            <p:nvPr/>
          </p:nvSpPr>
          <p:spPr>
            <a:xfrm>
              <a:off x="304920" y="388620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788" name="AutoShape 44"/>
          <p:cNvSpPr/>
          <p:nvPr/>
        </p:nvSpPr>
        <p:spPr>
          <a:xfrm>
            <a:off x="1752480" y="5257800"/>
            <a:ext cx="990720" cy="609480"/>
          </a:xfrm>
          <a:prstGeom prst="wedgeRectCallout">
            <a:avLst>
              <a:gd name="adj1" fmla="val 121314"/>
              <a:gd name="adj2" fmla="val -27109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89" name="Freeform 45"/>
          <p:cNvSpPr/>
          <p:nvPr/>
        </p:nvSpPr>
        <p:spPr>
          <a:xfrm>
            <a:off x="1755720" y="3200400"/>
            <a:ext cx="3349800" cy="647640"/>
          </a:xfrm>
          <a:custGeom>
            <a:avLst/>
            <a:gdLst/>
            <a:ahLst/>
            <a:rect l="l" t="t" r="r" b="b"/>
            <a:pathLst>
              <a:path w="2110" h="408">
                <a:moveTo>
                  <a:pt x="0" y="408"/>
                </a:moveTo>
                <a:cubicBezTo>
                  <a:pt x="176" y="394"/>
                  <a:pt x="702" y="404"/>
                  <a:pt x="1054" y="336"/>
                </a:cubicBezTo>
                <a:cubicBezTo>
                  <a:pt x="1406" y="268"/>
                  <a:pt x="1942" y="64"/>
                  <a:pt x="2110" y="0"/>
                </a:cubicBezTo>
              </a:path>
            </a:pathLst>
          </a:custGeom>
          <a:noFill/>
          <a:ln w="7632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90" name="Line 46"/>
          <p:cNvSpPr/>
          <p:nvPr/>
        </p:nvSpPr>
        <p:spPr>
          <a:xfrm>
            <a:off x="3429000" y="3733920"/>
            <a:ext cx="312408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791" name="Group 47"/>
          <p:cNvGrpSpPr/>
          <p:nvPr/>
        </p:nvGrpSpPr>
        <p:grpSpPr>
          <a:xfrm>
            <a:off x="6172200" y="3048120"/>
            <a:ext cx="1062360" cy="1218960"/>
            <a:chOff x="6172200" y="3048120"/>
            <a:chExt cx="1062360" cy="1218960"/>
          </a:xfrm>
        </p:grpSpPr>
        <p:sp>
          <p:nvSpPr>
            <p:cNvPr id="792" name="Line 48"/>
            <p:cNvSpPr/>
            <p:nvPr/>
          </p:nvSpPr>
          <p:spPr>
            <a:xfrm>
              <a:off x="6172200" y="3048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93" name="Line 49"/>
            <p:cNvSpPr/>
            <p:nvPr/>
          </p:nvSpPr>
          <p:spPr>
            <a:xfrm flipV="1">
              <a:off x="6172200" y="38862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94" name="Text Box 50"/>
            <p:cNvSpPr/>
            <p:nvPr/>
          </p:nvSpPr>
          <p:spPr>
            <a:xfrm>
              <a:off x="6310080" y="304812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3 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6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i nota che qua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molto piccolo, il rappor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/Re[G(s)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venta praticamente null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molto piccolo, è quind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arctg {Im[G(s)]/Re[G(s)]}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un valore molto grand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viceversa, il rappor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/Re[G(s)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venta praticament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quind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arctg {Im[G(s)]/Re[G(s)]}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90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di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visti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ono quindi gl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rispettivamente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molto piccolo e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molto grande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notare inoltre che qua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me si è visto dal precedente esercizio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j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quindi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sulta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arctg 1 = 45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assa quindi per il punto individuato dalle coordinat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completar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enza aggiungere ulteriori spiegazioni, che sono un po’ più complesse, si deve chiarire che il passaggio d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ll’altro avviene quasi totalment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ahoma"/>
              </a:rPr>
              <a:t>nell’arco di due </a:t>
            </a:r>
            <a:r>
              <a:rPr b="0" lang="it-IT" sz="2800" spc="-1" strike="noStrike" u="sng">
                <a:solidFill>
                  <a:srgbClr val="66ffcc"/>
                </a:solidFill>
                <a:uFillTx/>
                <a:latin typeface="Tahoma"/>
              </a:rPr>
              <a:t>decad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ca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 sinistra dell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ca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 destra dell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Line 44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2971800" y="3352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|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04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805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806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807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08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09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0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1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2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3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4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5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6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7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8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20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821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822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823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824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5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6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7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8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9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30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31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832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3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4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5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6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7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8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9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840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841" name="Line 43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2" name="AutoShape 2"/>
          <p:cNvSpPr/>
          <p:nvPr/>
        </p:nvSpPr>
        <p:spPr>
          <a:xfrm flipH="1">
            <a:off x="3886200" y="4724280"/>
            <a:ext cx="3657600" cy="1447920"/>
          </a:xfrm>
          <a:prstGeom prst="wedgeRectCallout">
            <a:avLst>
              <a:gd name="adj1" fmla="val 51041"/>
              <a:gd name="adj2" fmla="val -14725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Diagramma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asintotico della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fase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complet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3" name="Line 46"/>
          <p:cNvSpPr/>
          <p:nvPr/>
        </p:nvSpPr>
        <p:spPr>
          <a:xfrm flipV="1">
            <a:off x="350532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4" name="Line 47"/>
          <p:cNvSpPr/>
          <p:nvPr/>
        </p:nvSpPr>
        <p:spPr>
          <a:xfrm>
            <a:off x="1219320" y="3429000"/>
            <a:ext cx="46479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5" name="AutoShape 48"/>
          <p:cNvSpPr/>
          <p:nvPr/>
        </p:nvSpPr>
        <p:spPr>
          <a:xfrm flipH="1">
            <a:off x="0" y="228600"/>
            <a:ext cx="3657600" cy="1066680"/>
          </a:xfrm>
          <a:prstGeom prst="wedgeRectCallout">
            <a:avLst>
              <a:gd name="adj1" fmla="val -44837"/>
              <a:gd name="adj2" fmla="val 24240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l diagramma passa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questo punt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846" name="Group 49"/>
          <p:cNvGrpSpPr/>
          <p:nvPr/>
        </p:nvGrpSpPr>
        <p:grpSpPr>
          <a:xfrm>
            <a:off x="1981080" y="3962520"/>
            <a:ext cx="1905120" cy="1206360"/>
            <a:chOff x="1981080" y="3962520"/>
            <a:chExt cx="1905120" cy="1206360"/>
          </a:xfrm>
        </p:grpSpPr>
        <p:sp>
          <p:nvSpPr>
            <p:cNvPr id="847" name="AutoShape 50"/>
            <p:cNvSpPr/>
            <p:nvPr/>
          </p:nvSpPr>
          <p:spPr>
            <a:xfrm rot="16200000">
              <a:off x="2781360" y="354312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48" name="Text Box 51"/>
            <p:cNvSpPr/>
            <p:nvPr/>
          </p:nvSpPr>
          <p:spPr>
            <a:xfrm>
              <a:off x="1981080" y="43434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 prima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849" name="Group 52"/>
          <p:cNvGrpSpPr/>
          <p:nvPr/>
        </p:nvGrpSpPr>
        <p:grpSpPr>
          <a:xfrm>
            <a:off x="3124080" y="1676520"/>
            <a:ext cx="1905120" cy="1218960"/>
            <a:chOff x="3124080" y="1676520"/>
            <a:chExt cx="1905120" cy="1218960"/>
          </a:xfrm>
        </p:grpSpPr>
        <p:sp>
          <p:nvSpPr>
            <p:cNvPr id="850" name="AutoShape 53"/>
            <p:cNvSpPr/>
            <p:nvPr/>
          </p:nvSpPr>
          <p:spPr>
            <a:xfrm flipV="1" rot="5400000">
              <a:off x="3924360" y="217152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51" name="Text Box 54"/>
            <p:cNvSpPr/>
            <p:nvPr/>
          </p:nvSpPr>
          <p:spPr>
            <a:xfrm>
              <a:off x="3124080" y="16765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 </a:t>
              </a:r>
              <a:br>
                <a:rPr sz="2400"/>
              </a:b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opo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852" name="Line 55"/>
          <p:cNvSpPr/>
          <p:nvPr/>
        </p:nvSpPr>
        <p:spPr>
          <a:xfrm flipV="1">
            <a:off x="914400" y="2362320"/>
            <a:ext cx="5181480" cy="2209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53" name="AutoShape 56"/>
          <p:cNvSpPr/>
          <p:nvPr/>
        </p:nvSpPr>
        <p:spPr>
          <a:xfrm flipH="1">
            <a:off x="5028480" y="5029200"/>
            <a:ext cx="3048120" cy="990720"/>
          </a:xfrm>
          <a:prstGeom prst="wedgeRectCallout">
            <a:avLst>
              <a:gd name="adj1" fmla="val 79319"/>
              <a:gd name="adj2" fmla="val -23926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Asintoto obliqu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854" name="Group 57"/>
          <p:cNvGrpSpPr/>
          <p:nvPr/>
        </p:nvGrpSpPr>
        <p:grpSpPr>
          <a:xfrm>
            <a:off x="304920" y="2971800"/>
            <a:ext cx="8686800" cy="914400"/>
            <a:chOff x="304920" y="2971800"/>
            <a:chExt cx="8686800" cy="914400"/>
          </a:xfrm>
        </p:grpSpPr>
        <p:sp>
          <p:nvSpPr>
            <p:cNvPr id="855" name="Line 58"/>
            <p:cNvSpPr/>
            <p:nvPr/>
          </p:nvSpPr>
          <p:spPr>
            <a:xfrm>
              <a:off x="304920" y="388620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56" name="Line 59"/>
            <p:cNvSpPr/>
            <p:nvPr/>
          </p:nvSpPr>
          <p:spPr>
            <a:xfrm>
              <a:off x="4572000" y="297180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57" name="Line 60"/>
            <p:cNvSpPr/>
            <p:nvPr/>
          </p:nvSpPr>
          <p:spPr>
            <a:xfrm flipV="1">
              <a:off x="2438640" y="2971800"/>
              <a:ext cx="213336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858" name="AutoShape 42"/>
          <p:cNvSpPr/>
          <p:nvPr/>
        </p:nvSpPr>
        <p:spPr>
          <a:xfrm flipH="1">
            <a:off x="380160" y="5486400"/>
            <a:ext cx="3048120" cy="990720"/>
          </a:xfrm>
          <a:prstGeom prst="wedgeRectCallout">
            <a:avLst>
              <a:gd name="adj1" fmla="val 29060"/>
              <a:gd name="adj2" fmla="val -21089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olto piccol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59" name="AutoShape 45"/>
          <p:cNvSpPr/>
          <p:nvPr/>
        </p:nvSpPr>
        <p:spPr>
          <a:xfrm flipH="1">
            <a:off x="5029200" y="1066680"/>
            <a:ext cx="3124080" cy="990720"/>
          </a:xfrm>
          <a:prstGeom prst="wedgeRectCallout">
            <a:avLst>
              <a:gd name="adj1" fmla="val -37958"/>
              <a:gd name="adj2" fmla="val 13957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olto grand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ono du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emilogaritmici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prim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rappresenta il valore,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mpiezz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 di un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second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rappresent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ricorda ch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un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unzione compless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[G(s)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coefficiente della parte immaginari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empre crescente con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ument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rese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umenta di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45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ciascuna delle due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ecadi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successive (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ompreso fra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9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1/(1+</a:t>
            </a:r>
            <a:r>
              <a:rPr b="1" lang="it-IT" sz="36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esta funzione si comporta nei confronti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m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comportava nei confronti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quindi come quello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baltato in senso vertical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annulla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nomin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è quindi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non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che in questo caso, il punto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l’intersezione fra l’asse delle ascisse e l’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olto gran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68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869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0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1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2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3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4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5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6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7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8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9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0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1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3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884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885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886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887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8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9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0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1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2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3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4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895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6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7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8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9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900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901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902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903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904" name="Group 41"/>
          <p:cNvGrpSpPr/>
          <p:nvPr/>
        </p:nvGrpSpPr>
        <p:grpSpPr>
          <a:xfrm>
            <a:off x="380880" y="1752120"/>
            <a:ext cx="8534160" cy="2134080"/>
            <a:chOff x="380880" y="1752120"/>
            <a:chExt cx="8534160" cy="2134080"/>
          </a:xfrm>
        </p:grpSpPr>
        <p:sp>
          <p:nvSpPr>
            <p:cNvPr id="905" name="Line 42"/>
            <p:cNvSpPr/>
            <p:nvPr/>
          </p:nvSpPr>
          <p:spPr>
            <a:xfrm flipV="1">
              <a:off x="3504960" y="175212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06" name="Line 43"/>
            <p:cNvSpPr/>
            <p:nvPr/>
          </p:nvSpPr>
          <p:spPr>
            <a:xfrm>
              <a:off x="380880" y="388620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907" name="Text Box 44"/>
          <p:cNvSpPr/>
          <p:nvPr/>
        </p:nvSpPr>
        <p:spPr>
          <a:xfrm>
            <a:off x="3199680" y="320040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908" name="Group 45"/>
          <p:cNvGrpSpPr/>
          <p:nvPr/>
        </p:nvGrpSpPr>
        <p:grpSpPr>
          <a:xfrm>
            <a:off x="380880" y="3885840"/>
            <a:ext cx="8534160" cy="2134080"/>
            <a:chOff x="380880" y="3885840"/>
            <a:chExt cx="8534160" cy="2134080"/>
          </a:xfrm>
        </p:grpSpPr>
        <p:sp>
          <p:nvSpPr>
            <p:cNvPr id="909" name="Line 46"/>
            <p:cNvSpPr/>
            <p:nvPr/>
          </p:nvSpPr>
          <p:spPr>
            <a:xfrm>
              <a:off x="3504960" y="388620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10" name="Line 47"/>
            <p:cNvSpPr/>
            <p:nvPr/>
          </p:nvSpPr>
          <p:spPr>
            <a:xfrm>
              <a:off x="380880" y="388584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911" name="AutoShape 2"/>
          <p:cNvSpPr/>
          <p:nvPr/>
        </p:nvSpPr>
        <p:spPr>
          <a:xfrm>
            <a:off x="3505320" y="5029200"/>
            <a:ext cx="5105160" cy="914400"/>
          </a:xfrm>
          <a:prstGeom prst="wedgeRectCallout">
            <a:avLst>
              <a:gd name="adj1" fmla="val -28763"/>
              <a:gd name="adj2" fmla="val -22256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12" name="AutoShape 3"/>
          <p:cNvSpPr/>
          <p:nvPr/>
        </p:nvSpPr>
        <p:spPr>
          <a:xfrm>
            <a:off x="3581280" y="2133720"/>
            <a:ext cx="5105520" cy="914400"/>
          </a:xfrm>
          <a:prstGeom prst="wedgeRectCallout">
            <a:avLst>
              <a:gd name="adj1" fmla="val -15921"/>
              <a:gd name="adj2" fmla="val 22048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1/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0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notiamo che per la proprietà già ricordata su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quoziente di due numeri complessi, la fas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pari alla fase di 1, che vale 0, meno la fas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cui è già noto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i fas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i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sulta quindi dal ribaltamento in vertical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i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visto prima per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3"/>
          <p:cNvSpPr/>
          <p:nvPr/>
        </p:nvSpPr>
        <p:spPr>
          <a:xfrm>
            <a:off x="3444120" y="335268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917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918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920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1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2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3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4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5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6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7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8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9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0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1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2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3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934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935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936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937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38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39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0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1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2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3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4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945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6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7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8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9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50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51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52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953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954" name="Group 42"/>
          <p:cNvGrpSpPr/>
          <p:nvPr/>
        </p:nvGrpSpPr>
        <p:grpSpPr>
          <a:xfrm>
            <a:off x="228600" y="2971800"/>
            <a:ext cx="8686800" cy="914400"/>
            <a:chOff x="228600" y="2971800"/>
            <a:chExt cx="8686800" cy="914400"/>
          </a:xfrm>
        </p:grpSpPr>
        <p:sp>
          <p:nvSpPr>
            <p:cNvPr id="955" name="Line 43"/>
            <p:cNvSpPr/>
            <p:nvPr/>
          </p:nvSpPr>
          <p:spPr>
            <a:xfrm>
              <a:off x="228600" y="388620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56" name="Line 44"/>
            <p:cNvSpPr/>
            <p:nvPr/>
          </p:nvSpPr>
          <p:spPr>
            <a:xfrm>
              <a:off x="4495680" y="297180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57" name="Line 45"/>
            <p:cNvSpPr/>
            <p:nvPr/>
          </p:nvSpPr>
          <p:spPr>
            <a:xfrm flipV="1">
              <a:off x="2362320" y="2971800"/>
              <a:ext cx="2133360" cy="91440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958" name="Group 46"/>
          <p:cNvGrpSpPr/>
          <p:nvPr/>
        </p:nvGrpSpPr>
        <p:grpSpPr>
          <a:xfrm>
            <a:off x="228600" y="3886200"/>
            <a:ext cx="8686800" cy="914400"/>
            <a:chOff x="228600" y="3886200"/>
            <a:chExt cx="8686800" cy="914400"/>
          </a:xfrm>
        </p:grpSpPr>
        <p:sp>
          <p:nvSpPr>
            <p:cNvPr id="959" name="Line 47"/>
            <p:cNvSpPr/>
            <p:nvPr/>
          </p:nvSpPr>
          <p:spPr>
            <a:xfrm>
              <a:off x="228600" y="388620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60" name="Line 48"/>
            <p:cNvSpPr/>
            <p:nvPr/>
          </p:nvSpPr>
          <p:spPr>
            <a:xfrm>
              <a:off x="4495680" y="480060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61" name="Line 49"/>
            <p:cNvSpPr/>
            <p:nvPr/>
          </p:nvSpPr>
          <p:spPr>
            <a:xfrm>
              <a:off x="2362320" y="3886200"/>
              <a:ext cx="213336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962" name="AutoShape 2"/>
          <p:cNvSpPr/>
          <p:nvPr/>
        </p:nvSpPr>
        <p:spPr>
          <a:xfrm flipH="1">
            <a:off x="3048120" y="4648320"/>
            <a:ext cx="4419360" cy="1447560"/>
          </a:xfrm>
          <a:prstGeom prst="wedgeRectCallout">
            <a:avLst>
              <a:gd name="adj1" fmla="val -10995"/>
              <a:gd name="adj2" fmla="val -16535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di fase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(1+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63" name="AutoShape 50"/>
          <p:cNvSpPr/>
          <p:nvPr/>
        </p:nvSpPr>
        <p:spPr>
          <a:xfrm flipH="1">
            <a:off x="3200400" y="1905120"/>
            <a:ext cx="4952880" cy="1447560"/>
          </a:xfrm>
          <a:prstGeom prst="wedgeRectCallout">
            <a:avLst>
              <a:gd name="adj1" fmla="val -5930"/>
              <a:gd name="adj2" fmla="val 14407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di fase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di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G(s)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0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Tracciare i </a:t>
            </a:r>
            <a:r>
              <a:rPr b="0" lang="it-IT" sz="36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G(s)=k/(1+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empre decrescente con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iminuisce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 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crese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iminuisce di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45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ciascuna delle due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ecadi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successive (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ompreso fra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9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sa si intende per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semilogaritmic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ono diagrammi con assi ortogonali, come quelli cartesiani, nei quali, però, l’asse delle ascisse è graduato secondo il logaritmo (in base 10) de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variabile indipendent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(che qui è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cordando ch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 = -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 = 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0 = 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00 = 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 così via, si ha il diagramma che segu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564000" y="3860640"/>
            <a:ext cx="5400720" cy="1368720"/>
          </a:xfrm>
          <a:prstGeom prst="wedgeRectCallout">
            <a:avLst>
              <a:gd name="adj1" fmla="val -69606"/>
              <a:gd name="adj2" fmla="val -3155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Precisazione: si noti che la funzione logaritmo non è, in effetti, definita per l’argomento 0;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, dunque, è in realtà il limite di tale funzione quando l’argomento tende a 0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Il prodotto di funzioni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sideri il caso di un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unzione di trasferi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a genericamente il prodotto di due o più funzioni come quelle degli esempi vis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semplicità si fiss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=A(s)•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= 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valor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nnullano 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sono quindi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le solite proprietà dei logaritmi,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20•log(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•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) =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+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=|A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+|B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oscono già gli andamenti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cui basta fare una somma grafica dei due diagramm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questa somma si vede che i tratti in pendenza danno luogo ad un assommarsi delle pendenz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uccede allora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nullo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+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fino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+4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5181480" y="5257800"/>
            <a:ext cx="3733920" cy="914400"/>
          </a:xfrm>
          <a:prstGeom prst="wedgeRectCallout">
            <a:avLst>
              <a:gd name="adj1" fmla="val 8037"/>
              <a:gd name="adj2" fmla="val -31059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B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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3048120" y="914400"/>
            <a:ext cx="3886200" cy="914400"/>
          </a:xfrm>
          <a:prstGeom prst="wedgeRectCallout">
            <a:avLst>
              <a:gd name="adj1" fmla="val -36273"/>
              <a:gd name="adj2" fmla="val 21597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A(s)=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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Il prodotto di funzioni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978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979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F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0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1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2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3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4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5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6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7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8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9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0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1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2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3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994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995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996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997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98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99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0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1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2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3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4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1005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6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7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8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9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10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11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12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013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1014" name="Text Box 41"/>
          <p:cNvSpPr/>
          <p:nvPr/>
        </p:nvSpPr>
        <p:spPr>
          <a:xfrm>
            <a:off x="1828800" y="3276720"/>
            <a:ext cx="8380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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015" name="Group 42"/>
          <p:cNvGrpSpPr/>
          <p:nvPr/>
        </p:nvGrpSpPr>
        <p:grpSpPr>
          <a:xfrm>
            <a:off x="304920" y="1752120"/>
            <a:ext cx="7467480" cy="2134080"/>
            <a:chOff x="304920" y="1752120"/>
            <a:chExt cx="7467480" cy="2134080"/>
          </a:xfrm>
        </p:grpSpPr>
        <p:sp>
          <p:nvSpPr>
            <p:cNvPr id="1016" name="Line 43"/>
            <p:cNvSpPr/>
            <p:nvPr/>
          </p:nvSpPr>
          <p:spPr>
            <a:xfrm flipV="1">
              <a:off x="2362320" y="1752120"/>
              <a:ext cx="5410080" cy="213372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17" name="Line 44"/>
            <p:cNvSpPr/>
            <p:nvPr/>
          </p:nvSpPr>
          <p:spPr>
            <a:xfrm>
              <a:off x="304920" y="3886200"/>
              <a:ext cx="2057400" cy="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018" name="Group 45"/>
          <p:cNvGrpSpPr/>
          <p:nvPr/>
        </p:nvGrpSpPr>
        <p:grpSpPr>
          <a:xfrm>
            <a:off x="304920" y="2263320"/>
            <a:ext cx="8458200" cy="1622880"/>
            <a:chOff x="304920" y="2263320"/>
            <a:chExt cx="8458200" cy="1622880"/>
          </a:xfrm>
        </p:grpSpPr>
        <p:sp>
          <p:nvSpPr>
            <p:cNvPr id="1019" name="Line 46"/>
            <p:cNvSpPr/>
            <p:nvPr/>
          </p:nvSpPr>
          <p:spPr>
            <a:xfrm flipV="1">
              <a:off x="4648320" y="2263320"/>
              <a:ext cx="4114800" cy="162252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20" name="Line 47"/>
            <p:cNvSpPr/>
            <p:nvPr/>
          </p:nvSpPr>
          <p:spPr>
            <a:xfrm>
              <a:off x="304920" y="3886200"/>
              <a:ext cx="4343400" cy="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021" name="Text Box 48"/>
          <p:cNvSpPr/>
          <p:nvPr/>
        </p:nvSpPr>
        <p:spPr>
          <a:xfrm>
            <a:off x="4038480" y="3276720"/>
            <a:ext cx="838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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2" name="Line 49"/>
          <p:cNvSpPr/>
          <p:nvPr/>
        </p:nvSpPr>
        <p:spPr>
          <a:xfrm>
            <a:off x="304920" y="388620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3" name="Line 50"/>
          <p:cNvSpPr/>
          <p:nvPr/>
        </p:nvSpPr>
        <p:spPr>
          <a:xfrm flipV="1">
            <a:off x="4648320" y="236196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4" name="Line 51"/>
          <p:cNvSpPr/>
          <p:nvPr/>
        </p:nvSpPr>
        <p:spPr>
          <a:xfrm flipH="1">
            <a:off x="2362320" y="2971800"/>
            <a:ext cx="2286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5" name="Line 52"/>
          <p:cNvSpPr/>
          <p:nvPr/>
        </p:nvSpPr>
        <p:spPr>
          <a:xfrm flipV="1">
            <a:off x="4648320" y="1143000"/>
            <a:ext cx="2209680" cy="1828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6" name="AutoShape 53"/>
          <p:cNvSpPr/>
          <p:nvPr/>
        </p:nvSpPr>
        <p:spPr>
          <a:xfrm>
            <a:off x="1600200" y="5029200"/>
            <a:ext cx="2057400" cy="914400"/>
          </a:xfrm>
          <a:prstGeom prst="wedgeRectCallout">
            <a:avLst>
              <a:gd name="adj1" fmla="val -43597"/>
              <a:gd name="adj2" fmla="val -17777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7" name="AutoShape 54"/>
          <p:cNvSpPr/>
          <p:nvPr/>
        </p:nvSpPr>
        <p:spPr>
          <a:xfrm>
            <a:off x="5181480" y="5029200"/>
            <a:ext cx="2819520" cy="914400"/>
          </a:xfrm>
          <a:prstGeom prst="wedgeRectCallout">
            <a:avLst>
              <a:gd name="adj1" fmla="val -123703"/>
              <a:gd name="adj2" fmla="val -21111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8" name="AutoShape 55"/>
          <p:cNvSpPr/>
          <p:nvPr/>
        </p:nvSpPr>
        <p:spPr>
          <a:xfrm>
            <a:off x="6248520" y="2590920"/>
            <a:ext cx="2666880" cy="914400"/>
          </a:xfrm>
          <a:prstGeom prst="wedgeRectCallout">
            <a:avLst>
              <a:gd name="adj1" fmla="val -71606"/>
              <a:gd name="adj2" fmla="val -9583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4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9" name="AutoShape 56"/>
          <p:cNvSpPr/>
          <p:nvPr/>
        </p:nvSpPr>
        <p:spPr>
          <a:xfrm>
            <a:off x="1295280" y="1828800"/>
            <a:ext cx="3505320" cy="914400"/>
          </a:xfrm>
          <a:prstGeom prst="wedgeRectCallout">
            <a:avLst>
              <a:gd name="adj1" fmla="val 22916"/>
              <a:gd name="adj2" fmla="val 10573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F(s)=A(s)•B(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, si ricordi che la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i un prodotto complesso è uguale alla somma delle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ei fattori; quindi, anche in questo caso, si può fare una somma grafica dei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i asintotici della 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e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B(s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Valgono le considerazioni già dette sui tratti in pendenza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22840" indent="-222840">
              <a:lnSpc>
                <a:spcPct val="11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Tracciare i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di Bode della fas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della funzione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F(s) = A(s)•B(s) = (1+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s)•(1+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un prodotto di due funzioni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uò ricavare facendo una somm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i modul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ottenersi come somm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le 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Il rapporto di funzioni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sideri, infine, il caso di un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a il rapporto di due funzioni come quelle viste finor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semplicità si fiss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=A(s)/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= 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nulla 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d è quindi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nnulla 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è quindi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le solite proprietà dei logaritmi,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20•log(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/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) =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-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=|A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-|B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oscono già gli andamenti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cui basta fare una differenza grafica dei due diagramm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questa differenza si vede che i tratti in pendenza danno luogo ad una compensazione  delle pendenz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uccede allora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nullo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fino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nulla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457200" y="914400"/>
            <a:ext cx="8305920" cy="4495680"/>
            <a:chOff x="457200" y="914400"/>
            <a:chExt cx="8305920" cy="4495680"/>
          </a:xfrm>
        </p:grpSpPr>
        <p:sp>
          <p:nvSpPr>
            <p:cNvPr id="122" name="Line 4"/>
            <p:cNvSpPr/>
            <p:nvPr/>
          </p:nvSpPr>
          <p:spPr>
            <a:xfrm>
              <a:off x="1219320" y="914400"/>
              <a:ext cx="0" cy="4495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H="1">
              <a:off x="457200" y="3276360"/>
              <a:ext cx="8305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2362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3505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4648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5791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6934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8077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30" name="Text Box 12"/>
          <p:cNvSpPr/>
          <p:nvPr/>
        </p:nvSpPr>
        <p:spPr>
          <a:xfrm>
            <a:off x="2743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886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029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.0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172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0.0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7621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54864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oiché, come si è detto nella slide precedente, il logaritmo di 0 tende a -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, naturalmente lo 0 in questo diagramma non può essere rappresentato!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1981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066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600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124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4267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5410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553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696080" y="3352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[rad/s]</a:t>
            </a:r>
            <a:endParaRPr b="0" lang="en-US" sz="1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4" name="AutoShape 26"/>
          <p:cNvSpPr/>
          <p:nvPr/>
        </p:nvSpPr>
        <p:spPr>
          <a:xfrm flipH="1">
            <a:off x="3580560" y="1219320"/>
            <a:ext cx="4953240" cy="1218960"/>
          </a:xfrm>
          <a:prstGeom prst="wedgeRectCallout">
            <a:avLst>
              <a:gd name="adj1" fmla="val -37115"/>
              <a:gd name="adj2" fmla="val 1352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variabile sull’asse dell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scisse è la pulsazione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45" name="Group 27"/>
          <p:cNvGrpSpPr/>
          <p:nvPr/>
        </p:nvGrpSpPr>
        <p:grpSpPr>
          <a:xfrm>
            <a:off x="838080" y="3886200"/>
            <a:ext cx="1905120" cy="840600"/>
            <a:chOff x="838080" y="3886200"/>
            <a:chExt cx="1905120" cy="840600"/>
          </a:xfrm>
        </p:grpSpPr>
        <p:sp>
          <p:nvSpPr>
            <p:cNvPr id="146" name="AutoShape 28"/>
            <p:cNvSpPr/>
            <p:nvPr/>
          </p:nvSpPr>
          <p:spPr>
            <a:xfrm rot="16200000">
              <a:off x="1638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838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48" name="Text Box 30"/>
          <p:cNvSpPr/>
          <p:nvPr/>
        </p:nvSpPr>
        <p:spPr>
          <a:xfrm>
            <a:off x="1600200" y="1143000"/>
            <a:ext cx="6553080" cy="15562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’intervallo fra una “tacca” e l’altra, cioè ogni volta ch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log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aumenta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, si dice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decad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49" name="Group 31"/>
          <p:cNvGrpSpPr/>
          <p:nvPr/>
        </p:nvGrpSpPr>
        <p:grpSpPr>
          <a:xfrm>
            <a:off x="1981080" y="3886200"/>
            <a:ext cx="1905120" cy="840600"/>
            <a:chOff x="1981080" y="3886200"/>
            <a:chExt cx="1905120" cy="840600"/>
          </a:xfrm>
        </p:grpSpPr>
        <p:sp>
          <p:nvSpPr>
            <p:cNvPr id="150" name="AutoShape 32"/>
            <p:cNvSpPr/>
            <p:nvPr/>
          </p:nvSpPr>
          <p:spPr>
            <a:xfrm rot="16200000">
              <a:off x="2781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51" name="Text Box 33"/>
            <p:cNvSpPr/>
            <p:nvPr/>
          </p:nvSpPr>
          <p:spPr>
            <a:xfrm>
              <a:off x="1981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52" name="Group 34"/>
          <p:cNvGrpSpPr/>
          <p:nvPr/>
        </p:nvGrpSpPr>
        <p:grpSpPr>
          <a:xfrm>
            <a:off x="3124080" y="3886200"/>
            <a:ext cx="1905120" cy="840600"/>
            <a:chOff x="3124080" y="3886200"/>
            <a:chExt cx="1905120" cy="840600"/>
          </a:xfrm>
        </p:grpSpPr>
        <p:sp>
          <p:nvSpPr>
            <p:cNvPr id="153" name="AutoShape 35"/>
            <p:cNvSpPr/>
            <p:nvPr/>
          </p:nvSpPr>
          <p:spPr>
            <a:xfrm rot="16200000">
              <a:off x="3924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54" name="Text Box 36"/>
            <p:cNvSpPr/>
            <p:nvPr/>
          </p:nvSpPr>
          <p:spPr>
            <a:xfrm>
              <a:off x="3124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55" name="Group 37"/>
          <p:cNvGrpSpPr/>
          <p:nvPr/>
        </p:nvGrpSpPr>
        <p:grpSpPr>
          <a:xfrm>
            <a:off x="4267080" y="3886200"/>
            <a:ext cx="1905120" cy="840600"/>
            <a:chOff x="4267080" y="3886200"/>
            <a:chExt cx="1905120" cy="840600"/>
          </a:xfrm>
        </p:grpSpPr>
        <p:sp>
          <p:nvSpPr>
            <p:cNvPr id="156" name="AutoShape 38"/>
            <p:cNvSpPr/>
            <p:nvPr/>
          </p:nvSpPr>
          <p:spPr>
            <a:xfrm rot="16200000">
              <a:off x="5067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57" name="Text Box 39"/>
            <p:cNvSpPr/>
            <p:nvPr/>
          </p:nvSpPr>
          <p:spPr>
            <a:xfrm>
              <a:off x="4267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58" name="Group 40"/>
          <p:cNvGrpSpPr/>
          <p:nvPr/>
        </p:nvGrpSpPr>
        <p:grpSpPr>
          <a:xfrm>
            <a:off x="5410080" y="3886200"/>
            <a:ext cx="1905120" cy="840600"/>
            <a:chOff x="5410080" y="3886200"/>
            <a:chExt cx="1905120" cy="840600"/>
          </a:xfrm>
        </p:grpSpPr>
        <p:sp>
          <p:nvSpPr>
            <p:cNvPr id="159" name="AutoShape 41"/>
            <p:cNvSpPr/>
            <p:nvPr/>
          </p:nvSpPr>
          <p:spPr>
            <a:xfrm rot="16200000">
              <a:off x="6210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5410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61" name="Text Box 43"/>
          <p:cNvSpPr/>
          <p:nvPr/>
        </p:nvSpPr>
        <p:spPr>
          <a:xfrm>
            <a:off x="990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1981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3124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4267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5" name="Text Box 47"/>
          <p:cNvSpPr/>
          <p:nvPr/>
        </p:nvSpPr>
        <p:spPr>
          <a:xfrm>
            <a:off x="5410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6" name="Text Box 48"/>
          <p:cNvSpPr/>
          <p:nvPr/>
        </p:nvSpPr>
        <p:spPr>
          <a:xfrm>
            <a:off x="6553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7" name="Text Box 49"/>
          <p:cNvSpPr/>
          <p:nvPr/>
        </p:nvSpPr>
        <p:spPr>
          <a:xfrm>
            <a:off x="769608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275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AutoShape 2"/>
          <p:cNvSpPr/>
          <p:nvPr/>
        </p:nvSpPr>
        <p:spPr>
          <a:xfrm>
            <a:off x="5181480" y="5257800"/>
            <a:ext cx="3733920" cy="914400"/>
          </a:xfrm>
          <a:prstGeom prst="wedgeRectCallout">
            <a:avLst>
              <a:gd name="adj1" fmla="val 8037"/>
              <a:gd name="adj2" fmla="val -31059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B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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42" name="AutoShape 3"/>
          <p:cNvSpPr/>
          <p:nvPr/>
        </p:nvSpPr>
        <p:spPr>
          <a:xfrm>
            <a:off x="3048120" y="914400"/>
            <a:ext cx="3886200" cy="914400"/>
          </a:xfrm>
          <a:prstGeom prst="wedgeRectCallout">
            <a:avLst>
              <a:gd name="adj1" fmla="val -36273"/>
              <a:gd name="adj2" fmla="val 21597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A(s)=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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Il rapporto di funzioni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044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1045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F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6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7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8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1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2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3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4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5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6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9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1060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1061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1062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1063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4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5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6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7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8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9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70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1071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2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3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4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5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6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7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8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079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1080" name="Text Box 41"/>
          <p:cNvSpPr/>
          <p:nvPr/>
        </p:nvSpPr>
        <p:spPr>
          <a:xfrm>
            <a:off x="1828800" y="3276720"/>
            <a:ext cx="8380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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081" name="Group 42"/>
          <p:cNvGrpSpPr/>
          <p:nvPr/>
        </p:nvGrpSpPr>
        <p:grpSpPr>
          <a:xfrm>
            <a:off x="304920" y="1752120"/>
            <a:ext cx="7467480" cy="2134080"/>
            <a:chOff x="304920" y="1752120"/>
            <a:chExt cx="7467480" cy="2134080"/>
          </a:xfrm>
        </p:grpSpPr>
        <p:sp>
          <p:nvSpPr>
            <p:cNvPr id="1082" name="Line 43"/>
            <p:cNvSpPr/>
            <p:nvPr/>
          </p:nvSpPr>
          <p:spPr>
            <a:xfrm flipV="1">
              <a:off x="2362320" y="1752120"/>
              <a:ext cx="5410080" cy="213372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83" name="Line 44"/>
            <p:cNvSpPr/>
            <p:nvPr/>
          </p:nvSpPr>
          <p:spPr>
            <a:xfrm>
              <a:off x="304920" y="3886200"/>
              <a:ext cx="2057400" cy="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084" name="Group 45"/>
          <p:cNvGrpSpPr/>
          <p:nvPr/>
        </p:nvGrpSpPr>
        <p:grpSpPr>
          <a:xfrm>
            <a:off x="304920" y="2263320"/>
            <a:ext cx="8458200" cy="1622880"/>
            <a:chOff x="304920" y="2263320"/>
            <a:chExt cx="8458200" cy="1622880"/>
          </a:xfrm>
        </p:grpSpPr>
        <p:sp>
          <p:nvSpPr>
            <p:cNvPr id="1085" name="Line 46"/>
            <p:cNvSpPr/>
            <p:nvPr/>
          </p:nvSpPr>
          <p:spPr>
            <a:xfrm flipV="1">
              <a:off x="4648320" y="2263320"/>
              <a:ext cx="4114800" cy="162252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86" name="Line 47"/>
            <p:cNvSpPr/>
            <p:nvPr/>
          </p:nvSpPr>
          <p:spPr>
            <a:xfrm>
              <a:off x="304920" y="3886200"/>
              <a:ext cx="4343400" cy="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087" name="Text Box 48"/>
          <p:cNvSpPr/>
          <p:nvPr/>
        </p:nvSpPr>
        <p:spPr>
          <a:xfrm>
            <a:off x="4038480" y="3276720"/>
            <a:ext cx="838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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88" name="Line 49"/>
          <p:cNvSpPr/>
          <p:nvPr/>
        </p:nvSpPr>
        <p:spPr>
          <a:xfrm>
            <a:off x="304920" y="388620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89" name="Line 50"/>
          <p:cNvSpPr/>
          <p:nvPr/>
        </p:nvSpPr>
        <p:spPr>
          <a:xfrm flipV="1">
            <a:off x="4648320" y="236196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0" name="Line 51"/>
          <p:cNvSpPr/>
          <p:nvPr/>
        </p:nvSpPr>
        <p:spPr>
          <a:xfrm flipH="1">
            <a:off x="2362320" y="2971800"/>
            <a:ext cx="2286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1" name="Line 52"/>
          <p:cNvSpPr/>
          <p:nvPr/>
        </p:nvSpPr>
        <p:spPr>
          <a:xfrm>
            <a:off x="4648320" y="29718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2" name="AutoShape 53"/>
          <p:cNvSpPr/>
          <p:nvPr/>
        </p:nvSpPr>
        <p:spPr>
          <a:xfrm>
            <a:off x="1600200" y="5029200"/>
            <a:ext cx="2057400" cy="914400"/>
          </a:xfrm>
          <a:prstGeom prst="wedgeRectCallout">
            <a:avLst>
              <a:gd name="adj1" fmla="val -43597"/>
              <a:gd name="adj2" fmla="val -17777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3" name="AutoShape 54"/>
          <p:cNvSpPr/>
          <p:nvPr/>
        </p:nvSpPr>
        <p:spPr>
          <a:xfrm>
            <a:off x="5181480" y="5029200"/>
            <a:ext cx="2819520" cy="914400"/>
          </a:xfrm>
          <a:prstGeom prst="wedgeRectCallout">
            <a:avLst>
              <a:gd name="adj1" fmla="val -123703"/>
              <a:gd name="adj2" fmla="val -21111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4" name="AutoShape 55"/>
          <p:cNvSpPr/>
          <p:nvPr/>
        </p:nvSpPr>
        <p:spPr>
          <a:xfrm>
            <a:off x="6019920" y="1371600"/>
            <a:ext cx="2666880" cy="914400"/>
          </a:xfrm>
          <a:prstGeom prst="wedgeRectCallout">
            <a:avLst>
              <a:gd name="adj1" fmla="val -40597"/>
              <a:gd name="adj2" fmla="val 11909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 d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ovo nulla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5" name="AutoShape 56"/>
          <p:cNvSpPr/>
          <p:nvPr/>
        </p:nvSpPr>
        <p:spPr>
          <a:xfrm>
            <a:off x="1295280" y="1828800"/>
            <a:ext cx="3505320" cy="914400"/>
          </a:xfrm>
          <a:prstGeom prst="wedgeRectCallout">
            <a:avLst>
              <a:gd name="adj1" fmla="val -814"/>
              <a:gd name="adj2" fmla="val 14166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F(s)=A(s)/B(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Cosa succederebbe ne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di Bode 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appena visto nel caso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in cui 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1 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i ricordi che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un rapporto complesso è uguale alla differenza del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numer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nomin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; quindi, anche in questo caso, si può fare una differenz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algono le considerazioni già dette sui tratti in pendenza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Tracciare il </a:t>
            </a:r>
            <a:r>
              <a:rPr b="0" lang="it-IT" sz="3600" spc="-1" strike="noStrike">
                <a:solidFill>
                  <a:srgbClr val="66ffcc"/>
                </a:solidFill>
                <a:latin typeface="Tahoma"/>
              </a:rPr>
              <a:t>diagramma di Bode della fase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della funzione</a:t>
            </a:r>
            <a:br>
              <a:rPr sz="3600"/>
            </a:b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F(s) = A(s)/B(s) = (1+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s)/(1+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s)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nel caso 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e nel caso opposto 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un rapporto di due funzioni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uò ricavare facendo una differenz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i modul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ottenersi come differenz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le 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conclus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cludendo è possibile fare le seguenti considerazioni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grazie alle proprietà dei logaritmi ne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iagrammi di Bode del modu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si può operare con somme e differenze grafiche;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a ciò consegue che ogni volta che si raggiunge uno </a:t>
            </a:r>
            <a:r>
              <a:rPr b="0" lang="it-IT" sz="26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la pendenza del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aument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d ogni volta che si raggiunge un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la pendenza decresce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conclus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inizial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il cosiddett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guadagno static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si può calcolare impone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rappresentazion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guadagno static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impossibile in quanto s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on è definito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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 è però utilissimo in quanto ci permette di individuar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l’andamento asintotico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endente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stesse considerazioni valgono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conclus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siderazioni del tutto simili a quelle fatte per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sono essere fatte per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grazie al fatto che in un prodotto di numeri complessi 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sommano mentre in un rapporto di numeri complessi si fa la differenza del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numer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nominato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04920" y="990720"/>
            <a:ext cx="8610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noto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essere calcolato come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s)| =    Re[G(s)]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+Im[G(s)]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suo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, naturalmente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20 log |G(s)| 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noti ch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=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6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&gt;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6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0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&lt;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6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0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 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2133720" y="2133720"/>
            <a:ext cx="3809880" cy="609480"/>
            <a:chOff x="2133720" y="2133720"/>
            <a:chExt cx="3809880" cy="609480"/>
          </a:xfrm>
        </p:grpSpPr>
        <p:sp>
          <p:nvSpPr>
            <p:cNvPr id="172" name="Line 6"/>
            <p:cNvSpPr/>
            <p:nvPr/>
          </p:nvSpPr>
          <p:spPr>
            <a:xfrm>
              <a:off x="2133720" y="2438640"/>
              <a:ext cx="7632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H="1">
              <a:off x="2209680" y="2133720"/>
              <a:ext cx="1522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2362320" y="213372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295280" y="1295280"/>
            <a:ext cx="20574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1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0666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24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410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553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81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286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286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28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2286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22860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6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2286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4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28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2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91" name="AutoShape 18"/>
          <p:cNvSpPr/>
          <p:nvPr/>
        </p:nvSpPr>
        <p:spPr>
          <a:xfrm flipH="1">
            <a:off x="2483640" y="2514600"/>
            <a:ext cx="5543640" cy="990720"/>
          </a:xfrm>
          <a:prstGeom prst="wedgeRectCallout">
            <a:avLst>
              <a:gd name="adj1" fmla="val 56499"/>
              <a:gd name="adj2" fmla="val -12291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variabile sull’asse delle ordinate è il </a:t>
            </a:r>
            <a:r>
              <a:rPr b="0" lang="it-IT" sz="2400" spc="-1" strike="noStrike">
                <a:solidFill>
                  <a:srgbClr val="ffcc00"/>
                </a:solidFill>
                <a:latin typeface="Tahoma"/>
              </a:rPr>
              <a:t>modul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espresso in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4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457200" y="1523880"/>
            <a:ext cx="8686800" cy="4495680"/>
            <a:chOff x="457200" y="1523880"/>
            <a:chExt cx="8686800" cy="4495680"/>
          </a:xfrm>
        </p:grpSpPr>
        <p:grpSp>
          <p:nvGrpSpPr>
            <p:cNvPr id="193" name="Group 20"/>
            <p:cNvGrpSpPr/>
            <p:nvPr/>
          </p:nvGrpSpPr>
          <p:grpSpPr>
            <a:xfrm>
              <a:off x="457200" y="1523880"/>
              <a:ext cx="8305920" cy="4495680"/>
              <a:chOff x="457200" y="1523880"/>
              <a:chExt cx="8305920" cy="4495680"/>
            </a:xfrm>
          </p:grpSpPr>
          <p:grpSp>
            <p:nvGrpSpPr>
              <p:cNvPr id="194" name="Group 21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sp>
              <p:nvSpPr>
                <p:cNvPr id="195" name="Line 22"/>
                <p:cNvSpPr/>
                <p:nvPr/>
              </p:nvSpPr>
              <p:spPr>
                <a:xfrm>
                  <a:off x="1219320" y="1523880"/>
                  <a:ext cx="0" cy="4495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6" name="Line 23"/>
                <p:cNvSpPr/>
                <p:nvPr/>
              </p:nvSpPr>
              <p:spPr>
                <a:xfrm flipH="1">
                  <a:off x="457200" y="3885840"/>
                  <a:ext cx="83059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7" name="Line 24"/>
                <p:cNvSpPr/>
                <p:nvPr/>
              </p:nvSpPr>
              <p:spPr>
                <a:xfrm>
                  <a:off x="2362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8" name="Line 25"/>
                <p:cNvSpPr/>
                <p:nvPr/>
              </p:nvSpPr>
              <p:spPr>
                <a:xfrm>
                  <a:off x="3505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9" name="Line 26"/>
                <p:cNvSpPr/>
                <p:nvPr/>
              </p:nvSpPr>
              <p:spPr>
                <a:xfrm>
                  <a:off x="4648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00" name="Line 27"/>
                <p:cNvSpPr/>
                <p:nvPr/>
              </p:nvSpPr>
              <p:spPr>
                <a:xfrm>
                  <a:off x="5791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01" name="Line 28"/>
                <p:cNvSpPr/>
                <p:nvPr/>
              </p:nvSpPr>
              <p:spPr>
                <a:xfrm>
                  <a:off x="6934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02" name="Line 29"/>
                <p:cNvSpPr/>
                <p:nvPr/>
              </p:nvSpPr>
              <p:spPr>
                <a:xfrm>
                  <a:off x="8077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203" name="Line 30"/>
              <p:cNvSpPr/>
              <p:nvPr/>
            </p:nvSpPr>
            <p:spPr>
              <a:xfrm>
                <a:off x="990720" y="3429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4" name="Line 31"/>
              <p:cNvSpPr/>
              <p:nvPr/>
            </p:nvSpPr>
            <p:spPr>
              <a:xfrm>
                <a:off x="990720" y="2971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5" name="Line 32"/>
              <p:cNvSpPr/>
              <p:nvPr/>
            </p:nvSpPr>
            <p:spPr>
              <a:xfrm>
                <a:off x="990720" y="2514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6" name="Line 33"/>
              <p:cNvSpPr/>
              <p:nvPr/>
            </p:nvSpPr>
            <p:spPr>
              <a:xfrm>
                <a:off x="990720" y="2057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7" name="Line 34"/>
              <p:cNvSpPr/>
              <p:nvPr/>
            </p:nvSpPr>
            <p:spPr>
              <a:xfrm>
                <a:off x="990720" y="5715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8" name="Line 35"/>
              <p:cNvSpPr/>
              <p:nvPr/>
            </p:nvSpPr>
            <p:spPr>
              <a:xfrm>
                <a:off x="990720" y="5257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9" name="Line 36"/>
              <p:cNvSpPr/>
              <p:nvPr/>
            </p:nvSpPr>
            <p:spPr>
              <a:xfrm>
                <a:off x="990720" y="4800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10" name="Line 37"/>
              <p:cNvSpPr/>
              <p:nvPr/>
            </p:nvSpPr>
            <p:spPr>
              <a:xfrm>
                <a:off x="990720" y="4343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  <p:sp>
          <p:nvSpPr>
            <p:cNvPr id="211" name="Text Box 38"/>
            <p:cNvSpPr/>
            <p:nvPr/>
          </p:nvSpPr>
          <p:spPr>
            <a:xfrm>
              <a:off x="7696080" y="38862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1800" spc="-1" strike="noStrike">
                  <a:solidFill>
                    <a:srgbClr val="ff0000"/>
                  </a:solidFill>
                  <a:latin typeface="Tahoma"/>
                </a:rPr>
                <a:t>[rad/s]</a:t>
              </a:r>
              <a:endParaRPr b="0" lang="en-US" sz="18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9:29:43Z</dcterms:created>
  <dc:creator>Alberto Brancatelli</dc:creator>
  <dc:description/>
  <cp:keywords>diagramma Bode quinta presentazione</cp:keywords>
  <dc:language>en-US</dc:language>
  <cp:lastModifiedBy>jk</cp:lastModifiedBy>
  <cp:lastPrinted>2000-02-04T10:53:04Z</cp:lastPrinted>
  <dcterms:modified xsi:type="dcterms:W3CDTF">2011-03-27T12:53:50Z</dcterms:modified>
  <cp:revision>276</cp:revision>
  <dc:subject>Diagrammi di Bode; presentazione in classe VA</dc:subject>
  <dc:title>Studio dei sistemi II parte</dc:title>
</cp:coreProperties>
</file>